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B7C2-5CB5-46FE-80F7-2A7168A8B78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A3FCA-FDA8-4968-B66D-4E9DE16BD42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6913-A7A7-47D1-9316-0148EAF8524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9031-9F84-4F93-86C6-1CB12D47EA0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0C8BF-0AED-414C-BEA2-CD24B38A98B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B05E-F6B5-43C8-884E-53EE3341CA9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2FDFC-F1E9-443A-8755-91F6B3FE6B39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83A6-E787-47EF-B9EA-A7B8CAF001C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574B4-A27D-4388-8C9C-468CEC5A3F5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5F8F3-8A28-4741-82D9-2CC6BEAEC68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A1E7C-D1D2-4326-99E2-E531222EACA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C0081-22D6-4FF4-B299-9BF916D0F0A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3641-7D19-4CB1-87B6-0B977CCED0A9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C054D-3DD3-401D-B86D-279B84B56D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0BFE6-8912-475B-8611-795FCFD6C37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7AA97-F576-42D8-AD80-04C8A3F58E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B0B5C-2DE7-4723-BDE2-95DFCBDCABB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D296D-DFAF-4EEE-B976-A8F80C0A48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032A5-0F28-404D-B9C4-23A86CFD4CA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8EAE-0A62-4AF3-BA42-0F60046C3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C1B5-E9BA-4C7D-B510-76CAA5EF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B311-8B72-44C6-921A-6F7C7BC3A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90C3-1ECA-4A52-B6CD-BBD5FA29B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B49-6621-461F-8FE3-B6B4E16EB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9F6-471B-4CC3-84FF-B6E564AB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F8D-7BA0-492C-B463-FAE0C33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CCD-72A9-4AB3-832B-6737CF1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AD9-618E-4263-831F-2588670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967-15F8-440F-88CC-301C04F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A8-ECE2-44C8-921B-233CF340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A108-D68B-473A-BD10-DB7FB1D57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8DB-E745-49B6-9036-552CA56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35F-7CAF-461B-9345-4957ACF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FA4-0E85-4D7D-A88A-4BDD1CF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66A-2139-41A6-B331-9BE9FFD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39C-EBC3-45DE-A02F-CA0D31FB5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DA4CE-EFD9-4E33-A9E6-4D826FE7F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BEADE-9A94-4C7F-8502-D2E90795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A570-53E0-4CB6-A244-48D7658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0A49F-4D59-4752-9768-189D5021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B2ACA-1399-4435-9A01-27A60335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6037-06CE-445A-874B-8A094DB8C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4090-26A0-4C14-ADD2-44DFC0B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F01C5-E1FC-45E5-9E85-37EAC89C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911F0-D048-4AE7-B654-2502097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9CE8B-4E71-4A2D-860C-0117BFF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44AAA-3CB5-4F7D-B27A-EDE2F1F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371C-C6B9-400D-BE72-97098ED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FDC2-EEF6-47E6-A928-A1733CB774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510D-E657-4FFB-A8AD-F6929948D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4819-27C3-496B-80FE-24E9B4209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F7F7-B7B9-447F-B1D7-E8FCC840B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3E8B-4A87-4543-823A-C8444CD09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A3E1-5533-499B-A8C9-FD252004F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9121-BC21-49C1-8091-35FCC386F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B6F49-7547-452A-AC43-8873370F38E5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AC383-CFCB-4729-A073-92770350DB23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E702F-5EA0-4142-9C90-9D31173894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EAB2-2CC0-4D1F-8A4F-693CD847A794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75F09-667E-4996-A983-5F30A9E5BD1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4480" y="716040"/>
            <a:ext cx="3583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aola Italia, Debora Ben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tes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e tesi all’univers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640" y="2781360"/>
            <a:ext cx="537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La presentazio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3189240" cy="4871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" y="1317600"/>
            <a:ext cx="8459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Qualche consiglio util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guir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alet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preparata per l'esposizione o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lcolare bene i temp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a disposizione per non essere interrotti a me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ercare di produrre un elabor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br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ma allo stesso temp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ccattiv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(evitare colori troppo accesi, effetti sonori e visivi che distraggano il pubblico dal vero contenuto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ar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qualità delle immag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he vengono proiet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ita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lid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on testi troppo lunghi (serve di accompagnamento all'esposizione non la deve sostituire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rmarsi se abbiamo a disposizion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iet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ed un computer e cercare di fare una prova uno o più giorni prima della seduta di lau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ntenere la calma e seguire la scalet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4178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e immagini e la grafic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a presentazione ora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Il Power Poi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1359000"/>
            <a:ext cx="84963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tesi può presentare un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pparato illustrativ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supporto alle argomen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immagini, fotografie, disegni, grafici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 che cosa servon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voriscono visivamente la comprensione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ssono essere il fulcro del lavoro, l'oggetto della tesi e del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ono esser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urat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e ogni altra parte della tesi e devono essere accompagnate da alcune indicazioni essenziali nelle didasca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n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FO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quindi ne va citata la proveni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0000" y="522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1359000"/>
            <a:ext cx="84963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Dove è possibile recuperare le immagin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la consultazione di testi cartacei o elettron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gli archivi di istituzioni (musei, fototeche, studi fotografici, archivi, biblioteche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le soprintendenze ed enti prep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ul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ssono anche essere prodotte dall'autore (basti pensare ai grafici e tabelle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ganizzare un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rchivio curat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buona regola per non perder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rmazioni preziose: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 la provenienza dell'immagine va cita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n modo corretto in didasca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rdarsi sempre d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titolo dell'opera, autore, anno, luogo di conservazione,   luogo di reperimento dell'imma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1403280"/>
            <a:ext cx="849636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Dove inserisco le immagin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le immagini sono di supporto ad un'argomentazione o so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emplificative di un passaggio, quindi sono inserite nel testo ed accompagn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dascal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he ne specifica la proveni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un catalog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le immagini sono il fulcro dell'analisi condotta, quin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engono sistematicamente organizzate in un catalogo in appendice seco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riteri specifici decisi all'inizio del lavoro e concordati con il docente →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ilazione di schede dettagl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Da non dimentic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ister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orto equilibr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ra testo ed immagini (non devono servire ad allungare un testo breve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ono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unzio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e non superf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va mai sottovaluta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olu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e quindi la qualità nella stam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ono presentare sempr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dasca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7280" y="1341360"/>
            <a:ext cx="8496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a la revisione e stampato il lavoro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nca soltanto la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presentazione orale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momento delicato e decisivo per la valutazione fi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oincide con il momento dell'e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è l'esposizione che lo studente deve fare di fronte alla commissione di laurea e sulla base della quale verrà valut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durata è di 10/15 minuti per la triennale, di circa 20/30 per la special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rte del voto finale si basa anche sulla qualità dell'esposi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134136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resentazione orale è una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presentazione sintetica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ianific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e non improvvis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utile produrr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to di sinte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(un riassu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B: spesso questo testo è comunque richiesto dalla segreteria (in questo ca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bisogna dimenticare di inserire tutti i nostri dati nel titolo, gli stessi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ontespiz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Non va mai imparato a memor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commissione deve farsi un'idea del lavoro e delle capacità di ricerc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tive e espositive del candidato: imparare il riassunto a mem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 presentarlo in modo meccanico e non personal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64000" y="198900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1246320"/>
            <a:ext cx="7704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ome strutturare il testo per l'esposizio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devono mancare alcuni passaggi fondamentali: per farlo si può utilizzare l'introdu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enerale presentazione degli obiet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odologia e strumenti utiliz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zione sintetica dei capit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si in cui è stato articolato il lav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i a cui si è giunti alla fine del lav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entuali sviluppi possib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rdarsi di calcolare bene il tempo a disposi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essere interrotti a metà del discorso non solo è avvilente ma rischia di essere controproducente nella valut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a presen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080" y="1066680"/>
            <a:ext cx="860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e supporto è possibile creare un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presentazione multimedial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un power point) da proiettare in aula come accompagnamento dell'esposi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 che cosa ser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205000"/>
            <a:ext cx="3996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presentare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che significativ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assaggi fondamentali dell'argomentazione (senza eccedere in tecnicism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vitare testi troppo lung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he finirebbero per essere letti e non esposti oral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deve distogliere l'attenzione dal lavoro vero e proprio con immagini e effetti sonori che tolgano forza alle argomentazio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7280" y="2205000"/>
            <a:ext cx="40687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resenta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ppoggio vis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per favorire la comprensione da parte del pubblico (non necessariamente costituito da addetti ai lavori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mette d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regolare e scand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l'esposizione orale a seconda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a disposi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i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ntenere viva l'atten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delineando i passaggi dell'argomentazione, ma non sostituisce l'esposizione o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64000" y="2781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64000" y="4005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4000" y="5445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3-11-04T09:17:24Z</dcterms:modified>
  <cp:revision>528</cp:revision>
  <dc:subject/>
  <dc:title>Diapositiva 1</dc:title>
</cp:coreProperties>
</file>