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48240" cy="34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6"/>
          </p:nvPr>
        </p:nvSpPr>
        <p:spPr>
          <a:xfrm>
            <a:off x="388116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77EDC-4138-4AC5-A39E-305A9D1AD13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46C4F-AD1A-42EB-A1D5-62A85943220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6D67E-FE7E-4115-B612-3BB41312D0C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F3266-3BC2-4FF2-88DA-4D0337CFEDB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B16F4-D4A2-432E-9D9F-BEFD50199D8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D76F1-4B3D-4BE3-8CDF-084CC7F6266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4F684-AE23-49C3-9ED3-4D9361FA33FF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CE229-7715-4C60-9E75-6141E82901B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E9398-C5B9-447D-913E-0DC2DF83A76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D24A6-639A-4EAE-8A7F-C88D4408DE3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6CBE-473F-46EE-B41E-7D75D2772871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9E188-761F-4770-8BE5-C1190F115C0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B5496-4E18-4BA7-B825-4583FF2E059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34F12-E6D8-4193-9489-F3AA7AFF9A8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67150-10FA-43E5-A894-2D549D9EC41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89F02-8477-434C-9205-48FAC9CB3C9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493AD-F976-4617-B136-E9E7FD86F0B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A4790-3C78-4424-97AD-EED89E22B45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F25FD-7C7B-401A-9855-3E8FC33AE25B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20C9-4924-43E6-8DE4-1C236CA77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735B-8591-4A2D-9C8A-901DBDD2C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D654-3252-4228-9D87-62F3E962A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99A8-F657-4886-8AE7-7CA460EDE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59C-ED2F-4C4C-9E33-E5FD46AC4B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1BE-9F5A-46BF-9376-072683DC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576-51A3-4C29-9377-6C60B8E4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98F-9BC0-4788-B33F-FEB2AE1F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37E-2DB6-4546-818A-FEE3DE6B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37F-D1BF-4381-89EC-96FF7986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49A-E23B-4B66-ABD1-8E14C0AC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6576-B023-4FDF-AC30-69B6C2581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D33-3789-4D1C-89BD-6105220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FDC-C506-428A-A54C-CE32674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548-1090-4008-8255-651032C3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7C8-28AE-4342-8D3C-8C8C8D9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45C-23DA-4685-A6F4-A079DB090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50371-BD1F-4D08-9C11-5F4F9F8B6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406EA-E967-466A-9D52-5D76A55F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81BA2-C91C-494C-977B-5D19C30B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6E58B-FC1A-4008-A7BE-F9EAB7DA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C1A50-3FA8-440C-AC9C-128A8B24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D69D-6F80-42C8-B796-9674FB019C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0DCCC-F08D-49AB-A3A1-0B23E962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71489-F0FA-47A0-83B6-90A5952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24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90C05-521A-4CC3-8FCE-E77CAEE0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E1A05-AD88-40CA-9019-FEBF9F80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85779-B490-4E7D-95AE-665F201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24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67C11-3604-4AEF-AB42-D906C4B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820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9560" y="3677400"/>
            <a:ext cx="26485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21FED-31EE-4726-BA87-A8ED3989F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99C1-F0A1-4C44-85DC-82B32366C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8C04-2777-4623-9644-0D7060539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6257-A6A7-4831-9630-34864EF29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0A38-43F6-4E75-965C-2A6C3A055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6774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344F-5CD1-47EF-86C9-48FCEFF43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63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1E68-BEBC-4B25-923A-47231EDE5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02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02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293B7-7C63-4914-B2D3-883E2E17E9DB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44C1C-B69D-4619-BCB4-1602BBE36EFB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9562B-8333-4B4E-90B8-177D0C05862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A56FF-3740-41E9-967C-ED1ACDE63D9C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3FE6-497C-4E70-B74A-ECBE9277DF2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94480" y="716040"/>
            <a:ext cx="3583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aola Italia, Debora Ben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tesin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e tesi all’universit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00400" y="2781360"/>
            <a:ext cx="40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La revisione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80880" y="766800"/>
            <a:ext cx="3189240" cy="48718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87280" y="1141560"/>
            <a:ext cx="8496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Riassumendo, prima della stampa... memo util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7. Controllare che lo stile sia unifo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8. Prestare attenzione alle conclusioni: devono saper cogliere sinteticamente la definizione del tema, lo sviluppo e la tesi centr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9. Controllare l'aspetto redazionale (sono presenti tutti gli elementi formali di una tesina o una tesi? Frontespizio, indice, premessa...) e grafico (giustezza, carattere, interlinea...)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0. Salvare, salvare, salvare... fare attenzione nel salvare i file nel modo giusto. In più per portare il file in copisteria per la stampa è bene utilizzare un file pdf in modo che un diverso programma di lettura non visualizzi in modo diverso il nostro impagi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3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e verifiche “in serie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a giustezza e l'interline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Il caratte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'</a:t>
            </a:r>
            <a:r>
              <a:rPr b="0" i="1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edi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7280" y="1214280"/>
            <a:ext cx="849636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ltimata la fase di scrittura... il lavoro non è ancora conclus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Il testo va infatti accuratamente revisiona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questa è una fase molto importante che necessita di tempo e atten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passi da compiere son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. far passare un po' di tempo per prendere le distanze dal testo ed evitare di rileggerlo a mem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. compiere più letture diversificate, controllando ogni volta una cosa diversa →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verifiche in serie 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7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it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il testo deve essere aderente a quelle che erano le consegne e al titolo (nb: spesso il titolo è richiesto alla compilazione della domanda di laurea, quindi può essere deciso a prio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62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aragraf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verificare che siano coerenti e coesi e che i passaggi logici siano ben espres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62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mma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verifica degli errori più comu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87280" y="1141560"/>
            <a:ext cx="849636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lvl="1" marL="927000" indent="-444240" algn="ctr">
              <a:lnSpc>
                <a:spcPct val="110000"/>
              </a:lnSpc>
              <a:tabLst>
                <a:tab algn="l" pos="0"/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Verifiche in serie d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10000"/>
              </a:lnSpc>
              <a:tabLst>
                <a:tab algn="l" pos="0"/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ss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verifica della presenza di ripetizioni, della presenza di termini troppo generici, dell'uso di parole di cui non si conosce il signific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unteggiatu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verificare che la punteggiatura utilizzata sia quella adeguata nella sua funzione segmentatrice (divide il testo), sintattica (precisa il rapporto tra due proposizioni o tra due elementi di una proposizione) e emotivo – intonativ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ntas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controllo dell'uso della paratassi (per dare un ritmo scandito per esempio nelle parti esemplificative) e dell'ipotassi (per le parti legate all'argomentazione, con l'esposizione del ragionamento e dei passaggi logic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t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  deve essere chiaro ed effic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85960" indent="-3888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vanno eliminate le inferenze del parl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85960" indent="-3888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registro linguistico va adeguato al tema trattato e al con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85960" indent="-3888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656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60080"/>
                <a:tab algn="l" pos="9909000"/>
                <a:tab algn="l" pos="10174320"/>
                <a:tab algn="l" pos="10623600"/>
                <a:tab algn="l" pos="11072880"/>
                <a:tab algn="l" pos="115221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essere controllato l'uso delle figure retor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1197000"/>
            <a:ext cx="84963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seconda revision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guarda la cura di tutti gl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spetti grafic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e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laborato come una tesina o una tesi deve pres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ima di effettuare scelte grafiche è bene informarsi sulla presenza di nor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dazionali e indicazioni prestabilite dall'Ateneo o dal Corso di Lau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ustezza →  è il perimetro che il testo stampato disegna sulla pagina. Pu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sere a bandiera, centrato, giustificato (per le tesine e le tesi di norma il tes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viene “giustificato”). Nb: attenzione a non esagerare nello spazio dei margini! 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to non può essere allungato utilizzando margini troppo amp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terlinea → per le tesine e le tesi si utilizza in genere un'interlinea ampia p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gevolare la lettura e le eventuali correzioni (1.5 invece di 1). Anche in ques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so è bene non esager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rattere →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la scelta è personale, ma è bene orientarsi su un font c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arantisca chiarezza e leggibi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po tipografico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nche in questo caso moderazione! 12 per il testo e 10 p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note è il corpo più ada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95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rma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ondo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s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r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ttolineato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da usare con parsimonia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1143000"/>
            <a:ext cx="8496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assumendo, una scaletta da seguire nella revisione generale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crit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a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ima revisione (verifica degli aspetti struttur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a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conda revisione (verifica degli aspetti form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2268360"/>
            <a:ext cx="18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3132000"/>
            <a:ext cx="18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10364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5003640"/>
            <a:ext cx="18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9280" y="1197000"/>
            <a:ext cx="849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videoscrittura (ovvero la scrittura al compute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molto diversa da quella manoscrit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testo scritto al computer è reversibile → è possibile modificarlo nella fase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visione anche negli aspetti contenutistici, strutturali e form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testo digitato al computer è soggetto ad una elaborazione più veloce e me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nderata nella struttura di quello manoscritto → necessita quindi di una fase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visione più lunga, complessa e att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Bisogna stare attenti 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tralasciare nessun aspe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ventualmente fare le verifiche sul testo stampato, per facilitare la let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sattivare il correttore ortografico e controllare accuratamente errori orto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1280" y="1197000"/>
            <a:ext cx="8677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'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editi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la fase di preparazione del testo alla stampa vera e prop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uniformano tutti gl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spetti formal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un testo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aver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un'omogeneità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→ una volta scelto un metodo e uno stile deve essere applicato allo stesso modo dall'inizio alla f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questa fase il controllo riguarda soprattut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Virgolet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possono introdurre una citazione o evidenziare una parola (in questo caso è bene non abusar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ttini e linee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ume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in lettera i numeri brevi e comunemente usati; in cifra i numeri lunghi, le date, le misure e le val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pazi tipografi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s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us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: tra una parola e l'altra del testo; dopo i segni di punteggiatura (ma non dopo parentesi e virgolette di apertura); tra un'iniziale di un nome puntato e il cogn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si us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: prima e dopo l'apostrofo; tra le iniziali puntate di un doppio n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1141560"/>
            <a:ext cx="849636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Riassumendo, prima della stampa... memo util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1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endersi del tempo e fare una pausa prima della revis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. Utilizzando l'indice controllare di aver inserito e rispettato tutti i passag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3. Domandarsi se un lettore “esterno” leggendo l'elaborato riesca a capire la tesi centrale ed i passaggi argomentati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4. Controllare l'inizio del testo: la premessa è troppo lunga? Contiene citazioni non più pertinenti? È possibile che qualcosa che si pensava di dire all'inizio della stesura alla fine non compaia più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5. Controllare che i paragrafi non siano troppo brevi o troppo lung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6. Controllare con attenzione ortografia, grammatica, lessico, punteggiatura, sintassi, ripetizioni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revi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3-11-04T09:43:11Z</dcterms:modified>
  <cp:revision>525</cp:revision>
  <dc:subject/>
  <dc:title>Diapositiva 1</dc:title>
</cp:coreProperties>
</file>