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4644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8"/>
          </p:nvPr>
        </p:nvSpPr>
        <p:spPr>
          <a:xfrm>
            <a:off x="3881160" y="8686440"/>
            <a:ext cx="29494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8FDAC-7569-46BB-B15D-3FA39C154FC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F01A-8D33-428D-9C05-CCE30497D9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A53E2-7E01-451E-BFE1-DD4BE1ED003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93091-C2D7-44AB-A688-A3CBFCB995F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B6085-0481-4E4C-8FF6-9F6DA0BECC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32516-EF8A-41F7-BDF8-680116DF815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6E447-8483-4B88-9579-0B15833373F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E982C-16CF-4EAE-B2F7-B528D5A6319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A2508-1AF9-4704-B13B-6A4823E266B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03D9F-0097-45A3-ADBD-B7E5A1522DD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5472A-FDEE-4459-A869-A09A1A2FAC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27B1-706D-4729-B4FB-64568587748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BBDF7-7A54-404C-9A15-0D50AAD997D7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18E45-C6E9-46F0-AF34-26982C105EC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6748E-5381-4893-8896-896CBD92EE3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0774-27DB-483D-8FFB-6765B8E5ADD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4FFC1-31C1-4294-8C4D-4DA14E18E8F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DF33F-B7FD-40EE-BC13-991845B16E7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8F876-317A-41A2-948A-A79F0139AD5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49257-7440-4EAA-848E-E0E0C75996C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7478E-7A6F-4A21-B97A-A84AF069B72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817DF-8759-4C28-B514-8C779155BF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8DFBE-F11F-42C6-8A0D-8D272B7022F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C8B0D-D383-41C5-BE36-2B0A3826246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AEB28-060E-4584-9F72-C644D66B9881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8655-3E83-4CB5-9AD1-51673528D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16D6-0CEC-4F5A-B781-845E97180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9D7F-9D17-4BD1-A72E-B5DD910BA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8A6B-CA76-48D8-AEA8-43A468AF0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874DF-8208-4767-9CE0-E9806FED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DF17-C4F3-470F-8F93-FB24218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7BAC-001B-489B-9FF4-FBC7BC01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5895D-D7A0-4527-880F-5B726B6A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C1B24-FB22-4065-B1A4-4DE3E5F3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EE029-453B-4CC9-A9E2-54407C4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FF7FA-88EF-48FA-A8E3-6474F0C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FFCA-C476-4F72-968D-14DC8D632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F467B-ECAB-4EA1-99D5-04D65FE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54523-495B-4333-8FA3-E552E87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CD3A7-13C9-45D7-AADA-00E77235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68E5A-6AFD-43F2-9E5E-56747228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C42B-7378-4803-A6E6-13678BD9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A3586-B042-4573-862A-B3D1723C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95615-7C25-477E-AD24-579C96BF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0D818-8C08-4190-AEE5-CD950A7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AE0DA-DB88-44F1-AAB3-6A89A635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9484A-28D0-43D1-8122-0B22200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EBBD-A11E-4910-90B6-C4AF7AD2BC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4B9A7-AD40-4ABA-9D91-BECC4F3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18F93-B7A2-441F-B84E-F064691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39D02-0C3C-41B3-9D84-23BEDAE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E7129-FE29-40A4-B775-53D5D6D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1E993-E71B-471A-B941-3BE56EEA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7A3D0-C32C-4987-A640-36594E5E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9B7B9-ACED-4B02-9E8A-A6B84D2E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DCCE-5354-4896-B3B0-31FE0E939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152E-8983-4FCE-86FD-3DC825673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F90B-AEA5-4B20-90F3-002A4BC42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9B31-3DF4-46C8-B78C-DA4863B99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FFBE-0EA5-42AF-BDA5-0CC0D0ED8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D427-FCD4-4984-BEC0-F6916F704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61B55-E4CB-461E-82D0-B9C5C8CDFB41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6265B-9F94-437E-BD16-9084F49D36E8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2B61-3236-417F-A063-3CD625D8A0D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D8D1B-EC25-49E4-A2DC-5855B567ABA0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79642-39E0-46D1-B23B-DA2B643BAED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4480" y="716040"/>
            <a:ext cx="3583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aola Italia, Debora Ben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tes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e tesi all’universit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96080" y="2781360"/>
            <a:ext cx="35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La stesura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3189240" cy="4871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7280" y="1268280"/>
            <a:ext cx="84963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a bibliogra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costituita da tutte le fonti che sono state utilizzate direttamente e indirett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al lettore di capire le basi del lav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ordinata secondo un criterio alfabetico o cronolo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essere analitica o sinte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elemento è separato dal seguente con una virg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hiude con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volta scelto un modello deve essere seguito per tutte le ci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2680" y="1203480"/>
            <a:ext cx="171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nali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96080" y="1197000"/>
            <a:ext cx="2030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inte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1773360"/>
            <a:ext cx="403236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bibliograf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itazione è estesa e composta da autore, titolo, casa editrice, città e anno di pubblic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no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ima volta la citazione è estesa con il numero di pagina, le volte successive autore, parte del titolo, cit., numero di pa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96000" y="1773360"/>
            <a:ext cx="403200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bibliograf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breviazione composta da autore e anno di pubblicazione che introduce la citazione est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no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utilizza l'abbreviazione seguita dal numero di pa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7280" y="1268280"/>
            <a:ext cx="849636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a sitogra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7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costituita da tutte le font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on 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sono state utilizzate direttamente e indirett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leta la bibliogra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elemento è separato dal seguente con una virg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hiude con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volta scelto un modello deve essere seguito per tutte le ci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760" y="1260360"/>
            <a:ext cx="8931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citazione sitografica deve conten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tolo della home page o della pagina consult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rizzo URL prec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ima data di consult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440" y="285264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ome page del Ministero dei beni e delle attività culturali e del turismo, Le No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’Archeologia 2013, Renzo de Simone, 14 giugno 2013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beniculturali.it/mibac/export/MiBAC/sito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BAC/Contenuti/MibacUnif/Eventi/visualizza_asset.html_248177694.html, ultima consultazione 30 giugno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84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Coerenza, coesione del tes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a struttura genera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e citazioni e le no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a bibliografia e la sitograf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224000"/>
            <a:ext cx="82803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to l'indice del lavoro si procede nella scrittura vera e propria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esto si compone d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aragra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aragrafo è l'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unità logico argomentativa del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può comprendere uno o più periodi, ma una volta concluso il testo deve andare capo ri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paragrafo deve possed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esione testual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mogeneità di contenuto, grammaticale e lingu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b: controllare la sintassi, le concordanze ed i tempi verb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erenza testual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gni paragrafo deve possedere un legame con quello precedente e quello successi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b: controllare i legami, ovvero i connettivi – avverbi, congiunzioni, preposizioni – per avere un ordine logi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197000"/>
            <a:ext cx="813600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tesina o una tesi devono possedere alcuni elementi formali che permettono di riconoscerla come tale a prima 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espiz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m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ngraziamenti (facoltati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esto (suddiviso in sezioni, capitoli e paragraf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pend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bliografia e sitogra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ci fin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97000"/>
            <a:ext cx="89996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tesina o una tesi sono testi di tipo argomentativo a carattere saggistico che si fondano sull'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sposizione di una tes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i vari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rgomentazion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suo sosteg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gomento grazie all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ocumentazion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olta in precede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compone l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bibliogra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viene presentata attraverso l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citazioni delle fo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itazione della documentazione costituis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rova della bontà della 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49228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357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18608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924280"/>
            <a:ext cx="8351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e citazioni sono di due tip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65160" y="3284640"/>
            <a:ext cx="1236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r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73760" y="3284640"/>
            <a:ext cx="1434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ndir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280" y="3571920"/>
            <a:ext cx="42847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nte dell'informazione è riport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rettamente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ando le stesse parole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571920"/>
            <a:ext cx="4032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esto della fonte viene rielaborato e inserito nello svolgimento di un disco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4581360"/>
            <a:ext cx="1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280" y="4797360"/>
            <a:ext cx="4645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ono essere dispos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 tes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tabLst>
                <a:tab algn="l" pos="0"/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blocch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n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introdotte dalle virgol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 riportata la fo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6720" y="4581360"/>
            <a:ext cx="1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797360"/>
            <a:ext cx="4032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scorso rimane flu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nte va comunque riportata in n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197000"/>
            <a:ext cx="849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utto ciò che non è frutto della nostra sola attività intellettuale deve essere cit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vitare un pla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permettere al lettore di risalire alla fonte primaria e dimostrare l'attendibilità delle nostre argomen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lcune memo per le cit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importante che il testo sia chiaro, scorrevole e flu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esto non può e non deve essere un copia-e-incolla: le citazioni devono essere inserite in un contesto, rielaborate e giustific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tazioni dirette e indirette possono alternarsi nel testo a seconda delle esige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nte deve sempre essere citata in modo preciso, secondo il modello di bibliografia prescelto e con il riferimento preciso alla pa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97040" y="1700280"/>
            <a:ext cx="17175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splic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700280"/>
            <a:ext cx="2030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bibliografi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66920"/>
            <a:ext cx="40323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ono a spiegare alcuni passaggi del testo più comples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ono ad aggiungere passaggi accessori che l'autore considera comunque necessari, in modo da non appesantire i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4920" y="2266920"/>
            <a:ext cx="4032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ompagnano le citazioni con i riferimenti biblio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redatte sul modello di bibliografia scelto con riferimento preciso alla pa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possibile utilizzare alcune abbreviazioni per elementi del testo che si ripet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9700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e note sono di due tip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a stes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173240"/>
            <a:ext cx="788508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Alcune memo per le 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ollar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za testo-no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sia per il contenuto, sia per l'esponente numeri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ndare a capo nel testo della n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si utilizza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bliografia anali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prima volta la citazione bibliografica viene fatta per esteso, le volte successive invece si utilizza un richiamo “secco” (cit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si utilizza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bliografia sinte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trollare che tutte le abbreviazioni compaiano anche nella bibliografia fi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re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bbrevi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evitare le ripetizioni: ivi, con numero di pagina (per la stessa fonte, diverso numero di pagina);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bide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per la stessa fonte e stesso numero di pagin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dcterms:modified xsi:type="dcterms:W3CDTF">2013-11-04T10:36:34Z</dcterms:modified>
  <cp:revision>514</cp:revision>
  <dc:subject/>
  <dc:title>Diapositiva 1</dc:title>
</cp:coreProperties>
</file>