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46440" cy="3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1520" y="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494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EE73A-B720-4712-9774-EA7A76B5B89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D126-C6FD-4265-A3F7-42077603DC2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36A8C-01C4-4192-98CF-EC606C0D378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4DC61-3C4B-44BC-94E5-74EF2E7848D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ED337-AE9E-4221-A5CA-B8A98915DC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41A4-3BBC-4829-AF0C-0DF2253E721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20FDE-AE69-4474-8A1F-BD647D8F8CD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299C3-E1F6-4C77-85EC-03C58BB982A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7B4F7-67EB-4E49-A6EF-300050C697E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0136-55A5-4C43-893E-7B57CD16A33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799E-3B27-4338-B991-CC5423AB307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9BD4A-4262-4E0F-8B80-B1841CDB25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8C2C-54A0-4806-A607-BDE3FE99DF03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917C3-C583-4955-B283-3EB96986555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5D5D3-46DA-412D-8433-213828CCAA7F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C1E13-E7B2-4523-A308-8FD71EF390C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D9DC-CC4B-435C-994E-B8268BB8A833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2AB0D-6F2B-41B8-9A61-E59BB93FC0D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849E-1AB8-4793-A67A-7C37E0FD1E2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53577-949F-4DE5-B958-8D485F7A715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CEB3-AC93-4F78-8228-5DBA283B53A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4BEBC-4859-43A9-8E4C-2617E6A6D52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7BB72-AF75-4C21-AD49-AC418C918F2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1FEE-83C7-48C3-A243-1568A750B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5542-E927-4598-A22C-C02A273BA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34BC-7A20-4C1F-8925-9F458BA1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70C2-D6D9-4E7E-86C4-F1EF9B285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1A6-CA03-449D-B6DE-DD61859C1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4D9-F9C1-41BD-8113-C6523AE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8F7-068E-41C7-8543-0155410F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CBA-495C-4EA2-BA29-2A79EBD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EF9-51A9-4271-A7DE-3344D75E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32D-9CDC-43A9-ABDD-9FB52249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028-35FB-4E8D-B0FE-DDD4B9D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C18A-9F1E-4BA7-A768-6CA71670B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C3F-F4EE-4FB0-BE1E-716CF37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08A-C677-4AF7-9DC3-85480EBC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C92-DB8F-4C7B-9316-02EA554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F14-FD50-491D-A3CA-9AC0F8DC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0C9-16C3-4DA9-B8E6-AEF210444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A5AB-508F-46F8-BE8C-8237846FC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6F47-9272-47AE-9B66-097D3F2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BCD1-D091-4616-80CB-AB98E93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5BE29-AD7A-493D-B40D-117DE76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5898-E7F0-4FE1-A5FB-2B71733F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37DA-4EB5-4F0F-B44C-2125067778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1024-B6C1-44AA-8CB0-37D1E382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C8162-DC0C-471F-A6D7-D3E8975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C69F-0F45-447F-915B-1677691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236EB-AF0C-4277-B2FC-C0E9E60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970F4-7E16-4E6C-A9E7-98D9BFA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4CED-7166-4C2F-93E9-2E4CBE0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65B08-4D47-47BF-928D-6B72AA401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DA9E-63AD-41FC-BA50-BF9FA8B4B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CEA1-3FB2-4173-8860-0F2EA47A0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03B4-8499-4223-AF3A-714C56A85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42AB-C8D5-481B-8D49-761445223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10B8-CD2D-46EF-B9B6-9CE05B1BB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8ECF-8EDA-4471-98D4-4157B784A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6720"/>
            <a:ext cx="2124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6246720"/>
            <a:ext cx="2892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FF4A-CF90-40B7-A6FD-15B44CAE1CD2}" type="slidenum">
              <a:rPr b="0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D8079-21F7-434B-A88A-512DD4389C9F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4E20-4F6C-4968-B542-020B6A988EF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9681-1ABB-420C-B575-3F9280553686}" type="datetime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0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DC4C9-25E8-4079-9865-109C763BA66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4480" y="716040"/>
            <a:ext cx="3583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aola Italia, Debora Benn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tes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e tesi all’universit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41840" y="2781360"/>
            <a:ext cx="478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000" spc="-1" strike="noStrike">
                <a:solidFill>
                  <a:srgbClr val="ffffff"/>
                </a:solidFill>
                <a:latin typeface="Arial"/>
                <a:ea typeface="Arial"/>
              </a:rPr>
              <a:t>L'impostazio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766800"/>
            <a:ext cx="3189240" cy="4871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7280" y="1214280"/>
            <a:ext cx="84963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È necessario ricordarsi d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gnare gli estremi del documento, ovv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utore – titolo – casa editrice – anno di pubblicazione – luogo di edi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 parte di un volume collettaneo? È un saggio pubblicato in rivista? → ricordarsi di appuntare il volume in cui è contenuto con i relativi numeri di pa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biblioteca di appartenenza con la relativa collocazione o segna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un documento scaricato dal web? → segnare l'indirizzo URL e la data di consult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istono alcuni strumenti utili (applicazioni web e software) che permettono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estire la bibliografia in modo sistematico: End Note, Zotero, Refer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nager... → permettono di creare una propria libreria personale con tutte 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itazioni bibliografiche ed esportarle n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1268280"/>
            <a:ext cx="849636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'uso di Wikipedia e del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ricerca sul web offre molte opportunità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 ci mette di fronte anche a diversi ris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he cosa è meglio fare e che cosa dobbiamo evita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tutte le informazioni reperibili in rete offron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garanzie di attendibilità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 sono adatte come fonte per una ricerca scienti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i utilizzare i risultati prodotti digitando una semplice stringa di rice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tilizzar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portali di istituzioni accreditat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che indicano links utili e attendibi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agliare attentamente le informazioni raccol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itarle in ogni caso!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nche se sono facilmente accessibili sono comunque soggette a copyright e sono delle fonti che vanno indicate in sitogra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214280"/>
            <a:ext cx="849636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po la lettura dei principali titoli si avrà un'idea più chiara dell'argo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esura della mappa del lavoro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→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'i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he cosa è l'ind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n si tratta dell'indice finale dell'elaborat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 di una sorta d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scalett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 seguire per la stesura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ossono seguire due metodi per costruirl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odo del brainstorming: si elencano in ordine sparso tutti gli argome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llegati al tema principale e dopo si legano tra loro con un “taglia e incoll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odo delle scatole vuote: l'indice ha da subito una struttura gerarchizzata →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redispone un contenitore per punti (le scatole: 1; 1.1; 1.2; 2; 2.1...) e al su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terno si dispongono gli argomenti correlati tra loro secondo rapporti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pendenza, similarità, vicinanz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 algn="ctr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B: è possibile, anzi molto probabile, che dell'indice del lavoro esistano diverse versioni! Per le tesi, deve essere approvato dal doc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374400" algn="ctr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rif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1128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300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Individuazione dell'argomen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Raccolta e schedatura delle font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'uso di Wikiped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La stesura dell'indi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1214280"/>
            <a:ext cx="84963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scelta dell'argomento</a:t>
            </a:r>
            <a:r>
              <a:rPr b="1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è il primo passo che lo studente deve compi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ome si individua l'argomento della te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eneralmente l'argomento è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oncordato con il docente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 il quale si è scel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laurear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scelta può cadere su una materia di interesse, qualcosa che ci ha colpito 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so degli studi: è anzi possibile che il docente richieda che lo studente ab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enuto uno o più esami nella materia → così il percorso è agevolato da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oscenza dei contenuti didattici e della metodologia di ricer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docente ha comunque l'ultima parola sulla scelta: l'argomento deve infat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sere passato al vaglio di un addetto ai lavori che fornisca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aranzi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vità e originali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7280" y="1268280"/>
            <a:ext cx="849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seconda dell'argomento è possibile scegliere di fare una te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 ricerca o speriment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si sceglie un argomento che non è mai stato trattato a livello scientifico o di cui si può approfondire un nuovo aspetto,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producendo le prov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cessarie secondo la metodologia di ricerca più adatta. Il risultato sarà sicuramente originale e individuale, ma è necessario avere una buona padronanza dei metodi di ricerca e del loro u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va o compilativa →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a lo scopo di effettuare una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ricognizione</a:t>
            </a: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più possibile aggiornata sullo stato dell'arte su una determinata questione, che è l'oggetto di ricerca. Produce una serie di dati oggettivi (una bibliografia, un catalogo, una rassegna...) che può essere impiegata in studi successiv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42800" algn="ctr">
              <a:lnSpc>
                <a:spcPct val="10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ogni caso è bene non esagerare e non cercare di imbarcarsi in imprese al di là della nostra portata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1214280"/>
            <a:ext cx="849636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po aver scelto l'argomento è necessar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re una stima del tempo a disposizione e di quello necess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ccogliere le idee per definire quanto sappiamo dell'argomento scel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3d3d3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documentar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izia la fase di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 raccolta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 schedatur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elle fo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'assenza di idee e la confusione sono assolutamente normali e andran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d attenuarsi procedendo nello studio delle fo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fase della documentazione è fondamentale e merita tutto il tem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l'attenzione possibili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51280" y="15843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51280" y="248436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1268280"/>
            <a:ext cx="84963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Dove iniziare a cerca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luoghi in cui cercare sono gli scaffali dell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bibliotech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degl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archivi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il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8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ataloghi delle biblioteche sono disponibi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n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8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A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(On line Public Access Catalogue) è il catalogo informatizzato di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iblioteca – o di un sistema di biblioteche – attraverso il quale lanciare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erca è facile e velo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B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(Servizio Bibliotecario Nazionale) rete delle biblioteche italiane, i cu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taloghi sono consultabili tramite un unico portale, l'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AC SB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aOPA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insieme di OPAC collegati tra loro e interrogabi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temporaneamente grazie ad un'unica maschera di ricerca (ad esempio, 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taOPAC Azalai Itali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anche dati full tex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→ portali che permettono non solo l'interrogazione 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erca di un documento ma lo rendono disponibile in formato digitale: in gen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tenei mettono questo servizio a disposizione degli studenti tramite il port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1268280"/>
            <a:ext cx="871236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Qualche consiglio utile per la ricerc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gitare una stringa di ricerca qualsiasi sul catalogo informatico di una bibliote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uò non dare esiti positivi → è sempre preferibile scegliere u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cerca avanz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catalogo può essere interrogato secondo diverse opzioni, tra le qual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autor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i volumi sono raggruppati secondo il cognome e nome dell'aut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titolo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un volume è rintracciabile per titolo → in questo caso è bene f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ttenzione ai saggi contenuti in volumi collettanei perché il catalogo difficil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vrà registrato al suo interno tutti i titoli dei saggi, ma soltanto il titolo del 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e li raccogli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1268280"/>
            <a:ext cx="8712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soggetto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in questo caso è possibile lanciare una ricerca per argo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classificazion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volumi sono ordinati e raggruppati secondo un sistema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lassificazione standard (Classificazione Decimale Dewey) → le materie so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ggruppate in 10 classi, che recano ulteriori suddivisioni in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tipo di docu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monografia, periodico, spoglio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 siamo alla ricerca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articolo pubblicato in una rivista, dobbiamo rintracciare la collocazione d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vista stessa e ricercare successivamente il documento (il catalogo non conterr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babilmente tutte le referenze dei titoli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7280" y="1214280"/>
            <a:ext cx="849636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La scheda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 algn="ctr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ricerca delle fonti è un'operazione che procede per gradi (da una fonte 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'altra), ma non è detto che avvenga in modo line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poter rintracciare i documenti – anche già consultati – in qualsiasi mo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58760">
              <a:lnSpc>
                <a:spcPct val="110000"/>
              </a:lnSpc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in modo facile è bene</a:t>
            </a:r>
            <a:r>
              <a:rPr b="0" lang="it-IT" sz="18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schedarli in modo accu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L'impostaz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3-11-04T10:56:25Z</dcterms:modified>
  <cp:revision>530</cp:revision>
  <dc:subject/>
  <dc:title>Diapositiva 1</dc:title>
</cp:coreProperties>
</file>