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2640" y="694800"/>
            <a:ext cx="4546440" cy="3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1520" y="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6"/>
          </p:nvPr>
        </p:nvSpPr>
        <p:spPr>
          <a:xfrm>
            <a:off x="3881160" y="8686440"/>
            <a:ext cx="294948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A0FBC-8760-4D5B-A321-38EE76D84C3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CFBF0-0384-42B9-9C09-B5DC32F2506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876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E2213-D893-4B14-AB06-2658B2C98EE6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C6DA1-8CEC-4BFD-95CB-A1BC74FD388A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D16EB-3F45-47B5-A5EF-A6581150F776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83BBD-D4F6-4B3B-9766-B9DFABC02A0E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13122-F03C-4E18-ABB6-9BAA8643241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440" y="4344840"/>
            <a:ext cx="54738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15F40-5463-4900-B1AB-064D5379101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E3AED-ACCE-444F-B7CA-29CB723C119A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9CFCD-6F1B-4E1E-93AC-90C41724F4FF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A19D4-2BD0-4D5F-BC5E-905BBF7DA435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BD556-4709-4998-B356-99BA7D47566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060DD-1B31-4AFD-9019-E6C854F90440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5C0AA-01A0-413C-AB12-A46C2AA638E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9B501-2D21-4457-A47B-1C921CD0D4BA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D1BCF-A8DF-4EAE-BF64-D4AF06FB47B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8DCDA-224F-491E-8C72-3B364323F304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B0EE7-94F9-4A62-81AD-DD9D1B1AB15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18630-8ECE-4BEB-8367-8DBA4C25D10F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D5EBF-7B47-4050-9F40-009E798FF53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16D1F-A03C-4D6F-87F7-8CECF637D3AE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964DF-26B1-43D6-B669-233A221D81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02840"/>
            <a:ext cx="82249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E3273-B83F-46EA-9277-B0ECD3244D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72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E79B9-4F6B-44E9-9A1F-2787ABC004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02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840" y="4002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840" y="4002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76F68-83D8-410B-B6B1-9A83A6C4B7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E779-2A6B-4B05-A745-30854569DA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9B4B-603F-4AAB-885B-49E56A53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AE86-548F-4FC0-AB2F-D8AB18E5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7490-4787-46BC-B189-C7BB49D1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D701-C956-4AF5-95C0-C2052E8E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7661-9658-4CB9-AA29-93A0780BD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0817-5C5E-419A-AECB-6D996EFA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7A189-745A-4B68-893A-43DF570FFC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72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F7BF-E5A7-4C6D-81C0-ECE55374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82249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CF18-E8D6-4B78-966B-58AE2EA0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02840"/>
            <a:ext cx="82249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4824-A1ED-41D0-A2B6-0073B535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72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A9E2-8B94-44D6-90D1-E8EBA825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02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7840" y="4002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840" y="4002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7354-4B65-414B-A25D-E492B286C8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644A6-322B-48A9-99D3-9477DE163D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35A79-C488-4A63-88C9-62EB1B0A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D2611-A6C5-4A1B-B8B1-3D50FC0D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530FE-08EE-4870-A745-E4CF9F5F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E9773-8B00-4E56-B2B4-0B9B11328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685E6-8644-41CD-A79C-4A8384A4379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7F6EE-C3C5-469A-8543-170648690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C4315-A756-4B2C-8F8A-C04AD85C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72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FC762-A75B-4825-9CA3-D3B06727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82249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560D1-D093-4984-9606-12E298D9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6840" y="4002840"/>
            <a:ext cx="82249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C9B0B-3988-4047-9677-BD3FC4CA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72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628BC-D2B0-45D2-80C2-0BF50E86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6840" y="4002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7840" y="4002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840" y="4002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54864-21CA-48D9-8997-5E8C466B0A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C196D-DEFE-4DA1-9AAB-2E393BEB3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81D1B-0639-4D33-83CA-3EF2324716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3D685-0B7B-4A2D-A2DD-98FE382DB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E0FEA-8615-4202-ABC2-D6511E7F8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72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70695-8995-45C1-ABE3-BB28E1A72B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82249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0523C-DC6D-42C0-BDBE-C75C08EC10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15640"/>
            <a:ext cx="8218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8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6720"/>
            <a:ext cx="2124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7320" y="6246720"/>
            <a:ext cx="28926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5960" y="624636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60A10-3B65-4355-B59E-2905AFFD9593}" type="slidenum">
              <a:rPr b="0" lang="it-IT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A99B2-286E-4341-8E8B-EC4881EF1162}" type="datetime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7EEAF-3CCB-484B-8436-6EFAE5665C0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EBAAA-391D-4486-8E6F-87DDD058418E}" type="datetime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5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826AD-E5BA-4E75-BEC0-60421C6A9E2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97720" y="716040"/>
            <a:ext cx="3583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Paola Italia, Debora Benna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  <a:ea typeface="Arial"/>
              </a:rPr>
              <a:t>Scrivere tesin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  <a:ea typeface="Arial"/>
              </a:rPr>
              <a:t>e tesi all’università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7960" y="2781360"/>
            <a:ext cx="53715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600" spc="-1" strike="noStrike">
                <a:solidFill>
                  <a:srgbClr val="ffffff"/>
                </a:solidFill>
                <a:latin typeface="Arial"/>
                <a:ea typeface="Arial"/>
              </a:rPr>
              <a:t>Tesine, tesi,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600" spc="-1" strike="noStrike">
                <a:solidFill>
                  <a:srgbClr val="ffffff"/>
                </a:solidFill>
                <a:latin typeface="Arial"/>
                <a:ea typeface="Arial"/>
              </a:rPr>
              <a:t>testi argomentativ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80880" y="766800"/>
            <a:ext cx="3189240" cy="487188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87280" y="1219320"/>
            <a:ext cx="849636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6020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l testo argomentativo ha lo scopo di convincere il lettore di una tesi facen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eva sulla forza del ragionamento e sulle argomentazioni e le prove condotte 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ostegno. Per far questo, deve essere scritto con un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tile chiaro ed effic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28760" indent="-38880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5560" indent="-4446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Uno stile è chia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5560" indent="-44460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quando la forma del testo è in equilibrio con la sua struttu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263600" indent="-376200">
              <a:lnSpc>
                <a:spcPct val="11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 paragrafi hanno ciascuno uno sviluppo logico dell'argomentazione (un paragrafo per un'argomentazion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263600" indent="-376200">
              <a:lnSpc>
                <a:spcPct val="11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 periodi sono logicamente legati tra loro grazie ai connettiv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263600" indent="-376200">
              <a:lnSpc>
                <a:spcPct val="11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e argomentazioni sono espresse al tempo pres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263600" indent="-376200">
              <a:lnSpc>
                <a:spcPct val="11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e argomentazioni sono presentate in modo imperson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Arial"/>
              </a:rPr>
              <a:t>Uno stile per argoment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87280" y="1214280"/>
            <a:ext cx="8496360" cy="43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6020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l testo argomentativo ha lo scopo di convincere il lettore di una tesi facend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eva sulla forza del ragionamento e sulle argomentazioni e le prove condotte 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ostegno. Per far questo, deve essere scritto con un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tile chiaro ed effic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28760" indent="-38880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5560" indent="-4446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Uno stile è effic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5560" indent="-44460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quando utilizza (senza eccessi!) le figure retoriche d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263600" indent="-376200">
              <a:lnSpc>
                <a:spcPct val="11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ostituzione (antifrasi, antonomasia, perifrasi, eufemismo, litote, metafora, sineddoche.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263600" indent="-376200">
              <a:lnSpc>
                <a:spcPct val="11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nsistenza (anafora, climax, iperbole, parallelismo.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263600" indent="-376200">
              <a:lnSpc>
                <a:spcPct val="11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Opposizione (antitesi, chiasmo, ossimoro.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Arial"/>
              </a:rPr>
              <a:t>Uno stile per argoment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2519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  <a:ea typeface="Arial"/>
              </a:rPr>
              <a:t>Tesine, tesi, testi argomentativ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8608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Tesine e tesi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Testi argomentativi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La struttur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Un metodo e uno stile per argomentar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87280" y="1258920"/>
            <a:ext cx="849636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urante il percorso universitario i testi che si è tenuti a produrre sono t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7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La tes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Una breve trattazione su un determinato argomento che approfondisce 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spetto legato alla materia oggetto del corso. La lunghezza è variabile e pu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essere definita dal docente.</a:t>
            </a:r>
            <a:r>
              <a:rPr b="0" lang="it-IT" sz="1800" spc="-1" strike="noStrike">
                <a:solidFill>
                  <a:srgbClr val="3d3d3d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7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La tesi trienn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Una media trattazione su un argomento concordato con il docente della mater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n cui si è scelto di laurearsi. Per la lunghezza è consigliabile raggiung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lmeno le 30 cartelle e non superare le 10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7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La tesi quinquennale o specialis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Una trattazione lunga su un argomento concordato con il docente della mater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n cui si è scelto di laurearsi. La lunghezza dovrebbe essere compresa tra 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100 e le 300 cartel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7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ono tutti testi saggistici che sviluppano in modo scientifico un tema e che possiedono le caratteristiche del</a:t>
            </a:r>
            <a:r>
              <a:rPr b="1" lang="it-IT" sz="1800" spc="-1" strike="noStrike">
                <a:solidFill>
                  <a:srgbClr val="3d3d3d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testo argomentat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Arial"/>
              </a:rPr>
              <a:t>Tesine, tesi, testi argomentativ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360" y="1251000"/>
            <a:ext cx="608328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Il testo</a:t>
            </a:r>
            <a:r>
              <a:rPr b="0" lang="it-IT" sz="1800" spc="-1" strike="noStrike">
                <a:solidFill>
                  <a:srgbClr val="3d3d3d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argomentativo</a:t>
            </a:r>
            <a:r>
              <a:rPr b="0" lang="it-IT" sz="1800" spc="-1" strike="noStrike">
                <a:solidFill>
                  <a:srgbClr val="3d3d3d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ha la funzione di sostenere un'opinion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(tesi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e di convincere l'interlocutore della sua veridicità attraverso una serie di ragionament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(argomentazioni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documentati da vari esemp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(pro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Un testo argomentativo presenta alcuni element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itol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remes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e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rgomentazio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ro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nclusio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Arial"/>
              </a:rPr>
              <a:t>Tesine, tesi, testi argomentativ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4932360"/>
            <a:ext cx="835344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Questo schema riassume la struttura di un testo argomentativo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opo un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remessa introduttiv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(facoltativa), al centro del testo si trova 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es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, il nucleo del discorso, di cui si deve dimostrare la veridicità. Intorno alla tesi si sviluppano l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rgomentazion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che potranno utilizzare dell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rov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a lor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   sostegno e che conducono all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nclusion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02520" y="1365120"/>
            <a:ext cx="2447640" cy="3287880"/>
          </a:xfrm>
          <a:prstGeom prst="rect">
            <a:avLst/>
          </a:prstGeom>
          <a:noFill/>
          <a:ln cap="sq" w="9360">
            <a:solidFill>
              <a:srgbClr val="4c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014880" y="1689120"/>
            <a:ext cx="3021120" cy="263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87280" y="1258920"/>
            <a:ext cx="8496360" cy="48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6020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Il tito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i può considerare un testo argomentativo sintetico. Può riferire la tesi e 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rgomentazioni secondo gli stessi metodi che si utilizzano per costruire il tes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rgomentati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lnSpc>
                <a:spcPct val="7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La premes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è l'introduzione al tema vero e proprio: serve a delimitare l'ambito di indagine, 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ntestualizzare e inquadrare il proprio intervento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lnSpc>
                <a:spcPct val="7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La te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è il centro propulsore del testo argomentativo. Senza la tesi non può esistere 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esto perché non si hanno argomentazion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lnSpc>
                <a:spcPct val="7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Argomenti (o argomentazion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ono i ragionamenti, i passaggi logici attraverso i quali si dipana il tes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evono essere ben articolati e disposti in modo razionale così da favorire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mprensione del testo e l'assimilazione del messaggio, ovvero la veridicit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ella tes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Arial"/>
              </a:rPr>
              <a:t>La strutt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87280" y="1258920"/>
            <a:ext cx="849636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6020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upportano le argomentazioni e garantiscono la veridicità e la serietà di tutta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rocedu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4240">
              <a:lnSpc>
                <a:spcPct val="10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ossono ess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4240">
              <a:lnSpc>
                <a:spcPct val="10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42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i autorità: la verità di un assunto è comprovata dal valore e dalla credibilità del suo sostenitore (è il caso in cui si utilizza una citazione di un testo di un autore come prova del proprio ragionament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42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42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cientifiche: forniscono dati oggettivi, frutto di analisi (formule, dati statistici, 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4240">
              <a:lnSpc>
                <a:spcPct val="10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e prove vanno sempre citate indicando la fonte primar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(in nota e in bibliografi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Arial"/>
              </a:rPr>
              <a:t>Le pr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87280" y="1258920"/>
            <a:ext cx="8496360" cy="31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6020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o sviluppo delle argomentazioni conduce gradualmente il lettore verso le conclusio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42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ossono riproporre e riaffermare la tesi inizial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(testo di tipo circolar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42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42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ossono esplicitare qualcosa che non era presente nelle affermazioni iniziali e che viene comunicato al lettore solo alla fine del testo: coincidono con la tesi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(testo di tipo progressiv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Arial"/>
              </a:rPr>
              <a:t>Le conclusio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87280" y="1268280"/>
            <a:ext cx="8496360" cy="48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6020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on esiste “il metodo” per argomentare m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020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5560" indent="-444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Modi di articolare i ragionamenti tra lo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389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ndutt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389160">
              <a:lnSpc>
                <a:spcPct val="10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 partire da un principio generale o da un'opinione comune si passa 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389160">
              <a:lnSpc>
                <a:spcPct val="10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imostrare un argomento individuale: La sua forza sta nella qualit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389160">
              <a:lnSpc>
                <a:spcPct val="10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elle premes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389160">
              <a:lnSpc>
                <a:spcPct val="10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389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edutt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389160">
              <a:lnSpc>
                <a:spcPct val="10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all'osservazione di casi particolari si ricavano principi validi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389160">
              <a:lnSpc>
                <a:spcPct val="10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enerale. È importante la quantità di situazioni osserv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389160">
              <a:lnSpc>
                <a:spcPct val="10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389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nalog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389160">
              <a:lnSpc>
                <a:spcPct val="10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i applica un ragionamento valido per una situazione simile a quel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389160">
              <a:lnSpc>
                <a:spcPct val="10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osservata, per la quale non è possibile sviluppare un'argomentazi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Arial"/>
              </a:rPr>
              <a:t>Un metodo per argoment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87280" y="1268280"/>
            <a:ext cx="8496360" cy="47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6020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on esiste “il metodo” per argomentare m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28760" indent="-388800">
              <a:lnSpc>
                <a:spcPct val="10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5560" indent="-444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Modi di articolare i ragionamenti in relazione alla tesi avvers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28760" indent="-38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Metodo dell'anticipazione delle argomentazio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28760" indent="-388800">
              <a:lnSpc>
                <a:spcPct val="10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'autore assume temporaneamente il ruolo di “avversario” di se stesso e anticipa le obiezioni alla tesi. Da queste sviluppa una serie di argomentazioni per dimostrare che le obiezioni sono in realtà prive di fonda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28760" indent="-388800" algn="ctr">
              <a:lnSpc>
                <a:spcPct val="10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(individuazione delle obiezioni → argomentazione dell'obiezione → argomentazione della tesi → tes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28760" indent="-388800">
              <a:lnSpc>
                <a:spcPct val="10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28760" indent="-38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Metodo della controargomentaz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28760" indent="-388800">
              <a:lnSpc>
                <a:spcPct val="10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i dimostra in generale che la tesi opposta non ha fonda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28760" indent="-388800" algn="ctr">
              <a:lnSpc>
                <a:spcPct val="10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(tesi avversaria → controargomentazione → argomentazione → tes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Arial"/>
              </a:rPr>
              <a:t>Un metodo per argoment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1:56:42Z</dcterms:created>
  <dc:creator>SILVANA</dc:creator>
  <dc:description/>
  <dc:language>en-US</dc:language>
  <cp:lastModifiedBy>AME</cp:lastModifiedBy>
  <cp:lastPrinted>2009-04-22T19:24:48Z</cp:lastPrinted>
  <dcterms:modified xsi:type="dcterms:W3CDTF">2013-11-13T14:23:31Z</dcterms:modified>
  <cp:revision>534</cp:revision>
  <dc:subject/>
  <dc:title>Diapositiva 1</dc:title>
</cp:coreProperties>
</file>