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152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E90E9-E2D6-431A-B5CA-4681BF6FA58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6A8B0-8F5F-4F5E-8418-A24423FD907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EBBBB-922A-416C-9CFD-DE738C05E1B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09CE6-1ADD-4C44-A0AE-1461E901CD1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B284C-BC72-45BC-9ADD-4CED236728C3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765E-B846-4CD4-8B22-4739BA4725C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FE6D40-0D0A-4863-898D-3F8099B2740D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147FB-FB47-44E5-8B1F-5B338780EA2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CB608-C128-4018-9677-05A4E48C039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23AB1-E525-44C7-B701-2789EE98CE6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6CE1D-B834-43F8-9196-DB8B7186438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30BDF-69EF-4630-833B-F05EF9EAB5A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DFF76-6300-4B41-BC2B-C2B2D958B04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7BA-9E06-48F0-9F2A-DE850843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04B-8324-4CF9-A5D0-439B8293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1C89-41A3-4812-B425-291FD34B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687F-C56E-4EDA-B9F4-FFB0B0BC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B876-72DF-4DAE-A063-16C315EEC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5373-84C5-4921-996F-AEE7872E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157B-17BA-4D7A-ACF4-C8DA34AC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CDC7-DBBA-4AE7-957F-719C28F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6870-0CC8-445D-9A5B-3E91AFA9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1543-34B6-4F56-AB49-E7F8CAA9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5675-B3FA-433C-9E9B-0E2B447C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7B5-4635-4B6D-AAD5-D6C00FCC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1C53-71AC-4E31-AEE0-1A72C751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35CB0-5A8C-4B46-B2D4-7D570604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F577-8D72-4D54-BF83-043ECBF0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27BD-935A-4E48-ACCA-E9212293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AD18-C4F7-48AC-9688-E35C2284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071A6-8D70-4EBE-822A-5DE34F45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4DC33-FB13-42D4-BD3F-16CBB41F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EC8C6-406A-443A-99D0-4405AEDA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916C-BC19-4795-B00D-3C68019F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AEC7-D94C-445F-B434-E629C1D0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DC3-8D97-4B23-8112-24DFFE7E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00D33-F3BE-4842-88C8-159AAA47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4D60B-48BB-4F17-833A-336B38C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F2DB6-F0C1-458D-A628-58ABFD09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400F-CA58-4E11-8CDB-CF9FAF25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B6C0-1EFE-400C-9995-E728D467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573CD-5D82-4F36-9DAE-7DE56332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0B85-01FB-44F1-8653-1E4088E1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15B-4000-4676-9ADD-9A73DFE5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39A-6A6E-4816-B341-D4BC00C6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54AA-EBC6-4636-942F-9D958BF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A19C-2A18-491F-84CF-B313ACA1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4A1-519C-4E0E-839B-ADEB9861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677-2D42-4370-BEE5-874E4DFE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DEEA45-E88E-4362-85B0-DE60FB983B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28F9BA-2539-4C1C-913C-32480C98AE7C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484B75-2441-4EBF-960F-6E8E02217A0C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B2CE97-85A0-4766-BBEA-58F6755F9A48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0A3F21-AA94-44D7-AEC1-BF0BA0542447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62640" y="716040"/>
            <a:ext cx="534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essandro Lovari, Yahis Mart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per i social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78136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  <a:ea typeface="Arial"/>
              </a:rPr>
              <a:t>1. Teoria della scrittura per i social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5200" y="838080"/>
            <a:ext cx="3210120" cy="486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1.4. La norma linguistica e i social networ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itolo 3"/>
          <p:cNvSpPr/>
          <p:nvPr/>
        </p:nvSpPr>
        <p:spPr>
          <a:xfrm>
            <a:off x="468360" y="1197000"/>
            <a:ext cx="8424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Cosa è “giusto” nella scrittura sul Web 2.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Immagine 5" descr=""/>
          <p:cNvPicPr/>
          <p:nvPr/>
        </p:nvPicPr>
        <p:blipFill>
          <a:blip r:embed="rId2"/>
          <a:stretch/>
        </p:blipFill>
        <p:spPr>
          <a:xfrm>
            <a:off x="971640" y="2924280"/>
            <a:ext cx="7488000" cy="3089160"/>
          </a:xfrm>
          <a:prstGeom prst="rect">
            <a:avLst/>
          </a:prstGeom>
          <a:ln w="0">
            <a:noFill/>
          </a:ln>
        </p:spPr>
      </p:pic>
      <p:sp>
        <p:nvSpPr>
          <p:cNvPr id="151" name="Rettangolo 6"/>
          <p:cNvSpPr/>
          <p:nvPr/>
        </p:nvSpPr>
        <p:spPr>
          <a:xfrm>
            <a:off x="0" y="20606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Ciò che raggiunge lo scopo comunicativo di chi scr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itolo 1"/>
          <p:cNvSpPr/>
          <p:nvPr/>
        </p:nvSpPr>
        <p:spPr>
          <a:xfrm>
            <a:off x="46836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Cosa “si deve” fare quando si scrive in re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395280" y="2043000"/>
            <a:ext cx="8244000" cy="36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000a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a"/>
                </a:solidFill>
                <a:latin typeface="Calibri"/>
                <a:ea typeface="DejaVu Sans"/>
              </a:rPr>
              <a:t> </a:t>
            </a: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DejaVu Sans"/>
              </a:rPr>
              <a:t>Se si manda un messaggio, è bene che esso sia </a:t>
            </a:r>
            <a:r>
              <a:rPr b="1" lang="it-IT" sz="2000" spc="-1" strike="noStrike">
                <a:solidFill>
                  <a:srgbClr val="00000a"/>
                </a:solidFill>
                <a:latin typeface="Arial"/>
                <a:ea typeface="DejaVu Sans"/>
              </a:rPr>
              <a:t>sintetico </a:t>
            </a: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DejaVu Sans"/>
              </a:rPr>
              <a:t>e descriva in modo chiaro e diretto il problema. Specificare sempre, in modo breve e significativo, l'oggetto (campo "Subject") del testo incluso nella mai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a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Non divagare rispetto all'argomento del newsgroup o della lista di distribuzione via posta elettron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a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Non condurre "guerre di opinione" sulla rete a colpi di messaggi e contromessaggi: se ci sono diatribe personali, è meglio risolverle via posta elettronica in corrispondenza privata tra gli interessa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itolo 1"/>
          <p:cNvSpPr/>
          <p:nvPr/>
        </p:nvSpPr>
        <p:spPr>
          <a:xfrm>
            <a:off x="46836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Cosa “si deve” fare quando si scrive in re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396720" y="1995480"/>
            <a:ext cx="8496360" cy="40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buClr>
                <a:srgbClr val="00000a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 </a:t>
            </a:r>
            <a:r>
              <a:rPr b="1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Non pubblicare messaggi stupidi </a:t>
            </a: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o che semplicemente prendono le parti dell'uno o dell'altro fra i contendenti in una discussione. Leggere sempre le FAQ (Frequently Asked Questions) relative all'argomento trattato prima di inviare nuove doman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a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Non inviare tramite posta elettronica messaggi pubblicitari o comunicazioni che non siano state sollecitate in modo esplic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a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 </a:t>
            </a:r>
            <a:r>
              <a:rPr b="1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Non essere intolleranti </a:t>
            </a: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Geneva"/>
              </a:rPr>
              <a:t>con chi commette errori sintattici o grammaticali. Chi scrive, è comunque tenuto a migliorare il proprio linguaggio in modo da risultare comprensibile alla collettività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itolo 1"/>
          <p:cNvSpPr/>
          <p:nvPr/>
        </p:nvSpPr>
        <p:spPr>
          <a:xfrm>
            <a:off x="468360" y="1341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Quale lingua dovrebbe parlare il Web 2.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egnaposto contenuto 2"/>
          <p:cNvSpPr/>
          <p:nvPr/>
        </p:nvSpPr>
        <p:spPr>
          <a:xfrm>
            <a:off x="468360" y="2028960"/>
            <a:ext cx="82184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ianificazione della scrittu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a partire da scalette di vario tipo, la stesura, la revisione in base a criteri variabili rispetto ai contesti comunicativi e ai destinatar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recisione del lessi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evitare inutili pseudo-tecnicismi e spiegare i tecnicismi veri, sciogliere le sigle e valorizzare le ripetizio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hiarezza della sintass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costrutti attivi, evitare le disposizioni non lineari e curare la punteggiat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mmediatezza del tes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anche grafica, curare la disposizione delle informazioni in modo che si prestino a una “lettura esplorativ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itolo 1"/>
          <p:cNvSpPr/>
          <p:nvPr/>
        </p:nvSpPr>
        <p:spPr>
          <a:xfrm>
            <a:off x="468360" y="1276200"/>
            <a:ext cx="82296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Conclus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egnaposto contenuto 2"/>
          <p:cNvSpPr/>
          <p:nvPr/>
        </p:nvSpPr>
        <p:spPr>
          <a:xfrm>
            <a:off x="457200" y="2060640"/>
            <a:ext cx="82296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Una lingua inafferrabile sia per quantità che per qual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ecessità di analisi di dettaglio sui singoli 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3-10-31T15:25:42Z</dcterms:modified>
  <cp:revision>543</cp:revision>
  <dc:subject/>
  <dc:title>Diapositiva 1</dc:title>
</cp:coreProperties>
</file>