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16DC8-5002-4055-8C80-BCBA16CD5C7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9D0F8-5300-4A15-80EF-0C324592029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02A7B-BEF6-4E7E-8E46-6BD22305A04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E2BF2-CBC3-4B1D-9204-A3417B3850E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4E105-DE91-46B1-86F9-A0D14F4F30F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E2E0B3-4696-48F9-931E-74A4B5351E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B9540-6618-417B-8EAC-01231F8A61A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71674-10E3-4A40-8A74-1C6C242B8C3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2604E9-35CD-4231-B726-D0703733D755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05EB2-FE31-4F18-AA64-13160D85F30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8E030-0DEB-4A80-90E5-D7473B382D57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D89C8-0A6B-4E96-B724-D0B6D9B960E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25157-2FAC-466D-BCD2-22598E81132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09AB20-E6FB-418F-8061-CF5AAAE396F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88ACE-FEEC-40AF-B4EB-0159AB808F8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06FB9-14C8-496F-8C33-86AB41791A9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21C71-A0F9-489A-8D0C-A39060C8C42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779A4-D199-448D-8062-FDC6C0604EE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247EC-79C1-4ED7-953C-E9626DCE599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435-A4B3-4A29-9D31-CA948A01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E4B-0B44-4735-9127-21BABFA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A93-724E-44B1-81F0-FC111D68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2821-26D8-41DB-8EDE-20872019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AA1F-E5B2-4008-8321-51EAB81B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E164-13B0-45B2-876E-0436DA81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F75D7-DAED-416A-B9B8-68FDEC8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1A7-AA16-45EE-B9BA-DE1CEDB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64AD-65EF-4013-846D-D691709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173C-83B6-462A-AE2D-F9288305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00A7-BD10-4624-A385-135A3BDF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17FC-D130-4632-A8C1-F41F463B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1A9B-434A-40CE-BF3B-00DCF0BF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861C-06C9-425A-AE21-52D6C65F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DC4-2D87-43C6-A2AF-18AC7DE6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0A26-21DF-42E5-BCFB-A0C8E9A5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CABC-E14A-437B-8135-79580DA9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DB2D-D4FD-4B12-B984-0D47B751F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6082-63B0-499D-A16E-0B6B835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A0955-9D03-4724-9AEE-F13CB8F0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03A6-16BE-4E36-BDB4-4AAAA979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4D5BD-00D6-47E3-ACAC-1A133B09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ED9-469A-405F-94C0-36312FE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1ADF-C450-45BB-BFA4-5BA0E763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FF368-488F-4E71-9C0B-9D563B79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7598-ED54-436C-97F8-2DF8C0C6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A07F-A062-40FC-9770-A9ED084F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06DA-DD30-49EA-8BF4-41B04228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E5A25-09C4-4B85-A669-F0193ADC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1A1D7-7C46-4930-A2B1-B8B8CD92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784-362E-453A-B713-F695A708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C166-FA83-41C4-A446-4C9F4C6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813-E2A6-4AB5-9EB2-ECC04185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DF6-6BDF-4B35-9FE9-9ACCB9AA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A92-0169-4403-8F9D-CD77B5F4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E636-177F-4787-B1E9-5FE765B7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AA4B9A-CE91-4988-BC13-0268CD28FC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16BA75-657F-41CD-9286-EC7F180DE1E8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9D823C-2298-4CA2-9953-2D2F660D4DF2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1471A4-4764-4364-8C74-284FD69AA060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F4C8F4-5D29-4A1B-9B89-0CD58E54E934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62640" y="716040"/>
            <a:ext cx="534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essandro Lovari, Yahis Mar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per i social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781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1. Teoria della scrittura per i 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5200" y="838080"/>
            <a:ext cx="3210120" cy="48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itolo 1"/>
          <p:cNvSpPr/>
          <p:nvPr/>
        </p:nvSpPr>
        <p:spPr>
          <a:xfrm>
            <a:off x="457200" y="112536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sempi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egnaposto contenuto 2"/>
          <p:cNvSpPr/>
          <p:nvPr/>
        </p:nvSpPr>
        <p:spPr>
          <a:xfrm>
            <a:off x="395280" y="1989000"/>
            <a:ext cx="828036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acebook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dedicato inizialmente alla modalità visiva delle fotografie, è ormai un’onnivora piattaforma che integra gli altri SN al suo interno: implica una multimodalità in grado di operare con musica, informazione scritta, video, foto, attraverso una integrazione non solo di contenuti e di codici, ma anche di interfac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1.3. Il ruolo della scrittura nei social networ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itolo 3"/>
          <p:cNvSpPr/>
          <p:nvPr/>
        </p:nvSpPr>
        <p:spPr>
          <a:xfrm>
            <a:off x="457200" y="776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Ancora sui model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Segnaposto contenuto 6"/>
          <p:cNvSpPr/>
          <p:nvPr/>
        </p:nvSpPr>
        <p:spPr>
          <a:xfrm>
            <a:off x="395280" y="1998720"/>
            <a:ext cx="404028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Knowledge telling e knowledge transfo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vere è trovare (euristica) e pensare (epistemic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egnaposto contenuto 8"/>
          <p:cNvSpPr/>
          <p:nvPr/>
        </p:nvSpPr>
        <p:spPr>
          <a:xfrm>
            <a:off x="4500720" y="1998720"/>
            <a:ext cx="4041720" cy="34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vere è atto collocato in contesto sociale e cultur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 contesti comunicativi (gli attori, e le situazioni della comunicazione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li spazi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li strumen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ttangolo 9"/>
          <p:cNvSpPr/>
          <p:nvPr/>
        </p:nvSpPr>
        <p:spPr>
          <a:xfrm>
            <a:off x="2057400" y="5516640"/>
            <a:ext cx="464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Geneva"/>
              </a:rPr>
              <a:t>Ecologia della scrit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itolo 6"/>
          <p:cNvSpPr/>
          <p:nvPr/>
        </p:nvSpPr>
        <p:spPr>
          <a:xfrm>
            <a:off x="457200" y="1125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cologia della scrittura de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egnaposto contenuto 7"/>
          <p:cNvSpPr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testi: aumento di scriventi e di contes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pazi: diversificazione degli spa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trumenti: diversificazione degli strume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uove manovre cognitive, in consegu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ccia in giù 8"/>
          <p:cNvSpPr/>
          <p:nvPr/>
        </p:nvSpPr>
        <p:spPr>
          <a:xfrm>
            <a:off x="4414680" y="3357720"/>
            <a:ext cx="314640" cy="431640"/>
          </a:xfrm>
          <a:prstGeom prst="downArrow">
            <a:avLst>
              <a:gd name="adj1" fmla="val 50000"/>
              <a:gd name="adj2" fmla="val 49888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itolo 1"/>
          <p:cNvSpPr/>
          <p:nvPr/>
        </p:nvSpPr>
        <p:spPr>
          <a:xfrm>
            <a:off x="468360" y="170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ecosistema della scrittura sui SN è contraddistinto dalla multimedialit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3120" y="3573360"/>
            <a:ext cx="404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ltimediale = novità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mergen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itolo 1"/>
          <p:cNvSpPr/>
          <p:nvPr/>
        </p:nvSpPr>
        <p:spPr>
          <a:xfrm>
            <a:off x="395280" y="166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ei SN la scrittura veicola la multimedia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egnaposto contenuto 2"/>
          <p:cNvSpPr/>
          <p:nvPr/>
        </p:nvSpPr>
        <p:spPr>
          <a:xfrm>
            <a:off x="468360" y="3324240"/>
            <a:ext cx="8218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scrittura mantiene un assoluto domini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uri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itolo 1"/>
          <p:cNvSpPr/>
          <p:nvPr/>
        </p:nvSpPr>
        <p:spPr>
          <a:xfrm>
            <a:off x="468360" y="170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scrittura sui SN si inserisce in una fruizione multimod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egnaposto contenuto 2"/>
          <p:cNvSpPr/>
          <p:nvPr/>
        </p:nvSpPr>
        <p:spPr>
          <a:xfrm>
            <a:off x="468360" y="3141720"/>
            <a:ext cx="8218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l messaggio è sempre più spess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ssemina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ra codice scrit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e altri cod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in proporzioni variabili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itolo 1"/>
          <p:cNvSpPr/>
          <p:nvPr/>
        </p:nvSpPr>
        <p:spPr>
          <a:xfrm>
            <a:off x="457200" y="112392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sempi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egnaposto contenuto 2"/>
          <p:cNvSpPr/>
          <p:nvPr/>
        </p:nvSpPr>
        <p:spPr>
          <a:xfrm>
            <a:off x="457200" y="1998720"/>
            <a:ext cx="807552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stagra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lick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e le altre App destinate alla fotografia sono molto sbilanciate sul codice visivo, di cui quello scritto rappresenta un elemento ancillar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witt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è un SN basato sostanzialmente sulla scrittura, rispetto al quale le altre modalità comunicative sono relativamente poco important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itolo 1"/>
          <p:cNvSpPr/>
          <p:nvPr/>
        </p:nvSpPr>
        <p:spPr>
          <a:xfrm>
            <a:off x="457200" y="112392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sempi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egnaposto contenuto 2"/>
          <p:cNvSpPr/>
          <p:nvPr/>
        </p:nvSpPr>
        <p:spPr>
          <a:xfrm>
            <a:off x="457200" y="1989000"/>
            <a:ext cx="79311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YouTub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: la scrittura (commentativa) ne rappresenta sempre più un complemento important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oursqu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è un servizio di geolocalizzazione che usa in modo del tutto bilanciato scrittura e immagine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AME</cp:lastModifiedBy>
  <cp:lastPrinted>2009-04-22T19:24:48Z</cp:lastPrinted>
  <dcterms:modified xsi:type="dcterms:W3CDTF">2013-11-20T09:17:58Z</dcterms:modified>
  <cp:revision>548</cp:revision>
  <dc:subject/>
  <dc:title>Diapositiva 1</dc:title>
</cp:coreProperties>
</file>