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4618C-8A6A-461E-9196-7EACFE2D3F5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4177D-AFD9-4876-8C27-7C3C0455BAF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3FC247-D7FF-4284-87BE-870045E9D04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A0915-D6A2-46AB-940A-986D0E46DFA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ED8EB-9310-474B-93AE-3CA2954EB79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78E73-2AE2-4589-90FE-6C5BC37AEEE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8BDE2-E6E4-4CE4-81CC-BFC476364EC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77CB9-F964-438C-A6F1-340660FD6FA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2DB75-8917-4DF9-8902-5F76AEB674F4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B1571-1AF5-4E73-8469-468FBFC1CCB4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C576A-FD0D-41C0-9251-027C27DD478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E30C6-31D0-483A-A13E-237214D83E2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6C808-34FB-4295-82CD-87CFB51765F1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F0FF9-A2A8-4D8F-AF61-37B8F37BAA5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87B4E-B6F2-420C-B0E9-46A3ED57352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0F5A3-2F83-4636-BA6F-8B9712EFCD5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BBE1DE-21ED-4570-B7CF-91871EC96A7A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D1B72-1712-4BC5-9023-1D89E25E46F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4B54D-D7B0-4FE9-95F0-5264DCD7C980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9C285-4D31-4891-9F28-6B0AC2A54C3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56F95-8471-4493-B225-015E3B323DA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A2255-B541-4F0D-A824-2B4A44B0B49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10F6-2621-4C25-A02F-D559E2E2532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E828D-66E8-46D9-9466-F5B2431E5F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0A6D5-D576-45EC-BA5E-9F50EB54676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5DBD-1B56-4DDF-B278-53EB212F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78F7-434A-42B2-A692-F26E034F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282-7CE4-40CD-BF02-0BF0F48B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8BF2-E0EA-43FB-93D3-6B5519A7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2864-9DCF-4C52-9D0D-A1527AD5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877E-C008-40AD-9859-EBABC39A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447-D982-42FD-9962-5F6EA084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827E-3919-4549-84D7-B58477E7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EAF8-20E6-4D89-B5FC-112A91D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9F25-1A67-4F54-8721-1AE17B3C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A7BA-EB15-4EAD-955F-30D57211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8663-FF8A-4785-B170-2CFE6D4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FB4-DDA0-42C4-B060-0D54142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8D7-F29E-4205-9C84-7F83C0BF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D70C-39EB-4E74-84D7-D871A1C7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65F1-6F6B-47FD-9785-F6D9BD6F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7B681-B520-4259-9EED-4D4965BE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63621-9DDA-47A2-8C8F-AD1ECF04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CFB8-6C0C-484C-9EFF-CF03110A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9FAA-AF40-4EE9-9EE2-63CD598E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941F-3853-45CE-8911-62E5ADF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FCA1A-E131-44CA-B9C4-4A02D943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5D2-5090-4B09-8CB2-FD5C295D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B18A-CD4A-4B3B-B293-5F4079CB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9F78-A789-435E-AF0D-7F3B29FA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E2B0-17E2-48C5-AB05-FF6D93A4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FC547-083B-4A0D-969E-603479B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F9355-D046-4B9E-830F-D72D8498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38D9B-F3B7-4983-A07A-8E5FEE53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A5485-2D8C-410C-9010-5B643F01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3FE-74AE-43EA-9B18-4420DEC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362-065A-43DC-855A-A317DB55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C6E-62E1-4D52-9C06-CA8F5680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8E10-2E35-415F-8CB6-C43E76F2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297E-8371-4DF0-A442-58D4D65A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F18D-D6A7-435C-B08B-6463F81D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353B0B-3CB5-49F1-A740-AF5F620A67EA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53D918-3B60-4536-B2D2-805580248D79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264892-5B95-4542-BB89-5DC08086B8BF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8C2ABF-A77B-442C-B070-567D331FB55D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36E8CC-4525-419E-98E7-BEEC1230CB35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028"/>
          <p:cNvSpPr/>
          <p:nvPr/>
        </p:nvSpPr>
        <p:spPr>
          <a:xfrm>
            <a:off x="3662640" y="716040"/>
            <a:ext cx="534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essandro Lovari, Yahis Mart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per i social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029"/>
          <p:cNvSpPr/>
          <p:nvPr/>
        </p:nvSpPr>
        <p:spPr>
          <a:xfrm>
            <a:off x="3657600" y="27813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1. Teoria della scrittura per i social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31" descr=""/>
          <p:cNvPicPr/>
          <p:nvPr/>
        </p:nvPicPr>
        <p:blipFill>
          <a:blip r:embed="rId2"/>
          <a:stretch/>
        </p:blipFill>
        <p:spPr>
          <a:xfrm>
            <a:off x="295200" y="838080"/>
            <a:ext cx="3210120" cy="486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itolo 4"/>
          <p:cNvSpPr/>
          <p:nvPr/>
        </p:nvSpPr>
        <p:spPr>
          <a:xfrm>
            <a:off x="395280" y="1135080"/>
            <a:ext cx="82296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Qua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egnaposto contenuto 2"/>
          <p:cNvSpPr/>
          <p:nvPr/>
        </p:nvSpPr>
        <p:spPr>
          <a:xfrm>
            <a:off x="250920" y="1989000"/>
            <a:ext cx="41050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seguente all’ora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vere per comunic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egnaposto contenuto 3"/>
          <p:cNvSpPr/>
          <p:nvPr/>
        </p:nvSpPr>
        <p:spPr>
          <a:xfrm>
            <a:off x="4067280" y="1989000"/>
            <a:ext cx="4763880" cy="44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aduta della barriera retorica scritto/parl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diffusione del telefono analogico ha ridotto anche la corrispondenza scritta (comunque limitata alla missiva cartacea tradizionale. Si scriveva per professione (dal giornalista al segretario) o per passione (racconti, poesie e diari), ma pochissimo per comunicare. Ma da sms in poi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itolo 4"/>
          <p:cNvSpPr/>
          <p:nvPr/>
        </p:nvSpPr>
        <p:spPr>
          <a:xfrm>
            <a:off x="395280" y="1125360"/>
            <a:ext cx="822960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Riu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egnaposto contenuto 2"/>
          <p:cNvSpPr/>
          <p:nvPr/>
        </p:nvSpPr>
        <p:spPr>
          <a:xfrm>
            <a:off x="380880" y="1998720"/>
            <a:ext cx="4114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egata alla profilazione degli acces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odificabi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Segnaposto contenuto 3"/>
          <p:cNvSpPr/>
          <p:nvPr/>
        </p:nvSpPr>
        <p:spPr>
          <a:xfrm>
            <a:off x="4572000" y="1998720"/>
            <a:ext cx="41148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ppropriazione dei contenuti dal link, alla cit. alla cop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definizione della proprietà intellettu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fficoltà di valutare criticamente le fon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itolo 4"/>
          <p:cNvSpPr/>
          <p:nvPr/>
        </p:nvSpPr>
        <p:spPr>
          <a:xfrm>
            <a:off x="395280" y="1052640"/>
            <a:ext cx="82296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Dispers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egnaposto contenuto 2"/>
          <p:cNvSpPr/>
          <p:nvPr/>
        </p:nvSpPr>
        <p:spPr>
          <a:xfrm>
            <a:off x="457200" y="1998720"/>
            <a:ext cx="40384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iù quantità &gt; meno val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uove logiche di resistenza del t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frazioni legate alla logica (opposta) della permanenza della scrittura in rete (Diario di FB, per esemp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Segnaposto contenuto 3"/>
          <p:cNvSpPr/>
          <p:nvPr/>
        </p:nvSpPr>
        <p:spPr>
          <a:xfrm>
            <a:off x="4284720" y="1998720"/>
            <a:ext cx="44020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me in ogni contesto economico di infl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esistono spesso testi scorretti (uno status ficcante ma con la punteggiatura sbagliata etc.), adatti a esigenze di varia natura, di fronte alle quali anche chi ha consapevolezza linguistica non commenta e condivid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itolo 4"/>
          <p:cNvSpPr/>
          <p:nvPr/>
        </p:nvSpPr>
        <p:spPr>
          <a:xfrm>
            <a:off x="395280" y="990720"/>
            <a:ext cx="8229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Retroazione tra i diversi pi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Immagine 6" descr=""/>
          <p:cNvPicPr/>
          <p:nvPr/>
        </p:nvPicPr>
        <p:blipFill>
          <a:blip r:embed="rId2"/>
          <a:stretch/>
        </p:blipFill>
        <p:spPr>
          <a:xfrm>
            <a:off x="900000" y="1700280"/>
            <a:ext cx="7266240" cy="49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  <a:ea typeface="Arial"/>
              </a:rPr>
              <a:t>1.2. Come scriviamo sui social network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egnaposto contenuto 7"/>
          <p:cNvSpPr/>
          <p:nvPr/>
        </p:nvSpPr>
        <p:spPr>
          <a:xfrm>
            <a:off x="457200" y="2060640"/>
            <a:ext cx="62024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scrittura cambia in relazione al medi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a esistono denominatori comuni per i 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he di scrittu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dei 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egnaposto contenuto 5"/>
          <p:cNvSpPr/>
          <p:nvPr/>
        </p:nvSpPr>
        <p:spPr>
          <a:xfrm>
            <a:off x="108000" y="1989000"/>
            <a:ext cx="8964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la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versa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dialogicità implicata nella comunicazione scritta sui 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l’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il modo in cui lo stile comunicativo tende costantemente ai registri della lingua parlat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la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ribù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dinamica di ritualizzazione della comunicazione, all’interno di gruppi più o meno aperti e più o meno strutturat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m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pervasività della tipologia commentativa tra gli ambiti funzionali testo scritto, pressoché su tutti i 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itolo 6"/>
          <p:cNvSpPr/>
          <p:nvPr/>
        </p:nvSpPr>
        <p:spPr>
          <a:xfrm>
            <a:off x="395280" y="105264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Sette logiche di scritture per i 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egnaposto contenuto 5"/>
          <p:cNvSpPr/>
          <p:nvPr/>
        </p:nvSpPr>
        <p:spPr>
          <a:xfrm>
            <a:off x="108000" y="1989000"/>
            <a:ext cx="8964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la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quant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dilatazione degli spazi di scrittura, sia in ordine alla tipologia, sia in ordine alla disponibilità per ogni ambit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u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tendenza al riciclo e al rimescolamento dei testi scritti che domina la rete in genere, e soprattutto i 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della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spers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, la tendenziale mancanza di memoria di una scrittura, quella sui SN, orientata perlopiù dalla quotidianità e dalla ripetitività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itolo 6"/>
          <p:cNvSpPr/>
          <p:nvPr/>
        </p:nvSpPr>
        <p:spPr>
          <a:xfrm>
            <a:off x="395280" y="1052640"/>
            <a:ext cx="842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Sette logiche di scritture per i 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itolo 4"/>
          <p:cNvSpPr/>
          <p:nvPr/>
        </p:nvSpPr>
        <p:spPr>
          <a:xfrm>
            <a:off x="395280" y="990720"/>
            <a:ext cx="8229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Convers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egnaposto contenuto 2"/>
          <p:cNvSpPr/>
          <p:nvPr/>
        </p:nvSpPr>
        <p:spPr>
          <a:xfrm>
            <a:off x="457200" y="2071800"/>
            <a:ext cx="461952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hat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eer to pe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ha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versazione indiretta o pseudoconvers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egnaposto contenuto 3"/>
          <p:cNvSpPr/>
          <p:nvPr/>
        </p:nvSpPr>
        <p:spPr>
          <a:xfrm>
            <a:off x="4648320" y="2071800"/>
            <a:ext cx="40384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hiacchiera e fatic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ogica partecip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dialogo tra repertori e patrimoni multimediali, artistici ed esteti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itolo 4"/>
          <p:cNvSpPr/>
          <p:nvPr/>
        </p:nvSpPr>
        <p:spPr>
          <a:xfrm>
            <a:off x="395280" y="98100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Oralit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egnaposto contenuto 2"/>
          <p:cNvSpPr/>
          <p:nvPr/>
        </p:nvSpPr>
        <p:spPr>
          <a:xfrm>
            <a:off x="457200" y="2031840"/>
            <a:ext cx="4038480" cy="40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aratteristiche cogni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aratteristiche linguisti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ralità second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ermanenza enunci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egnaposto contenuto 3"/>
          <p:cNvSpPr/>
          <p:nvPr/>
        </p:nvSpPr>
        <p:spPr>
          <a:xfrm>
            <a:off x="4211640" y="2031840"/>
            <a:ext cx="468144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immediatezza, riprogettazione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(bassa densità lessicale, trascuratezza sintattica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Ong e l’oralità di ritor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comunicazione nel qui e 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itolo 4"/>
          <p:cNvSpPr/>
          <p:nvPr/>
        </p:nvSpPr>
        <p:spPr>
          <a:xfrm>
            <a:off x="395280" y="990720"/>
            <a:ext cx="8229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Trib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egnaposto contenuto 2"/>
          <p:cNvSpPr/>
          <p:nvPr/>
        </p:nvSpPr>
        <p:spPr>
          <a:xfrm>
            <a:off x="395280" y="2060640"/>
            <a:ext cx="40384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Neotribalizz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Follower e community lea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pettacolarizzazione e narcis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egnaposto contenuto 3"/>
          <p:cNvSpPr/>
          <p:nvPr/>
        </p:nvSpPr>
        <p:spPr>
          <a:xfrm>
            <a:off x="4643280" y="2060640"/>
            <a:ext cx="4038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Ritualità di condivisi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erarch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ubblicare e comment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ttangolo 4"/>
          <p:cNvSpPr/>
          <p:nvPr/>
        </p:nvSpPr>
        <p:spPr>
          <a:xfrm>
            <a:off x="0" y="501660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La nostra socialità tende a conformarsi secondo un principio per cui è la somiglianza a generare connessione, che è, appunto, il principio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omofili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. Le reti sociali tendono a essere omogenee sia per caratteristiche socio-demografiche che comportamentali, tanto che l’omofilia limita i nostri mondi sociali in modi che hanno conseguenze rilevanti sulle maniere in cu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otteniamo informazion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, sul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attitudin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che ci formiamo e sul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interazion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di cui facciamo esperienza. [G. Boccia Artieri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Stati di connessione: pubblici, cittadini e consumatori nella (Social) network society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Geneva"/>
              </a:rPr>
              <a:t>, Milano, Angeli, 2012, pp. 93-94]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0" y="5013360"/>
            <a:ext cx="341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tolo 4"/>
          <p:cNvSpPr/>
          <p:nvPr/>
        </p:nvSpPr>
        <p:spPr>
          <a:xfrm>
            <a:off x="395280" y="990720"/>
            <a:ext cx="82296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Com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egnaposto contenuto 2"/>
          <p:cNvSpPr/>
          <p:nvPr/>
        </p:nvSpPr>
        <p:spPr>
          <a:xfrm>
            <a:off x="45720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spositivo della scrittura 2.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Verbale o 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dicatore dell’Economia del piece of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egnaposto contenuto 3"/>
          <p:cNvSpPr/>
          <p:nvPr/>
        </p:nvSpPr>
        <p:spPr>
          <a:xfrm>
            <a:off x="464832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i progettano oggetti e ambienti che trasformano ogni contatto con gli utenti in informazione aggiun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i piac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al livello domestico a quello giornalist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Utenti Ame</cp:lastModifiedBy>
  <cp:lastPrinted>2009-04-22T19:24:48Z</cp:lastPrinted>
  <dcterms:modified xsi:type="dcterms:W3CDTF">2013-11-05T10:43:46Z</dcterms:modified>
  <cp:revision>544</cp:revision>
  <dc:subject/>
  <dc:title>Diapositiva 1</dc:title>
</cp:coreProperties>
</file>