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2640" y="695160"/>
            <a:ext cx="455148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388152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152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F5857-81C1-407F-B5BD-DBEA683AECA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4F00B-7997-4D1C-A3A5-B8F7A03DC37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1D2EA-9A5A-4052-9674-9A938D629AF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7EDC7-5F1F-4E1F-B5D3-44250C0BE5B8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C4E50-C411-47BA-BA55-AD5CE2EDDF70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5F558-2233-47D5-8ACF-1B43DB05FD77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F26D4-92D3-4CFA-9105-C32E1328E298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5D10B-4EAD-4334-A569-4E4FDE0AA6C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87CE6-21C0-4C4E-9617-15BCB260A19B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06713-20AA-46B0-B654-7A8FEA088A86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E1D20-F09B-425C-A7F7-1DD9D47EBD62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CFA0A-543B-4C3C-9919-5857BC0ABFF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7A017-0E98-44EE-A570-B7A2208D5EB3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5A2E0-BEE9-4311-A831-C3E1DF90D91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90145-29DE-4564-AD64-3AA507ABFCAE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D16958-89C3-4AE4-B751-EB6E643A459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09738-66EF-47E1-98DE-9527183870AC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702-56F2-4B9A-9C62-6C227B010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CB6-B310-4D02-A739-4F736A83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FCB-CA4C-4281-ABA6-083BED01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C74-04A2-4884-8F85-30204DAD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5052F-2215-44CC-8FCC-FD450D1C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02B9-3409-4B18-AA13-75512711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66D1-1DE9-405E-8BC6-470EA49F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AB64-BCF8-4D09-9BB3-D55FAA38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01DD-5EF7-4790-9369-4391799E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E614-C8C2-467C-B110-DFC9E2B3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A0DC-B9AB-4B9C-AAF7-C627D8CB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53E-EDA8-49F0-8CC4-74BE22EA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25EA-5631-4213-ACF4-68E82E92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953B-A245-4C13-8DDB-E8B84D88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48FC-D051-4A25-9C1C-6BE136C2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1C02-8CD1-43FC-B661-0CE6289C0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AAE5-831B-47A6-B08A-03424B09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DE270-2975-4E9D-9529-A5DE4570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8F7CF-5884-4D40-A8FD-027B191F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08A35-7EEB-4406-A4DD-E7FB6076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F0736-BB11-45F6-A41E-B49F09C8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0E08E-9D6A-4FE9-AC77-9C2119A1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372E-1615-4E2E-AFF4-D367CBBC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2FFA-7A93-4325-A2CA-FB157DEC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67797-5CD0-4FD8-90CE-CD502231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EF5BC-8F4B-45FA-9487-0D49875B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F33DC-A96C-464E-947D-3BBD197E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B737-C09C-462A-8289-956CB5AE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4D19D-5A4B-43B7-B26F-E63C5751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E2EE-2368-4D23-8098-44FAE90BE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30A-B4C5-44F3-A064-013436EE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EC2-7EE4-4C13-B422-C72440A0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F6E-556E-4C10-8AA2-2A5CFF9A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C1F5-B5E0-407E-97F7-3764895D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A02-D027-45D8-A736-E24619C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2E76-A724-4387-BEC5-79B195F9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16900F-4BFC-4E2C-B373-2A13304B2BD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E5A085-6002-4BD2-80E5-1F1464CD3BE7}" type="datetime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AB4614-E7D7-46B1-9CF3-1B9DDF09AF7B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A50F66-4268-4A8B-8495-B8EE090D9BDE}" type="datetime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E6E0D9-DAD6-4F67-A5DC-9E3726DD7CD5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62640" y="716040"/>
            <a:ext cx="5340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lessandro Lovari, Yahis Marta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Scrivere per i social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278136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Arial"/>
                <a:ea typeface="Arial"/>
              </a:rPr>
              <a:t>1. Teoria della scrittura per i social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5200" y="838080"/>
            <a:ext cx="3210120" cy="486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369720" y="1682640"/>
            <a:ext cx="837900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il web 2.0 ha influenzato la scrittura?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posta verso la Rete […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Non è più solo lineare […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È diventata condivisa e collaborativa […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È arricchita dalla conversazione […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È sempre più multimediale […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È sempre più in mobilità […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Può prendere percorsi imprevedibili […] </a:t>
            </a:r>
            <a:r>
              <a:rPr b="0" lang="it-IT" sz="2000" spc="-1" strike="noStrike" u="sng" baseline="100000">
                <a:solidFill>
                  <a:srgbClr val="009999"/>
                </a:solidFill>
                <a:uFillTx/>
                <a:latin typeface="Arial"/>
                <a:ea typeface="Geneva"/>
              </a:rPr>
              <a:t>[1]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Genev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5775840"/>
            <a:ext cx="914400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 baseline="100000">
                <a:solidFill>
                  <a:srgbClr val="009999"/>
                </a:solidFill>
                <a:uFillTx/>
                <a:latin typeface="Arial"/>
              </a:rPr>
              <a:t>[1]</a:t>
            </a:r>
            <a:r>
              <a:rPr b="0" lang="it-IT" sz="1000" spc="-1" strike="noStrike" baseline="10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. Lorenzetti,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Scrivere 2.0. Gli strumenti del Web 2.0 al servizio di chi scriv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Hoepli, Milano, 2010, p. 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746680"/>
            <a:ext cx="341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302256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</a:rPr>
              <a:t>1.1. Modelli di scrittura e scrittura digita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egnaposto contenuto 4"/>
          <p:cNvSpPr/>
          <p:nvPr/>
        </p:nvSpPr>
        <p:spPr>
          <a:xfrm>
            <a:off x="324000" y="2416320"/>
            <a:ext cx="410364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Grande mole di lavori scientifici e divulgati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crittura come prodotto” e “come process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a variabi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ames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Immagine 9" descr="C:\Users\Yahis Martari\AppData\Local\Microsoft\Windows\Temporary Internet Files\Content.Word\hayesflower.jpg"/>
          <p:cNvPicPr/>
          <p:nvPr/>
        </p:nvPicPr>
        <p:blipFill>
          <a:blip r:embed="rId2"/>
          <a:stretch/>
        </p:blipFill>
        <p:spPr>
          <a:xfrm>
            <a:off x="4356000" y="1628640"/>
            <a:ext cx="438804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egnaposto contenuto 3"/>
          <p:cNvSpPr/>
          <p:nvPr/>
        </p:nvSpPr>
        <p:spPr>
          <a:xfrm>
            <a:off x="317520" y="1916280"/>
            <a:ext cx="404028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critto / parla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critto manualmente o al p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critto sui diversi supporti (tablet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critto su divers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terfac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Immagine 6" descr="C:\Users\Yahis Martari\Documents\Scan0001.jpg"/>
          <p:cNvPicPr/>
          <p:nvPr/>
        </p:nvPicPr>
        <p:blipFill>
          <a:blip r:embed="rId2"/>
          <a:srcRect l="0" t="27649" r="0" b="0"/>
          <a:stretch/>
        </p:blipFill>
        <p:spPr>
          <a:xfrm>
            <a:off x="4572000" y="1627200"/>
            <a:ext cx="4546440" cy="4105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Immagine 6" descr="C:\Users\Yahis Martari\Documents\Scan0001.jpg"/>
          <p:cNvPicPr/>
          <p:nvPr/>
        </p:nvPicPr>
        <p:blipFill>
          <a:blip r:embed="rId3"/>
          <a:srcRect l="0" t="0" r="0" b="71857"/>
          <a:stretch/>
        </p:blipFill>
        <p:spPr>
          <a:xfrm>
            <a:off x="179280" y="4208400"/>
            <a:ext cx="45468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egnaposto testo 2"/>
          <p:cNvSpPr/>
          <p:nvPr/>
        </p:nvSpPr>
        <p:spPr>
          <a:xfrm>
            <a:off x="539640" y="1700280"/>
            <a:ext cx="4040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bilità di interazione con diverse interfacce &gt; nuovo concetto di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it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egnaposto contenuto 5"/>
          <p:cNvSpPr/>
          <p:nvPr/>
        </p:nvSpPr>
        <p:spPr>
          <a:xfrm>
            <a:off x="4645080" y="1700280"/>
            <a:ext cx="40417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verse abilità logico-linguistic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verse abilità oculomanu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vers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ool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 disposi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itolo 6"/>
          <p:cNvSpPr/>
          <p:nvPr/>
        </p:nvSpPr>
        <p:spPr>
          <a:xfrm>
            <a:off x="2376360" y="1052640"/>
            <a:ext cx="43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In sinte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egnaposto contenuto 7"/>
          <p:cNvSpPr/>
          <p:nvPr/>
        </p:nvSpPr>
        <p:spPr>
          <a:xfrm>
            <a:off x="457200" y="2031840"/>
            <a:ext cx="822960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L’universo della scrittura in ret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è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empre più ampi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empre più legato a caratteristiche particolari di scriventi particolari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ll’interno di nuovi vincoli generali legati alla differenziazione dei media di scrittu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egnaposto contenuto 3"/>
          <p:cNvSpPr/>
          <p:nvPr/>
        </p:nvSpPr>
        <p:spPr>
          <a:xfrm>
            <a:off x="755640" y="2060640"/>
            <a:ext cx="7559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Contents user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ncora più sfumato perché cade la figura del web 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Interfacce differenziatiss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Difficoltà di definizione stilis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itolo 6"/>
          <p:cNvSpPr/>
          <p:nvPr/>
        </p:nvSpPr>
        <p:spPr>
          <a:xfrm>
            <a:off x="2376360" y="1052640"/>
            <a:ext cx="43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E il web 2.0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egnaposto contenuto 3"/>
          <p:cNvSpPr/>
          <p:nvPr/>
        </p:nvSpPr>
        <p:spPr>
          <a:xfrm>
            <a:off x="684360" y="1989000"/>
            <a:ext cx="777528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alvolta rappresentano precise variabili diamesiche (Linked I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Talvolta comprendono molte logiche di scrittura diverse (piattaforme come F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itolo 6"/>
          <p:cNvSpPr/>
          <p:nvPr/>
        </p:nvSpPr>
        <p:spPr>
          <a:xfrm>
            <a:off x="2376360" y="1052640"/>
            <a:ext cx="4392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E i Social Net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Scrittura e social net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"/>
          <p:cNvSpPr/>
          <p:nvPr/>
        </p:nvSpPr>
        <p:spPr>
          <a:xfrm>
            <a:off x="324000" y="1986480"/>
            <a:ext cx="8208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DejaVu Sans"/>
              </a:rPr>
              <a:t>Lo stile del web ci appare una chimera perché proprio l’intrecciarsi delle conversazioni ci dimostra ogni giorno che esistono tanti stili del web quante le persone e le aziende che convers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a"/>
                </a:solidFill>
                <a:latin typeface="Arial"/>
                <a:ea typeface="DejaVu Sans"/>
              </a:rPr>
              <a:t>Niente di più difficile e forse inutile, quindi, di cercare di definire come si scrivono le conversazioni, i blog e gli stessi siti nel Web 2.0.</a:t>
            </a:r>
            <a:r>
              <a:rPr b="0" lang="it-IT" sz="1400" spc="-1" strike="noStrike" u="sng" baseline="100000">
                <a:solidFill>
                  <a:srgbClr val="009999"/>
                </a:solidFill>
                <a:uFillTx/>
                <a:latin typeface="Arial"/>
                <a:ea typeface="DejaVu Sans"/>
              </a:rPr>
              <a:t>[1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5753520"/>
            <a:ext cx="914400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 baseline="100000">
                <a:solidFill>
                  <a:srgbClr val="009999"/>
                </a:solidFill>
                <a:uFillTx/>
                <a:latin typeface="Arial"/>
              </a:rPr>
              <a:t>[1]</a:t>
            </a:r>
            <a:r>
              <a:rPr b="0" lang="it-IT" sz="1000" spc="-1" strike="noStrike" baseline="100000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. Carrada,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Mestiere di scriver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, Apogeo, 2007, p. 1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746680"/>
            <a:ext cx="3419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Roberta</cp:lastModifiedBy>
  <cp:lastPrinted>2009-04-22T19:24:48Z</cp:lastPrinted>
  <dcterms:modified xsi:type="dcterms:W3CDTF">2013-10-31T15:31:14Z</dcterms:modified>
  <cp:revision>527</cp:revision>
  <dc:subject/>
  <dc:title>Diapositiva 1</dc:title>
</cp:coreProperties>
</file>