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2640" y="695160"/>
            <a:ext cx="4551480" cy="340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588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dt" idx="10"/>
          </p:nvPr>
        </p:nvSpPr>
        <p:spPr>
          <a:xfrm>
            <a:off x="3881520" y="-36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0" y="868644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1520" y="8686440"/>
            <a:ext cx="295416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DCE6C-02C9-49FA-B045-B2F3ADC9168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AC390-1E9F-42E6-9B0A-53B7958F93DC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8760" cy="40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6CFF2-BD42-4E91-A14A-84F4AB4AC2D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5024A-C012-4920-AF95-5AC360707809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92FAA-E16A-4BE5-9FAD-DB9127A2FE09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647C1-D410-4223-A7AD-E4B9982F67D2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662EF-D421-4BA6-A48E-D2CAC639E061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81B45-EA17-47B1-8BF7-2B75D62D9B72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4A6F1-8CE4-4F40-9C5E-309BBD79E56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247E7-05C6-48F7-BB79-C18C87582D96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905B3-314B-4396-B7DE-23FAAB8D49C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6876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440" y="4344840"/>
            <a:ext cx="54738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2CBA9-0474-4F54-A5F5-8F6E8A5D901B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37400-A500-494D-9DAF-0EFBE22C2F5C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30856-F995-4149-888D-7BA0CF7CBA7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81408-A6B9-4E15-BFA9-93094B2EDE0B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930B9-B0D0-4E7A-ABC3-7CA263C94E7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19BC4-3F42-437E-AAF8-F7F64FF66C66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6F6EC-3E99-4780-A120-AC1436981EDD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1FA45-A9D1-4015-9457-8507C9F44C32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85FD8-6BEA-410F-AD8B-7B3EAB6BBE7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8F484-4F10-49D3-83E6-0CBB4840B62F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E7CB3-E109-41A2-9047-6323D02B9983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2DE33-6AC3-4834-9C25-5C238FA45302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8"/>
          <p:cNvSpPr/>
          <p:nvPr/>
        </p:nvSpPr>
        <p:spPr>
          <a:xfrm>
            <a:off x="3881520" y="8686800"/>
            <a:ext cx="29541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8EE54-F97C-4BAB-9952-CEE9ACA2377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9AF65-120A-406F-815C-608C20A1D71B}" type="slidenum"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950C-88B0-45F7-B300-8BDD2561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64E-2251-400D-A063-DAB088ED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52C-091C-45A3-8C4C-1143B137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36B-DDFD-4D7F-A370-80CEE3BA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B7E3-6924-46A8-9DD2-1A937DBE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38C7-1BEB-4B17-B729-2A36E122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8906-E277-4EEB-A69F-9053CF66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BBFE-B78C-457C-AD7D-EFE6A133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82BB-9BA3-4EB4-BE34-7B569F09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D476-5FC9-4986-8A1F-6E5B295A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6C31-A21A-4FA2-AC26-F251F191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E4D-EF0A-47A4-BD29-3899B198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264D-8FC7-433F-80CE-A9F1E536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155B-4E64-4D1B-BCB3-356BFF3E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6BCA-F8E4-4E0A-BC35-8722637C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9FE7-0167-40D0-8164-D16552DE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B2DF-3B65-4819-8ECE-67A1C99A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B58A8-1C70-4735-8776-BB67099F4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59E49-8766-4DFD-81C6-3012A353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C7222-ADF0-43F5-A1CC-658387F5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45BDE-D238-45F6-8758-00003294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9F5B6-7D22-410F-A9B9-48C49F24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D9C-7137-46B4-A4D8-4BCDD642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AB611-8C6C-4985-99E5-CDF27A84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EE5F-2B4B-471F-8F7B-D2664CD1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ED5A4-38F6-4B4F-84DF-EA51E857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0EA98-FFD6-4E49-8963-7A21C033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02A3-49F0-456D-B922-B36EF351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FC86-855D-44A5-A05D-481AC9D3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18A6C-F143-4C7B-9856-8ED14B27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99A5-95AC-4A4E-846E-10427B84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3A71-4811-4EA8-A4AC-9424EF0B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8FA9-1393-435F-A224-A14035B9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F03-EAC0-4A97-A4E0-D6F13A67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847-9EE9-450C-B412-E5F60356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0F1-1DF1-40A6-9F63-DAA3B856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A816C7-AFD5-4526-BC1A-1F04883CCD1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4BDE8E-09D1-4AD1-B8CB-86C0381D8390}" type="datetime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164CCA9-6105-4C06-8EBA-8C57472C8C71}" type="slidenum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BBF3FE-0B1F-4F25-B550-03D3ECD7D4B9}" type="datetime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BE247E-645C-4564-9328-A493F926DB2E}" type="slidenum"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62640" y="716040"/>
            <a:ext cx="5340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lessandro Lovari, Yahis Marta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  <a:ea typeface="Arial"/>
              </a:rPr>
              <a:t>Scrivere per i social net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2781360"/>
            <a:ext cx="437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Arial"/>
              </a:rPr>
              <a:t>Benvenut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  <a:ea typeface="Arial"/>
              </a:rPr>
              <a:t>nel web socia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95200" y="838080"/>
            <a:ext cx="3210120" cy="4861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  <a:ea typeface="Arial"/>
              </a:rPr>
              <a:t>Non solo per teenag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2720" y="123336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successo d’uso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trasversa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maggiore incremento nel numero di nuovi iscritti, principalmente su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ceboo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è nelle fasce di adulti over 35, con significativi picchi nella popolazione anziana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ilver surfer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. La maggiore frequenza d’uso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invece nei segmenti demografici più giovani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heavy user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sto scenario è presente sia a livello internazionale che italiano. In Italia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iù conosciuto e utilizzato è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ceboo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seguito d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YouTub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Interessante è la grande crescita degli iscritti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witte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successo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cial med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favorito anche dallo sviluppo degl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martph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able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dispositivi che consentono di navigare in rete in mobilità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navigazione da piattaforma mobile influenza sia le modalità di interazione che le pratiche di scrittura dei testi digital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79280" y="287280"/>
            <a:ext cx="849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  <a:ea typeface="Arial"/>
              </a:rPr>
              <a:t>Orientandosi tra le piattaform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1197000"/>
            <a:ext cx="7921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canto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cial network site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eneralis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i stanno affermando anch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NS tematic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ncentrati su specifici argomenti (ad es. cucina, viaggi, istruzion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Italiani, secondo una ricerca 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w Research Cente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2012), amano condividere e ricercare su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musica e film (75%). Il 64% produce e condivide contenuti politici e di interesse genera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iù famoso nel mondo e in Italia è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ceboo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secondo i dati dell’Osservatorio Social Media di BlogMeter sono oltre 23 milioni gli utenti attivi su Facebook, di cui 15 milioni si collegano quotidianamente e 10 lo fanno da smartphone o tabl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gli anni Facebook ha modificato e articolato la sua presenza sul web: accanto ai profili personali sono nati 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rupp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an pag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oggi chiama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ike pag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Sono cambiate le proprietà della piattaforme, e quindi le modalità di interazione. Recentemente è stato introdotto il diario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  <a:ea typeface="Arial"/>
              </a:rPr>
              <a:t>Twitter e gli altri foll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7800" y="1189080"/>
            <a:ext cx="809784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witte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una piattaforma ibrida tra il microblogging e il SNS che ha recentemente attirato l’attenzione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dia mainstream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Il suo tasso di adozione è in cresci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utilizzato anche da politici, aziende, organizzazioni no profit per attività di ufficio stampa, public relations e raccolta fondi. Consente forme di disintermediazione dell’informazione, bypassando le strutture giornalistiche. Un crescente uso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witte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quello durante la fruizione di programma televisivi (talk show, talent show, ecc), portando alla nascita di quella che viene definita «social tv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  <a:ea typeface="Arial"/>
              </a:rPr>
              <a:t>Twitter e gli altri follow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7800" y="1189080"/>
            <a:ext cx="80978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t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attaforme social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n interessanti livelli di utilizzo da parte degli utenti italiani son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inkedIn, Google+ e Pinteres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ognuna di queste piattaforme sono presenti spazi di discussione e bacheche dove sono postati testi, fotografie e filmat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testi scritti su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cial med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variano nel grado di formalità/informalità e spaziano dalla scelta di un tag, all’argomentazione di temi, fino alla presenza di dispositivi fatici per stimolare il contatto e la relazione con gli utent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0" y="2519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  <a:ea typeface="Arial"/>
              </a:rPr>
              <a:t>Benvenuti nel web socia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7640" y="32050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  <a:ea typeface="Arial"/>
              </a:rPr>
              <a:t>Web 2.0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  <a:ea typeface="Arial"/>
              </a:rPr>
              <a:t>Social medi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500" spc="-1" strike="noStrike">
                <a:solidFill>
                  <a:srgbClr val="4c4c4c"/>
                </a:solidFill>
                <a:latin typeface="Arial"/>
                <a:ea typeface="Arial"/>
              </a:rPr>
              <a:t>Social network (sites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"/>
          <p:cNvSpPr/>
          <p:nvPr/>
        </p:nvSpPr>
        <p:spPr>
          <a:xfrm>
            <a:off x="250920" y="1270080"/>
            <a:ext cx="8496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Web 2.0, social media e social network (sit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apire la differenza tra i tre termini e le relazioni tra di lo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sa è il web 2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sa sono i media soci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sa sono i social network sites (S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unti di forza e criticità dei SNS nel web scrivib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Why social network matter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NS e consumi medial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so dei SNS da parte di aziende, istituzioni e altre tipologie di organizzazi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li utenti dei S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ocial media e popolazione itali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Arial"/>
              </a:rPr>
              <a:t>Come orientarsi tra le piattaforme: Facebook e i suoi foll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ati sui principali SNS: utenti e attività svolte sulle piattafor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grande successo di Facebook e l’ascesa di Twi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5760" indent="-163440">
              <a:tabLst>
                <a:tab algn="l" pos="0"/>
                <a:tab algn="l" pos="185760"/>
                <a:tab algn="l" pos="633240"/>
                <a:tab algn="l" pos="1082520"/>
                <a:tab algn="l" pos="1531800"/>
                <a:tab algn="l" pos="1981080"/>
                <a:tab algn="l" pos="2430360"/>
                <a:tab algn="l" pos="2879640"/>
                <a:tab algn="l" pos="3328920"/>
                <a:tab algn="l" pos="3778200"/>
                <a:tab algn="l" pos="4227480"/>
                <a:tab algn="l" pos="4676760"/>
                <a:tab algn="l" pos="5126040"/>
                <a:tab algn="l" pos="5575320"/>
                <a:tab algn="l" pos="6024600"/>
                <a:tab algn="l" pos="6473880"/>
                <a:tab algn="l" pos="6923160"/>
                <a:tab algn="l" pos="7372440"/>
                <a:tab algn="l" pos="7821720"/>
                <a:tab algn="l" pos="8271000"/>
                <a:tab algn="l" pos="8720280"/>
                <a:tab algn="l" pos="9169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crittura, testi e immagini: esplorando i S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  <a:ea typeface="Arial"/>
              </a:rPr>
              <a:t>Benvenuti nel web soci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24000" y="125100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web 2.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è un’evoluzione del web di prima generazione (1.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Ad una fruizione dei contenuti sostanzialmente passiva con limitata interazione, si contrappone un web di seconda generazione che abilita nuove forme di collaborazione, condivisione di contenuti e interazione tra gli uten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i passa da una concezione del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Rete di tipo top-dow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a una dal basso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ottom up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) caratterizzata dalla produzione e distribuzione di contenuti prodotti dagli utenti (ugc=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ser generated conten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passaggio a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, che si fa risalire alla metà degli anni 2000 (O’Really 2005), è favorito dall’intensità e dalla facilità con le quali queste attività possono essere realizzate dagli utenti all’interno della ret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 cambiamenti 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web 2.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non sono solo tecnologici (software e applicazioni) ma anche sociali, di uso di queste piattaforme da parte dei cittadin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 questo senso si comincia a parlare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ocial med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  <a:ea typeface="Arial"/>
              </a:rPr>
              <a:t>Il web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  <a:ea typeface="Arial"/>
              </a:rPr>
              <a:t>Social Me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546880" y="1365120"/>
            <a:ext cx="32763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720" y="1197000"/>
            <a:ext cx="813600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vero cambiamento è nei comportamenti degl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tilizzatori della re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he hanno scoperto n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uno spazio nuovo per esprimere la propria identità, sviluppare relazioni sociali, condividere idee, creare servizi e prodot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questo scenario si inserisce la definizione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cial med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efinizione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cial med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iù condivisa in letteratura è quella di Kaplan e Haenlein (2010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«Social media sono un gruppo di applicazioni basate su internet, costruite sui fondamenti ideologici e tecnologici del web 2.0, che consentono la creazione e lo scambio di contenuti generati dagli utenti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  <a:ea typeface="Arial"/>
              </a:rPr>
              <a:t>Social Med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46880" y="1365120"/>
            <a:ext cx="32763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119700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sta definizione, oltre a mettere in relazion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web 2.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cial med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propone anche una classificazione dei divers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ip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social medi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llo che caratterizza 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edia soci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la loro flessibilità nel soddisfare i bisogni e le capacità sociali dei cittadini. 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cial med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bilitano e stimolano le relazioni e la partecipazione degli utenti connessi in re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CasellaDiTesto 2"/>
          <p:cNvSpPr/>
          <p:nvPr/>
        </p:nvSpPr>
        <p:spPr>
          <a:xfrm>
            <a:off x="3635280" y="3357720"/>
            <a:ext cx="482436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Progetti collaborativi (ad.es. Wikiped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Blo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omunità di contenuti (YouTube, Flick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Siti di Social Network (Facebook, ec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ondo di gioco virtual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Mondi sociali virtua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Fonte: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Kaplan e Haenlein (201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0200" y="4016520"/>
            <a:ext cx="29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ipologie di social medi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  <a:ea typeface="Arial"/>
              </a:rPr>
              <a:t>Social Network Si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1198440"/>
            <a:ext cx="799308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erenze tr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cial Network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cial Network Site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revedono la presenza di una piattaforma digitale che abilita la creazione di reti sociali all’interno del web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rima definizione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i deve a Boyd e Ellison (2007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tratta di un servizio basato sul web che consente all’utente 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costruire profilo pubblico o semipubblic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creare una lista di utenti con cui condividere connessioni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vedere e attraversare le liste di connession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elemento che differenzia 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alle alt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attaform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è proprio quello di rendere visibili le propri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ti socia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ssieme alla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elf presentation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’individuo (Comunello 2010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’interno del web 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bilitano la creazione di legami deboli (Granovetter 1973), aumentano il capitale sociale degli individui, favoriscono nuove forme di relazionalità e di contatto, vengono utilizzati per attività spesso in continuità con le scel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ff li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le pers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  <a:ea typeface="Arial"/>
              </a:rPr>
              <a:t>Web sociale e scrivibi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1197000"/>
            <a:ext cx="8208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arte della rete nella quale si sviluppano 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attaforme 2.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le conseguenti relazioni tra gli utenti viene definit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web socia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ocial web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zie alle applicazion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alla loro facilità d’uso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i trasforma d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ggib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crivibi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writabl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, rivoluzionando il modo di fare e distribuire comunicazione e contenuti on line. Secondo Castells (2009) si arriva alla nascita della comunicazione di massa per le mas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venta un grand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pazio pubbli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ove coesistono e si intrecciano produzioni dall’alto e dal basso, testi confezionati da professionisti, organizzazioni e da semplici cittadin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importante ricordare che oltre alle opportunità esistono anche alcune criticità nell’adozione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attaforme 2.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particolare viene messa in discussione la presunt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ibertà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gli utenti dei social media e si evidenzia l’affermarsi di nuove forme di sfruttamento dei cittadini da parte di aziende e organizzazioni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2872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  <a:ea typeface="Arial"/>
              </a:rPr>
              <a:t>L’importanza dei SN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6360" y="1197000"/>
            <a:ext cx="81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iffusione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cial med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 in particolare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cial network site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embra inarrestabile, sia in termine di crescita del numero di utenti che per le nuove funzioni per le quali sono impiega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particolare le amministrazioni pubbliche e le aziende sembrano avere individuato in queste piattaforme strumenti strategici per comunicare direttamente con cittadini e clienti, innovando linguaggi e forma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ventano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touch point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l’utenza, attivando forme bidirezionali di interazione e agiscono da veri e propri canali di vendita (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ocial commer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penetrazione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i consumi mediali è in continua crescita e non coinvolge solamente la fascia dei teenagers e dei giovani adult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i sono numerosi modi di classificare gli utenti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N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tra cui quello legato alla frequenza d’uso e al numero di piattaforme utilizzate (Hargittai e Hsieh 2011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1:56:42Z</dcterms:created>
  <dc:creator>SILVANA</dc:creator>
  <dc:description/>
  <dc:language>en-US</dc:language>
  <cp:lastModifiedBy>AME</cp:lastModifiedBy>
  <cp:lastPrinted>2009-04-22T19:24:48Z</cp:lastPrinted>
  <dcterms:modified xsi:type="dcterms:W3CDTF">2013-11-20T09:18:27Z</dcterms:modified>
  <cp:revision>538</cp:revision>
  <dc:subject/>
  <dc:title>Diapositiva 1</dc:title>
</cp:coreProperties>
</file>