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4644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494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22B76-6709-4903-814E-FD45961F36E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CEFB9-98D3-4C7C-B7C8-010B341CA1F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F98EB-8122-44C5-B453-74FF57AFC4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C2AB5-97B3-4FB5-A6B6-48211010F8A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81A37-E4C1-476B-B220-EBC1895CF46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EE4FB-3348-405E-B4E9-8D26D235252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AF8D3-4D5C-4379-B6FA-575275C5DB0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0D524-F45D-41C6-AC8E-56DFA8AA74F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5B600-E38E-490A-BEEC-6F1CD70AFE0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985C9-51A9-4D93-88F7-F65DCDFE3E5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FD9CD-71C3-47BA-A29C-4879E3A8CC4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AD6CC-95CC-4E2B-92D8-3E0DBF89699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F2CA3-5574-4657-B031-0D42D5C47C5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6A4B0-F21B-4CF7-A463-3EB6040054C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794E-0B9C-4CB5-B913-671E98ABE48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C0428-AE53-4C1E-AD92-37A9E3D0457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DBAB7-1E6C-436C-B3E0-9CD27711B46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02EA7-7D6B-4EDD-B011-30DE14085A7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A8FB3-CE8D-486D-8890-7E7B0567D1B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3340C-640D-42E2-9A45-5E285A27F66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6A86E-CC80-4057-A1D7-01FB0C950DD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E943D-4CE8-4B61-A4D1-F8D50968766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96F2F-A3F8-4642-8846-CC9988E2F97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9D190-C5B0-4D25-A894-FA0E8053BBC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9C023-EACF-4F6D-A85B-BC29152461F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6E43-B6A0-475C-8B52-6AF295EFAA1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E4DE1-A046-4B5B-BC2A-07058823FD9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926D-CB88-4499-9FBD-92BFFBD383E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E9BD2-EE73-4B0C-BC72-E022E97ACD2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E3EFA-0B6E-4EF7-9836-2E0B0A2626A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1A27E-B00F-416D-8DB1-5AC576BBF11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EE9D2-32C8-4163-99A1-17507919069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64CDB-219F-4715-994B-E2AAD67C87FB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65BCE-74C8-4A3A-A66C-F527B87CF95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3579F-B3B8-4708-9B2B-B1F8DC0CC23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86E7A-9197-4AD6-993E-DE547D2991A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143A-C9E9-4A7B-8096-7F407E10A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5F4D-981A-488F-B141-5CA4473FD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FC9D-E64C-4DB1-87BE-5A82713C6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D11A-2797-4987-8A11-E7750D589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C7D-3CB8-4D7D-BA84-DADA55D24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038-ED1E-4D07-93A1-59160B61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949-8B00-4F41-957B-FADFF635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C95-8D74-4C8E-AC95-48242911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724-87C1-4206-B22E-3DBE292D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F7F-3480-45CC-908C-C63A1CB4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8D7-8059-47D3-A9D5-7B21D642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A392-855D-4B1F-82EB-542B7315A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134-BA27-4196-8E5E-B6408395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5F8-EBD3-447E-9FB6-5F6800F3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D46-BB9F-4F06-B097-970802B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A1E-8F85-4DD8-BFBE-8EFC5D0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102-29D0-421E-8B51-D8EE0407BB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FBDCF-4B4C-4C8A-94DE-06A221ADA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13BB9-80D7-49DE-AF07-54C95756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1AE71-11DD-408C-91E7-1EFE292F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8C983-20E8-4FA1-8D64-969B80E9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61A33-CE87-453D-A4E5-9E469C62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5054-B569-44D6-A678-AA41EE80ED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9691A-4262-4A33-997F-3F384FA2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7EE4F-A6F2-40C1-9EF1-39A30CF0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BA693-1545-4426-AC08-582CE97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997C6-33A4-4C35-B1F5-A792F76E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0B824-D22D-4F4E-A06F-AEC029B4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77393-4110-4367-AEDC-C83A4C0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DE0F6-F8E9-428F-BB76-518D50577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C21A-F494-487B-93EA-519266590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78C5-DF95-4B91-A6D4-D7A77932A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2CC7-B38B-4BD7-B1B3-BF266942E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4D29-813E-4F04-9DBE-0D7A21E34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3074-7E2F-414F-8627-F2D113285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BF56-932A-400C-B164-A77369A15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218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5D7EA-67D9-4FD4-8C49-6E2461EB48ED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9CAC8-4435-4548-A749-F2221EFAF557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5A44D-89C3-4A37-8AE1-B07C6CCCB68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91E0-A50E-49D9-AABB-76D92CC3927A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7E73A-4B85-4CA4-841E-B0663B341A7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5560" y="72072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nna Pizzetti - Monica Zanar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Scrivere Newsletter e 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26080" y="2781360"/>
            <a:ext cx="509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DEM: che cos’è</a:t>
            </a:r>
            <a:br>
              <a:rPr sz="5000"/>
            </a:b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e come si scriv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640" y="620640"/>
            <a:ext cx="3152880" cy="516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Per una DEM efficace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125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eggerezza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esagerare con gl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lementi grafi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rischierebbero di appesantire la mail limitando le possibilità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aper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arsimonia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itare l'effett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talk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non essere troppo insist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ntattando continuamente i destinatari. Meglio un messaggi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una tantu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a ben calibrato e non aggress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ndivisione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Facilitare lo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har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nserendo dei contatti di condivisione sulle piattaform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la possibilità di inoltro diret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rrettezza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are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normative sulla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privac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fornendo sempre al destinatario la possibilità di rimuovere il proprio nominativo da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forni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enuti veritie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vitando pubblicità ingannevoli o dubb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ccorgimenti tecni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Nuove esigenze per nuovi support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DEM in sintesi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12536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mmag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scrive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e immagini contenute nel messaggio: anche qualora non fossero visualizzabili dall'utente, il contenuto giungerà comunque a destinazi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tabell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mensioni fis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er evitare il rischio di una visualizzazione deformata del messagg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Call to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licit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forma testu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all to ac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n modo che possa raggiungere l'utente anche nel caso di problemi con la visualizzazione gra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isolu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ger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particolare le immagini, per agevolare l'apertura anche su support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ob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DEM in sintesi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6560" y="1125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re un codice HTML il più possibile semplice e lineare, ma prevedere in ogni caso anche un messaggi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solo tes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possa essere letto da qualunque perifer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Oggetto e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pre-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licitare il contenuto già con oggetto 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re-head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messagg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tanzi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contenuti e i link, in modo che siano facilmente attivabili anche da support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ouch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chiedono l'attivazione attraverso le d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guire dei test di invio per verificare la corretta resa grafica e testuale del messaggio da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posta diversi e su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ppor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ssimili, in modo da correggere preventivamente eventuali errori di visualizzazi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he cos'è una D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I vantaggi dell'</a:t>
            </a:r>
            <a:r>
              <a:rPr b="0" i="1" lang="it-IT" sz="2500" spc="-1" strike="noStrike">
                <a:solidFill>
                  <a:srgbClr val="4c4c4c"/>
                </a:solidFill>
                <a:latin typeface="Arial"/>
              </a:rPr>
              <a:t>email marke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campagna D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125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ntenuti di una 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DEM ha contenu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mozionali e pubblicita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nviti a eventi, promozioni, pubblicità diretta per incentivare l’acquisto di prodotti o servizi, sconti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eculiarità di una 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ntenuto della DEM si esaurisce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unico inv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Vale a dire che ciascuna DEM promuove prodotti, servizi o eventi differen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DEM invita a una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all to ac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vale a dire: intende spingere il destinatario a compiere un'azione specifica (recarsi in negozio, effettuare un acquist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artecipare a un evento, cliccare su un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nding p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ecc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Vantaggi di una campagna 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ossibilità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sonalizz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messagg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ianificazion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argettizzab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 parametri quali età, sesso, ecc., in base al livello di profilazione de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isponibilità di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i risultati ottenu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e scrivere una D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Raggiungere gli utenti senza finire nello SPA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7280" y="1501920"/>
            <a:ext cx="849636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timolare la curios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ceglie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poche paro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a efficac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oncentrarsi su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antagg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quanto offer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vitare titol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d eff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rivilegiando la serietà e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obrie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fferenziarsi dallo SP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Non essere invadenti o aggressivi (rischiando di diventare inopportun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vitare termini com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gratis, omagg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cc., che potrebbero essere intercettati dai filtri anti-Sp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'ogget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7280" y="1214280"/>
            <a:ext cx="849636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Equilibrio e sobrie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itare l'utilizzo di termini tropp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oboant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i rischia di perdere credibilità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esagerare con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magin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er non appesantire la mail e per non corr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schio di essere classificati come spa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intesi e chiare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aurire l'intero contenuto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chi termi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plici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tere in evidenza la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all to ac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ed eventualment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ibadirl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possibile, suddividere il testo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graf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racchiudere il contenuto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ngola scherm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Layout</a:t>
            </a: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 e contenu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Il vocabolario di una DEM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aiuscole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vi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'utilizzo diffuso di maiuscole (nella comunicazione scritta equivale a gridare); utilizzarle, se necessario, solo per le informazioni principa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uperlativi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rl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 parsimon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la bontà del prodotto/evento dovrebbe essere evidente senza bisogno di evidenziarla. Un eccesso di superlativi rischia di destare sospet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unteggiatura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vi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'utilizzo di punti interrogativi e superlativ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sequ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è una prassi scrittoria indisponente, e induce a conferire scarsa fiducia al mitt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pam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vi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termini comunemente utilizzati dallo spam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maggio, regalo, urgente..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olori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ilegia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oni neut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evitare il rosso (che veicola l'idea di un messaggio poco affidabile) e limitare l'utilizzo del verde e del blu (la comunicazione non deve essere invaden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Il vocabolario di una DEM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1746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ollecitazioni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Non incalz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destinatario con termini com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ffrettati, sbrig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cc.: mettere l'utente sotto pressione potrebbe indisporlo nei confronti della promozi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ink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splici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contenuto dei link che proponiamo al destinatario, evitando espressioni generiche com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licca qu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isita il si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nza ulteriori precisazio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ont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vi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'utilizzo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font troppo picco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l messaggio deve raggiungere agevolmente il lettore, senza affaticar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ccenti e apostrofi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vitare termini accent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ostituendo l'accento con l'apostrofo. Non è corretto grammaticalmente, ma alcuni sistemi di decodifica non sono in grado di riconoscere i termini accenta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efusi: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erificare la correttez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grammaticale del messaggio, evitando refusi o errori. Un testo sciatto veicola l'idea di un mittente poco affidab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Per una DEM efficace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12536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rofilazion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ilegiare l'invio a una lista di contatti profilata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vitando il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ailing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a tappe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ersonalizzazione: 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alibr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in funzione de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riferimento, profilando gli utenti con l'aiuto dei test di veri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obrietà: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tenere uno stile sobrio, evitando toni invadenti o aggressivi; la grafica dovrebbe esse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ccattivante, ma rassicura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emplicità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re in mod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intetico ma esauri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l'utente non deve avere dubbi sul prodotto, servizio o evento promos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hiarezza: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all to ac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ve esse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splici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dentificabile chiaramente sin dall'ogget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4-07-20T15:40:41Z</dcterms:modified>
  <cp:revision>524</cp:revision>
  <dc:subject/>
  <dc:title>Diapositiva 1</dc:title>
</cp:coreProperties>
</file>