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2640" y="695160"/>
            <a:ext cx="454500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9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152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6"/>
          </p:nvPr>
        </p:nvSpPr>
        <p:spPr>
          <a:xfrm>
            <a:off x="3881160" y="8686440"/>
            <a:ext cx="294804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274FF-2974-4B57-8312-58D94CE5C46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CC4E9-70B3-40D2-89B3-64D3B86B783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60BBF-F2EF-4D3A-8E22-5F65DEC97B7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A1F8A-C400-4A54-9F2D-E6FFDDC8447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0A9FF-5868-47BF-9FC2-8C35B7577B2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E1560-B37E-46D6-BBD6-8F1A7D47650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E3EC0-C157-47E7-B3EB-638D2357DB0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8E093-DA49-4D73-971C-6F7BC9FAB3B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0587B-C82E-4733-AAF5-1A4E775CE0E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36A2A-EC60-4769-8C10-B92CC451140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8B4A8-B4AC-4D12-B879-360781DE68C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FEF7A-0B2A-463D-990F-ADA6C294902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465C4-B2CD-4698-BD89-FDFAF77578C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37C2F-E31B-4C4C-AC8E-5A3ADBE23EC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6EC82-8BD0-45FD-ADF5-3FE2716B092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6193F-2DAE-4D8B-9056-16ABAB91F4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4C71D-C3B4-48B7-A102-C9B4C2F04517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AFA79-B08B-4174-909C-C66BC3277D5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19AC2-6875-4FF8-82A5-97C2B5AB41A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DACDF-2280-43D3-A716-EF663FA91349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8AB37-EED6-4B1D-AFC8-C61009DC448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B9902-82F2-4350-AE06-5F97EEF1DCA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EAFAD-CF83-480C-9C83-4625F11A3FE4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95274-3F2B-493E-B537-A33516D5ADD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715BF-A8A6-463D-B114-64713D8C5A5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4818E-3C6F-4409-8E33-0C7579D0862B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5F845-9E32-4FBB-A9C8-C34BECA0C88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C97D3-683F-4B14-8EA0-59663239228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FB582-E2CB-4E80-9DCC-8A2674C60CA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6EF7A-68A1-4849-A3E2-8831EB70607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9784A-F636-4733-92C7-9D3A0C242077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3C165-2656-4D25-945F-2400606594B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2C2BA-0417-481B-899D-BF93988184B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E5646-6F65-4E0B-9D57-C2C606DF3F1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D91B5-490C-48CE-B6AD-9497C7F339A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DA870-B29F-456B-A76E-9798FF305802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0BB1A-259C-4CB7-8C91-E8DE5FE2582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3B522-B65D-48CA-AD87-E0D9589B0D1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7CE81-E1F7-440C-A021-13AA52CD9DB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C5347-C059-4713-B66A-23B5EA93E2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F6B88-942C-479C-9D27-4DC2F66C167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CAF9D-3596-4CB7-87F4-7F6F526459C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A28EE-D0B0-4566-9CF6-6136BBA5231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53556-8081-4D07-9C1A-745B6F0F1E2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6F270-EA6F-485E-9D99-1D8ADCF0EB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B5E8F-9E4E-4974-A7E8-365FD209882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54E49-FE6E-47F3-B215-7265BE0C604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CC2E5-4969-451C-B601-B73579A859B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D776E-3DD8-44C6-A16F-D2615CE7095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2DD44-31B1-4941-A0B6-0AD69EFC1554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4D4C4-7916-46A7-B643-D424C8E1381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6E244-DDF8-4FCE-BA9D-DE1645E12CC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A1CF-1D90-422C-AD6F-4A3E4548512F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49063-34AE-48EE-8CD9-620CA3DDCBB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0139A-AB43-4C32-807A-8912374C7BE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EE860-B7C6-4B54-B140-8F90FB673BB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96E0B-FE91-4024-9998-EA9A3421646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15DC3-63E3-4BC2-966C-50976B0DB4F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201C6-4269-4430-9501-063104CB3A2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E371E-ABCA-4C33-9826-170044FE5E5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DD90F-F3DA-44B3-B87D-0F3AC8F5349A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1520" y="8686800"/>
            <a:ext cx="294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00220-E5C6-454E-9E4E-3C3C84FC56D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C54F2-4D81-4FC4-B899-1BE71D56F70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71D9-D933-4A9A-A446-2A67A9F79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9B54-94E9-411B-AFE0-219EC6B0E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740C-30BD-4673-A94C-BFD06A53E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4002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02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32F4-58C1-409A-A6AF-25E6AE742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E21-7173-4739-AFCC-40CEBC0EFE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552-A3A3-416F-B1FE-E7F436D8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0D5-5DD8-4F5A-9AA9-4E29FBFF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165-BF71-475D-BD7A-CEDA5DF8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5D2-8062-4A37-99BD-CA012686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ED8-C325-4AC7-BD10-6710849B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04C-BF73-4FFF-9E2E-BA900FF8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3425-8A8B-48A2-AE60-0EEA58B1C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64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79E-3C67-47D9-B056-CBC90EA5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C3C-F452-4DF7-A52E-787A54BE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A22-C845-45D5-9D8E-469DAF6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64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1B4-8089-46AC-80A5-E282EAF7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480" y="4002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02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38B-24BD-4345-BDD6-14BADADFC5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B6C3B-24B9-4BE7-B2DC-78649427F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CA095-4C7A-49FB-987B-FEFF6B06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5023F-E3E8-40AC-A984-F3335C3B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93B46-3B3A-43B7-83E0-686C10B4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E60DB-8260-4DC8-9FD6-AB046AF8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A5C6-9A56-42C6-8403-338F491032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67767-9F9A-4EC0-83F8-4B42ADF3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A7AC0-EF63-4A98-BC90-3025CEF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64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726EA-067C-40A3-B9F8-44F390EA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8A3FD-B948-4D4C-BBB5-67E95AD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17071-7534-4004-8EBC-9CAC551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64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AC05B-56F1-423B-8BC4-A91FA75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7480" y="4002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02840"/>
            <a:ext cx="26474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BD27B-BD57-4D19-A2FE-459B0B7DF0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0B1E-2EE3-4C33-9C8A-467C2A9A5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10F8-7364-4D74-9742-408A378B1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DFD9-2D10-43E0-9EF3-6CB7C3B95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A489-E271-4B5C-86D9-48D3FA40E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002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F91E-2823-4B61-B33A-8CF121307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0417-0F35-48B0-9C17-4B80D17A0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82170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5960" y="624636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BFCA7-C07F-4906-8203-D2B2FFB7525F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18B55-8D6D-454E-B496-13C6E8122140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0936A-D427-4457-B9A2-209DC39FE40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61BFA-3A4E-403A-9A67-C1CDD6FA8365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57646-CC66-430B-B399-E56754AF496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95560" y="72072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nna Pizzetti - Monica Zanar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Scrivere Newsletter e 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27520" y="2781360"/>
            <a:ext cx="4702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Come fare </a:t>
            </a:r>
            <a:br>
              <a:rPr sz="5000"/>
            </a:b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una Newslett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5640" y="620640"/>
            <a:ext cx="3152880" cy="516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celta del </a:t>
            </a: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1600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celta de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yo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legata a doppio nodo alla tipologia di contenuti che la Newsletter intende veicolare. Ad esempi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Template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a singola colon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deale per Newsletter con poco testo, o con un contenuto che riguarda un singolo argo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Layout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multicolon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ato per Newsletter con molti contenu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omm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ato in Newsletter molto ricche. Permette al lettore una rapida panoramica e selezione degli argomenti di interes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nticipo dei contenu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igliato nel caso in cui i contenuti siano lunghi da leggere: se ne fornisce una sintesi, rimandando al testo completo con u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Utilizzare al massim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 tip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font, per non creare un aspetto confuso o pacchian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Eventualmente, utilizzare font diverse per i diversi livelli strutturali (titoli, sottotitoli, test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Scegliere font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u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semplici, per evitare il rischio che risultino illeggibili ai destinata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iquadri 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Utilizzare in mod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mit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iquadri e box: possono creare confusione o, peggio, non essere letti correttamente da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posta del destinatar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Preferir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let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rizzontali o degl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azi bianch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separare i blocchi di tes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'estetica: suggerimen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7280" y="1214280"/>
            <a:ext cx="849636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mmag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Evitare di inseri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ropp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mmagini: 2 saranno sufficienti, se scelte con c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arcatori graf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Evidenziare titoli, sottotitoli o concetti principali utilizzand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rass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IUSCOLE o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lori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ers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'estetica: suggerimen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e immagi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Caratteristiche tecniche e rapporto con il tes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ettori e immagi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125360"/>
            <a:ext cx="806436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me vengono visualizzate le immag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cune immagini vengon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utomaticam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aricate da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post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e immagini sono visibili solo s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ttiva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ll'ut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mmagini non immediatamente visib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o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gli utenti scarica le immagini non immediatamente visibil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56%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gli utenti scarica le immagini solo se riconosce il mitt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mmagini e impa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immagini catalizzano l'attenzione del ricev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dunque importante che sian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 efficac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esplic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 proporziona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ispetto al tes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 funziona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vale a dire: non dovrebbero sopraggiunger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mpedimenti tecnic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ownlo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e gestire le immagi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71612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ltern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ernare testo e immagine: si consiglia una proporzion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70% testo, 30% immag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rivilegiare i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consiglia di veicolare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enuti princip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ttraverso element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estu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se l'utente non riuscirà a visualizzare le immagini, verrà in ogni caso raggiunto dal messagg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e gestire le immagi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700280"/>
            <a:ext cx="8424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escrivere il contenuto gra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tile pensar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itoli/didascal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e immagini: se non venissero visualizzate automaticamente, l'utente sarà più incentivato a scaricarle se ne conosce il contenu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bene dunque associare ad ogni immagine u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L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ne riassuma il contenu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eindirizz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in cui i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posta non dovesse decodificare correttamente la Newsletter, è importante che l'utente possa ess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indirizzato a una pagina We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attraverso la dicitura: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e non visualizza correttamente questa Newsletter, acceda a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questa pagi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lcune specifiche tecni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1440" y="1052640"/>
            <a:ext cx="8207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imensioni del f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finché la mail sia facilmente scaricabile dagli utent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tenersi su un peso complessiv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50k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itare di superare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0k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isura del f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vitare la necessità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croll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tenersi su una dimensione di 560 pixe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enere il messaggio entro una larghezza media di 600 pixel, o comunque non superiore ai 640 pix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Pre-header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centrare le informazioni principali nel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re-header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rime 3-6 righe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ssagg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Edi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itare l'utilizzo di Word, e se possibile, lavorare su HTM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'inv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Tempistiche e destinatar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Tempisti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720" y="1319040"/>
            <a:ext cx="835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egolar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iare i diversi numeri della Newsletter con regolarità, rispettando u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iodic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deguata alle esigenze dell'ente/azienda, ecc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l'utente dovrebbe diventare un piacevo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puntamento fiss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Giorni di spedi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giorni centrali della settimana (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tedì, mercoled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ioved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sono preferibil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Orari di spedi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c'è una fascia oraria privilegiata. Tendenzialmente, è consigliabile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tti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 l'orario 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usa pranz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est di inv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'unico modo per capire quali sono i giorni e gli orari ottimali è far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st di inv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giorni e orari diversi, e verificare le reazioni dei destinata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I tes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Oggetto, Titolo, Contenut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estinata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197000"/>
            <a:ext cx="84247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rofilare il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ofilato è fondamentale per creare una comunicazione mir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profilare i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può opera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mo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gli invii (cfr.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lide apposite: “Nozioni preliminari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val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gli invii (verificando le reazioni dei destinatari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iversificare gli inv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Pensare 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ail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versi in base al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atteristiche dei destinata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età, sesso, provenienza, interessi, livello professionale, ecc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Concepire Newsletter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funzion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versi contenu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 comunic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Effettuare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vio di pro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una lista di indirizzi selezionata, prima di procedere con la spedizione definitiv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Crea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ue o più grupp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cui spedire Newsletter con caratteristiche o tempistiche di invio dissimili, in modo da verificare quale abbia ottenuto il miglior tasso di gradi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Gli </a:t>
            </a: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insigh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Valutare e migliorare le Newslett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Parametri quantitativ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260360"/>
            <a:ext cx="835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Bounce rate: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a la percentuale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ail respinte dal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erve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destinatar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Delivery rate: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a la percentuale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ail consegna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fronte di quelle sped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Open rate: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a la percentuale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ail aper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l destinatario, a fronte di quelle consegna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Click rate: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a il numero di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lick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ai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ink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enti nelle Newsletter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segna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Click-to-open rate: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a la percentuale di utenti che h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liccato su un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in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fronte delle mai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per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i destinatar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Conversion rate: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quantificabili compiute dagli utenti ch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ccedo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un sito (acquisti, iscrizioni, ecc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asso di cancellazione: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a il numero di utenti che decidono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ancellar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l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Promuovere la Newsle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125360"/>
            <a:ext cx="828036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nquistare nuovi lett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Segnalare la Newsletter su blog, sito internet, pagina facebook, ecc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ndicare la Newsletter assieme alle informazioni di contatto, nel caso in cui si scrivano articol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nserire u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la Newsletter in tutte le mail invi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acilitare il passapa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nserire nella Newsletter un link per invitare un amico ad iscrivers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nserire dei pulsanti di condivisione della Newsletter, o di alcuni suoi contenu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inergia tra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online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e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off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nserire u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R cod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 documenti cartacei, che rimandi a contenuti multimedial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Prevedere dei moduli cartacei di iscrizione alla Newsle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riteri essenzia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136368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Effic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ntare a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iarez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una Newsletter deve esse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fluid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puntare a una comunicazion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nell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mmedi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inte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lezionare un nume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mit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argomenti ed esporli in mod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cis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ruibil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appesantire grafica e immagini: la Newsletter deve ess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gge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 scaric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Ord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gliere una disposizione dei contenu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quilibr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con una struttura logic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medi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 percepi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 fare / Da non f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4360" y="1197000"/>
          <a:ext cx="7848360" cy="4463640"/>
        </p:xfrm>
        <a:graphic>
          <a:graphicData uri="http://schemas.openxmlformats.org/drawingml/2006/table">
            <a:tbl>
              <a:tblPr/>
              <a:tblGrid>
                <a:gridCol w="3922560"/>
                <a:gridCol w="3925800"/>
              </a:tblGrid>
              <a:tr h="55692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a f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a non f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975960"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Semplificare: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esprimere i concetti in modo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chiar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, lineare, esplicito e immediato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Utilizzare frasi lunghe 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compless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, o termini ricercati o complicati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975960"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Gerarchizzar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: suddividere il testo in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sezioni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paragrafi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Proporre un testo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indistint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(“a colata unica”) senza suddivisioni interne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975600"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Equilibrar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testo e grafica (gli elementi grafici mettono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in evidenza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i contenuti principali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Slegar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la grafica dal testo, o esagerare con gli input grafici (eccesso di immagini, colori, ec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979200"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Snellir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: la Newsletter deve essere agevole da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fruir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e rapida da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scaricar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Utilizzare troppe immagini (o troppo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pesanti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), servirsi di un </a:t>
                      </a: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layout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confus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133200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ttirare l'atten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getto e titolo della Newsletter devo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vogliare alla lettu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ess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mediati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non dispersiv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ndividuare l'argo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itolo selezio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'argomento princip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a Newsletter (nel caso in cui gl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gomenti trattati siano più d'uno), e l'oggetto lo espone in modo sintetic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aro: sono d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vitare oggetto / titolo troppo lungh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nvitare alla let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getto e titolo devono ess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evi e convinc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er esprimere con forza 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732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cetto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non vaghi o generic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Oggetto e Titolo: finalit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I conten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Testi e struttur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egliere i conten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125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eren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t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una Newsletter deve essere coerente con l'immagine dell'azienda/istituzione che la invia, per ess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noscib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l destinatar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che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enu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ovrebbero rispecchiare la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miss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l'immagine del mitt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Omogene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iversi numeri della Newsletter non devono differire troppo per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truttu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ayo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t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l'utente dovrebbe sentir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delizz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nosce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lla Newsletter un appuntamento fiss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difiche sostanziali nella forma della Newsletter possono essere comunicate preventivamente al lettore, eventualmente coinvolgendolo con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ndagg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eventivo o un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ccessivo sul livello di gradi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ggiorn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informazioni veicolate devono ess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ggiorna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interessanti per il lettore, per non rimandare un'idea di sciatteria o di scarsa attenzione e c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isporre i conten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24776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a piramide invert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re tutto e subito: mett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'iniz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e informazion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ruci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quelle meno importanti in co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inte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dens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e informazioni in modo sintetico m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plici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d effic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mi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contenuti a 3, massimo 4, inp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chematizz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utturare i testi con una disposizione logica evidente e immediata: suddividere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locch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utilizza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atori grafic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ervirsi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unti elen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re attenzione a non commettere errori grammaticali, 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fu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he verrebbero percepiti come mancanza di cur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ercare fra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fficac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lici, dirette, ma accattivan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Il </a:t>
            </a: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Aspetto grafico e immagin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cp:lastPrinted>2009-04-22T19:24:48Z</cp:lastPrinted>
  <dcterms:modified xsi:type="dcterms:W3CDTF">2014-07-20T15:28:43Z</dcterms:modified>
  <cp:revision>529</cp:revision>
  <dc:subject/>
  <dc:title>Diapositiva 1</dc:title>
</cp:coreProperties>
</file>