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41760" cy="33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8152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3881520" y="8686800"/>
            <a:ext cx="294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C3CD4-A1D5-4272-A0B1-E3CC19A00D9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DB33C-065A-4F85-94D7-655AC55119C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A802A-5DEC-4CA7-9C3B-63CEC80A0B3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1520" y="8686800"/>
            <a:ext cx="2946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D726B-34EF-42D6-A214-E2FA0A44698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1520" y="8686800"/>
            <a:ext cx="2946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001C3-0DA1-4323-BE4F-CA93DFB028D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1520" y="8686800"/>
            <a:ext cx="2946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0B44D-5656-4DE8-8BFA-D0421B3A3C3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1520" y="8686800"/>
            <a:ext cx="2946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D089B-99A9-4E2B-95BD-92B30004707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81520" y="8686800"/>
            <a:ext cx="2946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57F26-C338-4882-92B6-F9F7800E560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81520" y="8686800"/>
            <a:ext cx="2946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FB47D-1B36-4C68-A08D-D735444B679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1520" y="8686800"/>
            <a:ext cx="2946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58337-7300-450D-AC28-9BB513E7D37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1520" y="8686800"/>
            <a:ext cx="2946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96225-ADB0-47CA-A9AB-A9BE483521A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81520" y="8686800"/>
            <a:ext cx="2946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777E7-D1A2-476D-9A10-5ACCE992025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81520" y="8686800"/>
            <a:ext cx="2946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2A616-4DDC-41C3-A70A-F7B92E51529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1520" y="8686800"/>
            <a:ext cx="2946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6914D-9BB8-40D9-B1B1-8EEDD8CF3D9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1520" y="8686800"/>
            <a:ext cx="2946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477C8-3DF7-4921-BC55-C9F7A7DB1FA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81520" y="8686800"/>
            <a:ext cx="2946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969FE-CE8C-41DA-96B3-1D89F700B64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81520" y="8686800"/>
            <a:ext cx="2946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EDC76-C643-4656-9898-89BC4E5E68F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7504-DA00-464F-AC46-753EF2280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02840"/>
            <a:ext cx="8220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F28A-CBD8-4DED-81A7-9EF9D5D1F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200" y="4002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204C-4CC0-41C4-B05C-D534A220E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02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760" y="4002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5960" y="4002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CB2B-4876-437E-9390-989B61E04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25B-61DA-4C74-AD27-8C2BEBD62F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55D-D277-4F0A-A11A-3A17070E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1FF-1128-4B67-A85B-B4BE572C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919-FCC1-4B89-938C-CC50ED3D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124-F692-4834-BCC3-5D91BDB0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9E81-24DA-4C68-A900-D05732E7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1C4-F514-4854-8CDA-87C1649F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C0EA-5672-4750-9EC7-C2FFEEE26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200" y="4002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DE5-8601-45E9-8D24-D1ABF330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8220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FB5-7E6C-4A28-811B-68315929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02840"/>
            <a:ext cx="8220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DBB-3955-467D-B646-F4CA7F00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200" y="4002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C52-312B-47F4-9941-75F80DB4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02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4002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5960" y="4002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78D-3858-4B64-86DA-253CA76365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17248-FC07-456D-8B6C-011736236C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3299F-89C2-4E48-B23D-CE434D70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08F6B-4EA6-43AE-9882-A09E2A5E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6A1B9-86BC-45D6-B38D-1386363F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2257D-C046-4DFC-9A57-7D33FD85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AFA8-B0C6-4134-A5F5-3E03835135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01798-2451-4138-854E-08FD4A4D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8D8CE-31A2-451D-A2C8-3A286F5B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200" y="4002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66C5E-7299-4AC1-90E6-62BDE36E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8220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6A81B-47F4-43E3-BC19-E72D83DB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02840"/>
            <a:ext cx="8220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8B3D7-DF0D-4377-BD9D-7CD4E93F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200" y="4002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1B9FF-E3DE-455D-89BE-45DDCC0A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02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4002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5960" y="4002840"/>
            <a:ext cx="2646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B3C75-63DA-4806-9CBC-E13E0976EB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8CF0-B4CD-4E2B-8200-43C907CDE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FCC8-2ACF-478F-A387-02C4C7E4D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2846-B2ED-4D7C-B8BA-4A2CD2D94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6794-77BA-4905-83E5-69C4D531B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200" y="4002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A376-95BE-4813-9A45-BE6B272F4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8220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C72C-B3B2-452A-9064-FB6795771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137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137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6720"/>
            <a:ext cx="2124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7320" y="6246720"/>
            <a:ext cx="2892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6320" y="624672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3CB45-EA37-41C7-98B7-93943800B5CB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A8CF2-1A25-4E07-ABA8-75DEB9DA99F5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F1089-3848-466D-B9B6-0A6ECA644AF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EA1D9-F4A8-40D9-A7CA-8F863D06B7E8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E6F9E-CD69-4FA3-A2E9-8787FF8E770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95560" y="72072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anna Pizzetti - Monica Zanar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Scrivere Newsletter e D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27520" y="2781360"/>
            <a:ext cx="4702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000" spc="-1" strike="noStrike">
                <a:solidFill>
                  <a:srgbClr val="ffffff"/>
                </a:solidFill>
                <a:latin typeface="Arial"/>
                <a:ea typeface="Arial"/>
              </a:rPr>
              <a:t>Com’è fatta </a:t>
            </a:r>
            <a:br>
              <a:rPr sz="5000"/>
            </a:br>
            <a:r>
              <a:rPr b="1" lang="it-IT" sz="5000" spc="-1" strike="noStrike">
                <a:solidFill>
                  <a:srgbClr val="ffffff"/>
                </a:solidFill>
                <a:latin typeface="Arial"/>
                <a:ea typeface="Arial"/>
              </a:rPr>
              <a:t>una Newslette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5640" y="620640"/>
            <a:ext cx="3152880" cy="5167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87280" y="1214280"/>
            <a:ext cx="849636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Mitt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no utilizzate da Università, enti pubblici, Comuni, istituzioni no-profit, associazioni, ec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ntenu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ormazioni sul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ttivit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traprese, 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et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 corso, gl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v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 agenda,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pportunit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sponibili, ec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 esempio: una nuova campagna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undrais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la promozione di un ciclo di seminari e incontri, l'invito a un convegno, l'emanazione di un nuovo bando, ec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Finali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iutano a creare e mantenere u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lo diret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n i destinata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mettono di avere un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ulle attività svol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3280" y="287280"/>
            <a:ext cx="752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Newsletter culturali, educa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87280" y="1341360"/>
            <a:ext cx="849636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Mitt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tenzialmente tutti: aziende, riviste, portali online, gruppi di volontariato o di appassionati, ec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ntenu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enuti di utilità (interesse, curiosità, necessità pratica) legati a un settore specifico: tecnologia, benessere, arte, sport, ambiente, viaggi, cucina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Finali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rvono a mantenere la visibilità, o a richiamare link su un sito intern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sono contenere inserzioni pubblicitarie di aziende coerenti con i temi tratta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Newsletter informa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87280" y="1214280"/>
            <a:ext cx="849636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Mitt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logger, riviste online e cartacee, siti internet di informazione o aggiornam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ntenu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gnal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articoli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nticipazi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alcuni contenuti, o un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noram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ull'uscita di un periodico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Finali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scitare nel destinatario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uriosit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leggere il contenuto (articolo, post, ecc.), reindirizzandolo al blog o sito internet. Oppure: anticipare i contenuti di una pubblicazione (una rivista, un quotidiano, ecc.), per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centiv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destinatario all'acquisto del cartace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Newsletter con infomazioni </a:t>
            </a:r>
            <a:r>
              <a:rPr b="1" i="1" lang="it-IT" sz="4000" spc="-1" strike="noStrike">
                <a:solidFill>
                  <a:srgbClr val="ff0000"/>
                </a:solidFill>
                <a:latin typeface="Arial"/>
              </a:rPr>
              <a:t>fla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Dalla parte del destinata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</a:rPr>
              <a:t>Come viene letta una Newslett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</a:t>
            </a:r>
            <a:r>
              <a:rPr b="1" i="1" lang="it-IT" sz="4000" spc="-1" strike="noStrike">
                <a:solidFill>
                  <a:srgbClr val="ff0000"/>
                </a:solidFill>
                <a:latin typeface="Arial"/>
              </a:rPr>
              <a:t>Struttura a 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4700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ruttura a F (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Google Eyetracking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rcRect l="0" t="0" r="10063" b="0"/>
          <a:stretch/>
        </p:blipFill>
        <p:spPr>
          <a:xfrm>
            <a:off x="5148360" y="1800360"/>
            <a:ext cx="3652920" cy="2954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4000" y="1484280"/>
            <a:ext cx="475272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modalità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ttur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un testo online è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vers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alla lettura di un testo stampa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erimenti sui movimenti dell'occhio umano (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eyetrack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davanti a uno schermo, mostrano che lo sguardo segue un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ruttura a 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rappresentata dall'immagine acca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 stesso percorso di lettura avviene nella percezione visiva di una Newslet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7280" y="1430280"/>
            <a:ext cx="8496360" cy="40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Rapidità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'utente medio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51 second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cansion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'inter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wslet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arzialità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o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9% degli ut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egg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tut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a Newslet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ele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 letta sol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una par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itol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si sempre vien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alt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esto introduttiv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leggono quasi esclusivamente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ime paro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ogni riga (la part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inistr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Che cosa si legge di una Newslet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Che cos'è una Newslet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</a:rPr>
              <a:t>Caratteristiche, contenuti e finalità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87280" y="1214280"/>
            <a:ext cx="849636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he cosa contien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Newsletter è un contenitore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formazioni, notizie e approfondim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 argomenti  specifici (tecnologia, viaggi, sport, benessere, moda, ecc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hi la rice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Newsletter viene inviat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ia emai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olo a chi si è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scrit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 servizi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ovvero: solo a chi ha espressamente richiesto di riceverl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Quando viene spedit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Newsletter viene spedit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riodicame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ratuitame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Newsletter: Caratteristic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7280" y="1214280"/>
            <a:ext cx="849636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A che cosa ser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un'occasione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tat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n gli utenti, utile a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delizz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i contatt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un mezzo per guadagnare una maggio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isibilit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iuta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rott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visitatori verso l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home pag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l'azienda, ente o istituzi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la spedis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Quali vantaggi ulteriori off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itte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2320" indent="-44136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è economica e agevole da gestire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2320" indent="-44136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dà la possibilità di monitorare i risultati ottenu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stinatar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nisce gratuitamente informazioni utili o interessanti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è gratuita e non vincol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Newsletter: Funzio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87280" y="1214280"/>
            <a:ext cx="849636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I moduli di registr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3d3d3d"/>
                </a:solidFill>
                <a:latin typeface="Arial"/>
              </a:rPr>
              <a:t>I moduli di registrazione a una Newsletter devono essere </a:t>
            </a:r>
            <a:r>
              <a:rPr b="1" lang="it-IT" sz="1600" spc="-1" strike="noStrike">
                <a:solidFill>
                  <a:srgbClr val="3d3d3d"/>
                </a:solidFill>
                <a:latin typeface="Arial"/>
              </a:rPr>
              <a:t>chiari</a:t>
            </a:r>
            <a:r>
              <a:rPr b="0" lang="it-IT" sz="1600" spc="-1" strike="noStrike">
                <a:solidFill>
                  <a:srgbClr val="3d3d3d"/>
                </a:solidFill>
                <a:latin typeface="Arial"/>
              </a:rPr>
              <a:t> e </a:t>
            </a:r>
            <a:r>
              <a:rPr b="1" lang="it-IT" sz="1600" spc="-1" strike="noStrike">
                <a:solidFill>
                  <a:srgbClr val="3d3d3d"/>
                </a:solidFill>
                <a:latin typeface="Arial"/>
              </a:rPr>
              <a:t>veloci</a:t>
            </a:r>
            <a:r>
              <a:rPr b="0" lang="it-IT" sz="16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23760" indent="-44100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3d3d3d"/>
                </a:solidFill>
                <a:latin typeface="Arial"/>
                <a:ea typeface="DejaVu Sans"/>
              </a:rPr>
              <a:t>Nella forma più semplice, richiedono </a:t>
            </a:r>
            <a:r>
              <a:rPr b="1" lang="it-IT" sz="1600" spc="-1" strike="noStrike">
                <a:solidFill>
                  <a:srgbClr val="3d3d3d"/>
                </a:solidFill>
                <a:latin typeface="Arial"/>
                <a:ea typeface="DejaVu Sans"/>
              </a:rPr>
              <a:t>nome</a:t>
            </a:r>
            <a:r>
              <a:rPr b="0" lang="it-IT" sz="1600" spc="-1" strike="noStrike">
                <a:solidFill>
                  <a:srgbClr val="3d3d3d"/>
                </a:solidFill>
                <a:latin typeface="Arial"/>
                <a:ea typeface="DejaVu Sans"/>
              </a:rPr>
              <a:t>, </a:t>
            </a:r>
            <a:r>
              <a:rPr b="1" lang="it-IT" sz="1600" spc="-1" strike="noStrike">
                <a:solidFill>
                  <a:srgbClr val="3d3d3d"/>
                </a:solidFill>
                <a:latin typeface="Arial"/>
                <a:ea typeface="DejaVu Sans"/>
              </a:rPr>
              <a:t>cognome</a:t>
            </a:r>
            <a:r>
              <a:rPr b="0" lang="it-IT" sz="1600" spc="-1" strike="noStrike">
                <a:solidFill>
                  <a:srgbClr val="3d3d3d"/>
                </a:solidFill>
                <a:latin typeface="Arial"/>
                <a:ea typeface="DejaVu Sans"/>
              </a:rPr>
              <a:t> e </a:t>
            </a:r>
            <a:r>
              <a:rPr b="1" lang="it-IT" sz="1600" spc="-1" strike="noStrike">
                <a:solidFill>
                  <a:srgbClr val="3d3d3d"/>
                </a:solidFill>
                <a:latin typeface="Arial"/>
                <a:ea typeface="DejaVu Sans"/>
              </a:rPr>
              <a:t>indirizzo email</a:t>
            </a:r>
            <a:r>
              <a:rPr b="0" lang="it-IT" sz="1600" spc="-1" strike="noStrike">
                <a:solidFill>
                  <a:srgbClr val="3d3d3d"/>
                </a:solidFill>
                <a:latin typeface="Arial"/>
                <a:ea typeface="DejaVu Sans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23760" indent="-44100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3d3d3d"/>
                </a:solidFill>
                <a:latin typeface="Arial"/>
                <a:ea typeface="DejaVu Sans"/>
              </a:rPr>
              <a:t>In altri casi sono richieste ulteriori informazioni (utili a </a:t>
            </a:r>
            <a:r>
              <a:rPr b="1" lang="it-IT" sz="1600" spc="-1" strike="noStrike">
                <a:solidFill>
                  <a:srgbClr val="3d3d3d"/>
                </a:solidFill>
                <a:latin typeface="Arial"/>
                <a:ea typeface="DejaVu Sans"/>
              </a:rPr>
              <a:t>profilare il database</a:t>
            </a:r>
            <a:r>
              <a:rPr b="0" lang="it-IT" sz="1600" spc="-1" strike="noStrike">
                <a:solidFill>
                  <a:srgbClr val="3d3d3d"/>
                </a:solidFill>
                <a:latin typeface="Arial"/>
                <a:ea typeface="DejaVu Sans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Le email transazion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3d3d3d"/>
                </a:solidFill>
                <a:latin typeface="Arial"/>
              </a:rPr>
              <a:t>A seguito della registrazione, l'utente riceve una </a:t>
            </a:r>
            <a:r>
              <a:rPr b="1" lang="it-IT" sz="1600" spc="-1" strike="noStrike">
                <a:solidFill>
                  <a:srgbClr val="3d3d3d"/>
                </a:solidFill>
                <a:latin typeface="Arial"/>
              </a:rPr>
              <a:t>email di conferma</a:t>
            </a:r>
            <a:r>
              <a:rPr b="0" lang="it-IT" sz="1600" spc="-1" strike="noStrike">
                <a:solidFill>
                  <a:srgbClr val="3d3d3d"/>
                </a:solidFill>
                <a:latin typeface="Arial"/>
              </a:rPr>
              <a:t> (transazionale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Privacy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 Unsubscri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3d3d3d"/>
                </a:solidFill>
                <a:latin typeface="Arial"/>
              </a:rPr>
              <a:t>L'informativa sulla </a:t>
            </a:r>
            <a:r>
              <a:rPr b="0" i="1" lang="it-IT" sz="1600" spc="-1" strike="noStrike">
                <a:solidFill>
                  <a:srgbClr val="3d3d3d"/>
                </a:solidFill>
                <a:latin typeface="Arial"/>
              </a:rPr>
              <a:t>privacy</a:t>
            </a:r>
            <a:r>
              <a:rPr b="0" lang="it-IT" sz="1600" spc="-1" strike="noStrike">
                <a:solidFill>
                  <a:srgbClr val="3d3d3d"/>
                </a:solidFill>
                <a:latin typeface="Arial"/>
              </a:rPr>
              <a:t> deve essere </a:t>
            </a:r>
            <a:r>
              <a:rPr b="1" lang="it-IT" sz="1600" spc="-1" strike="noStrike">
                <a:solidFill>
                  <a:srgbClr val="3d3d3d"/>
                </a:solidFill>
                <a:latin typeface="Arial"/>
              </a:rPr>
              <a:t>esplicita</a:t>
            </a:r>
            <a:r>
              <a:rPr b="0" lang="it-IT" sz="1600" spc="-1" strike="noStrike">
                <a:solidFill>
                  <a:srgbClr val="3d3d3d"/>
                </a:solidFill>
                <a:latin typeface="Arial"/>
              </a:rPr>
              <a:t> al momento della realizzazione e </a:t>
            </a:r>
            <a:r>
              <a:rPr b="1" lang="it-IT" sz="1600" spc="-1" strike="noStrike">
                <a:solidFill>
                  <a:srgbClr val="3d3d3d"/>
                </a:solidFill>
                <a:latin typeface="Arial"/>
              </a:rPr>
              <a:t>ribadita</a:t>
            </a:r>
            <a:r>
              <a:rPr b="0" lang="it-IT" sz="1600" spc="-1" strike="noStrike">
                <a:solidFill>
                  <a:srgbClr val="3d3d3d"/>
                </a:solidFill>
                <a:latin typeface="Arial"/>
              </a:rPr>
              <a:t> in ogni Newsletter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3d3d3d"/>
                </a:solidFill>
                <a:latin typeface="Arial"/>
              </a:rPr>
              <a:t>In ogni Newsletter deve essere fornita la possibilità di </a:t>
            </a:r>
            <a:r>
              <a:rPr b="1" lang="it-IT" sz="1600" spc="-1" strike="noStrike">
                <a:solidFill>
                  <a:srgbClr val="3d3d3d"/>
                </a:solidFill>
                <a:latin typeface="Arial"/>
              </a:rPr>
              <a:t>cancellarsi</a:t>
            </a:r>
            <a:r>
              <a:rPr b="0" lang="it-IT" sz="1600" spc="-1" strike="noStrike">
                <a:solidFill>
                  <a:srgbClr val="3d3d3d"/>
                </a:solidFill>
                <a:latin typeface="Arial"/>
              </a:rPr>
              <a:t> dalla mailing list (</a:t>
            </a:r>
            <a:r>
              <a:rPr b="0" i="1" lang="it-IT" sz="1600" spc="-1" strike="noStrike">
                <a:solidFill>
                  <a:srgbClr val="3d3d3d"/>
                </a:solidFill>
                <a:latin typeface="Arial"/>
              </a:rPr>
              <a:t>Unsubscribe</a:t>
            </a:r>
            <a:r>
              <a:rPr b="0" lang="it-IT" sz="1600" spc="-1" strike="noStrike">
                <a:solidFill>
                  <a:srgbClr val="3d3d3d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Registrarsi a una Newslet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87280" y="1268280"/>
            <a:ext cx="84963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Opt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le a dir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option i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23832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Il destinatario rilasci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preventivame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 il consenso a ricevere una Newslett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23832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Il consenso viene rilasciato compilando la scheda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gistr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Opt-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le a dir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option ou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23832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Il destinatario non dev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porsi a posterio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 alla ricezione di una Newsletter: vale sempre la regola dell'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-i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23832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Il destinatario, però, può decidere in ogni momento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ncellars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-o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) dalla Newslet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Arial"/>
              </a:rPr>
              <a:t>Opt-in, Opt-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87280" y="1430280"/>
            <a:ext cx="849636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Double opt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le a dire: conferma dopp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23832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A seguito della registrazione (prim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-i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) l'utente riceve una email di conferma dell'avvenuta registrazio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23832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 questa email si può richiedere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nfermar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(second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-i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) di aver espresso il consenso a ricevere la Newslet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Arial"/>
              </a:rPr>
              <a:t>Opt-in, Opt-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Newsletter e Newslet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</a:rPr>
              <a:t>Analisi delle diverse tipologie di Newslett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7280" y="1214280"/>
            <a:ext cx="849636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Mitt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no utilizzate principalmente d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ziend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he commercializzan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dott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rviz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ma anche in ambi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liti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in questo caso, il mittente promuove 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prio partito/persona e le proprie attività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ntenu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formazi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ui propri prodotti o servizi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vi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 fiere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open-hou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eventi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vit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ui prodotti, campagne di vendita, ec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Finali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rvono per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ntenere il contat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n gli utenti/clienti, in mod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positiv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aiutano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delizz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no l'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nda lung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sito web (favoriscono l'incremento del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Page Ran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408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reano un terreno di base ch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voris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a diffusione di prodotti/serviz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Newsletter promozional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1:56:42Z</dcterms:created>
  <dc:creator>SILVANA</dc:creator>
  <dc:description/>
  <dc:language>en-US</dc:language>
  <cp:lastModifiedBy>Roberta</cp:lastModifiedBy>
  <cp:lastPrinted>2009-04-22T19:24:48Z</cp:lastPrinted>
  <dcterms:modified xsi:type="dcterms:W3CDTF">2014-07-20T14:53:28Z</dcterms:modified>
  <cp:revision>518</cp:revision>
  <dc:subject/>
  <dc:title>Diapositiva 1</dc:title>
</cp:coreProperties>
</file>