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4644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152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3881160" y="8686440"/>
            <a:ext cx="29494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5A395-6181-4EC9-8C63-14A0F3D73CA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46B27-96D0-4640-AF70-AF9F30D59DB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ED28F-60A6-493E-8B3F-6E949CCF521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61956-08C2-4094-A2E4-E90ADB220D6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C3590-23C2-4D18-9F34-60DDABC6604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478AE-1B74-4946-BB1C-AECC69EE84A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F91E8-A9FC-45E8-A3EF-8CDFC35BB5C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86CA7-5F04-4DAB-A63D-0B72A381C08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EBFC6-AB35-48B8-8587-0309F15C6C2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59876-0BD8-43D3-B21F-DE96205B75B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97EE7-A9EA-4B3F-AD23-2A3CB7FCE34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5E889-CD91-4FCA-A9CA-C17E6701EFE1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D4BE3-5961-45BB-B142-EC4BD308543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4B626-B265-43B9-9024-2875486445A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6242F-DFEB-4958-896A-C4065B23E78D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353E2-3AAA-4319-86CE-E3E90C2EB9A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43A29-EB58-4718-BF30-FDD79969B9D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DB2B8-ACE7-4165-8141-3F91D7B28DF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2D0C8-1273-47DD-AF4E-82DFE5FE44E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067E9-93FD-4CB9-ABD6-55CBC4DA6579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0619A-C890-4F04-A683-ECE373A15B0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F76B2-349A-4E2D-825B-342A8B65375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FFAE4-43B7-4C94-950F-09A02D1FF05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486AF-6A58-499D-9DD5-776D4A72D9B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24B79-CC05-4AB9-8B98-7BCD808BC1D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1D9A3-7651-457A-B979-CA5F42A95DB1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1D939-6A70-4A47-9999-705B085377C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905BF-03C7-4EA5-806F-897260781CE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F8861-54E3-43D9-BD86-905B45E2745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3B962-6E60-44FD-ADD5-61EEE49CF8B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0BC34-B0C9-44FE-8E02-8F9F9F9AA59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1462A-DFCE-4C50-9047-8A308E72D6E7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A23B6-4B56-4BD2-B630-654C8FB0474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0E908-004F-46F0-AE74-8B7EAC8C0AB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EF154-8273-44A0-A7DD-51832E59D153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1520" y="8686800"/>
            <a:ext cx="2950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20450-D348-4BB3-B472-06ABA925DFC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7396F-07B2-4BE8-A883-A3F6E8FB6FD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DA75-605F-4979-8404-B53116FC4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C51A-A163-47E6-83F2-FACF25206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8D00-D81C-4657-BB80-08B3F12D5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392A-E318-4001-8D78-9FD4586F3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4D4-896D-4980-BB02-E3F227C44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0F4-20A1-4D58-93A8-1C7F95E9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6E8-17DE-4BAB-A2B9-44E556F0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DD3-33B7-4B29-A331-FD194802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9FF-A5E7-4099-97F9-DA9CDF80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163-EDD4-4D50-BFE5-42A51EB7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B84-669F-4821-B81B-DC53503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8799-0B13-4125-839F-441346AEC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AE8-EDBD-403C-80DB-28AEFC36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D0B-1E5E-4131-B97A-59A332CC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AB3-2687-4114-9B32-3AE748F6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A1C-34B2-463F-B8F8-FAC771A6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A62-780D-4F13-B74E-43E3CC7443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62662-3E7C-4E24-887A-3A31F3E929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87389-7A82-4422-AD06-F3FC3AB8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A7C08-1C7F-427B-8ED7-DF2D89E6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1983B-B03A-4DC1-ADD1-589A1D43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28A53-3C7B-4926-86C5-DA6F017A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D6A8-3364-4825-8C68-A48408C465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42AC5-125B-4652-9478-791EE84F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F442C-2C23-4459-B4B2-63E40D66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2661A-1D93-455B-B307-A8EDC06F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4FE51-D9FC-4CCC-98C2-A4E54A36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955F1-BB60-4413-8AF7-3FB79805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4F6C3-E4B0-499D-A87D-D2FF6A58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577A5-3D14-4223-A03D-A8ADBB3C6D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AD59-4C4D-460F-84E5-38BCF4602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A283-790F-48A1-9F10-5D8935702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ECCF-58BD-41AE-A93E-98C5B4FA0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A444-740F-49AF-979C-FCBD977F5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52B5-15BD-4273-99A5-AC20ED53C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B7B7-4E08-4365-940A-EDDB920EB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218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9B28A-B655-4CEE-A5E1-4E562192C693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92B57-A1D3-4906-A553-E622B5E93D66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7645B-B279-474C-AC97-2BD0D53583F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767BE-A76E-4A31-A531-378635BD2343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811EA-CD71-48FB-9AD6-27BBD26DFC8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95560" y="72072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nna Pizzetti - Monica Zanar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Scrivere Newsletter e 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2781360"/>
            <a:ext cx="3431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Nozio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preliminar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5640" y="620640"/>
            <a:ext cx="3152880" cy="516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Il consumatore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13040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l panorama comunicativo è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a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consumatori so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fficili da raggiunge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tendono a ignorare l'ennesima ma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l consumatore è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oddisfatto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indi non è propenso a cambiare (non ne avverte l'esigenza), ammenoché non sia stimolato d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de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viru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contagiato da 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rnutitori di ide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(passaparol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l consumatore è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ttivo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si limita a fruire passivamente le informazioni, ma può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reare, modificare e indicizz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contenu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l consumatore è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esigente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ringe la scelta a poche alternative scegliendo il servizio più adatto a lu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l consumatore è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formato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propenso a cercare e lasciar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i prodotti/serviz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7280" y="1339920"/>
            <a:ext cx="849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viluppo dell'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inbound marketing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nbound marketing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iste in strategie volte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rsi trov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gli uten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uona indicizzazione SEO, presenza nelle piattaform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ossibilità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har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ecc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Nuove funzioni dell'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outbound marketing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outbound marketing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ncluse Newsletter e DEM) mir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ercare direttam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utenti. L'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mail market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uò fare da trampolino all'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n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uolo cruciale delle piattaforme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social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di privilegiate per i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arketing inboun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ono le piattaforme social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2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ocial media, siti web, blog, forum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comunicazione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5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Obiettivi di una strategia di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inbound marketing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5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5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-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Giocare d'anticip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: fidelizzare l'utent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prim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che possa avere effettivamente bisogno dei prodotti o servizi offert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trattene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: usare i contenuti per creare interesse, informare e diverti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Esser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socia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diffondere i contenuti tramite i social media della re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trategie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5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a comunicazione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many to many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Ascol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i potenziali fruitori, per percepire i loro bisogni attraverso le informazioni che circolano nel We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teragi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n gli utenti: la comunicazione non è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nodire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m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ircol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(fornitore e fruitore di un prodotto/servizio dialogan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agir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se il terreno comunicativo (ascolto e interazione) è stato preparato accuratamente, all'interno della comunicazione circolare si può inserire l'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mp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: offerta di prodott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ll to ac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, ecc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5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Ricominci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 conversazione: il colloquio con gli utenti non deve esaurirsi una volta raggiunto l'obiettivo. È importante fidelizzare i fruitori, e puntare a un effetto vira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trategie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Email M@rk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Informare, comunicare e promuovere via mai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1547640"/>
            <a:ext cx="84960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attività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mail market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ortano nella nostra casella di pos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7360">
              <a:lnSpc>
                <a:spcPct val="11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Sono comunicazion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periodich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che un utente sceglie di riceve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7360">
              <a:lnSpc>
                <a:spcPct val="11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ntengo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form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, aggiornamenti, notiz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EM (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Direct Email Marketing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7360">
              <a:lnSpc>
                <a:spcPct val="11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Sono comunicazion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occasiona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ad ampio raggio (non hanno una periodicità stabilit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7360">
              <a:lnSpc>
                <a:spcPct val="11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ntenuti promozion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che invitano il destinatario a compiere un'azione specifica (firmare una petizione, recarsi in un punto vendita, acquistare un prodott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Uno sguardo alla casella di posta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attività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mail market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ortano nella nostra casella di pos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Email transazion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7360">
              <a:lnSpc>
                <a:spcPct val="11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Sono ema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automatich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7360">
              <a:lnSpc>
                <a:spcPct val="11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Vengono generate a seguit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'azione specif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(conferma di iscrizione, carrello prodotti, cancellazione dal database, ecc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P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7360">
              <a:lnSpc>
                <a:spcPct val="11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Sono ema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desidera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he vengono inviate senza che l'utente abbia espresso il suo consenso a riceverl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7360">
              <a:lnSpc>
                <a:spcPct val="110000"/>
              </a:lnSpc>
              <a:buClr>
                <a:srgbClr val="ff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ntenuti pubblicita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spesso truffaldini, o di nessun interesse reale per il destinatar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Uno sguardo alla casella di posta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e gestire i contatt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522440"/>
            <a:ext cx="86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l database di contatti è la base della comunicazione via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Newslett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 riceve una Newsletter deve essersi esplicitame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cri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servizio compilando un modulo apposi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DEM viene invia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ste di contat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cui l'azienda, ente ecc. è entrata in possesso (ad esempio: con la firma di una petizione, con l'acquisizione di una tessera fedeltà, ecc.) o a liste di contatti affittate da terz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e gestire i contatt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581120"/>
            <a:ext cx="860400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atabase profila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3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tabase ben profilato → Possibilità di comunicazione mir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3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ggiore è il numero di informazioni in possesso del mittente, maggiore sarà la possibilità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libr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messaggi sulle esigenze dei destinata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3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form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me età, sesso, provenienza geografica, nome e livello culturale sono utili per profilare il database ed eventualme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versific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3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zio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4920" y="1268280"/>
            <a:ext cx="84963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71360" indent="-158760" algn="ctr">
              <a:lnSpc>
                <a:spcPct val="110000"/>
              </a:lnSpc>
              <a:tabLst>
                <a:tab algn="l" pos="0"/>
                <a:tab algn="l" pos="18576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l Database di contatti deve essere gestito nel rispetto </a:t>
            </a:r>
            <a:br>
              <a:rPr sz="1800"/>
            </a:b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elle normative sulla Privac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360" indent="-158760">
              <a:lnSpc>
                <a:spcPct val="110000"/>
              </a:lnSpc>
              <a:tabLst>
                <a:tab algn="l" pos="0"/>
                <a:tab algn="l" pos="18576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2761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Verificare 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'origi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dei dati utilizzati (i destinatari devono aver ricevuto un'adeguata informativa)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2761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nire ai destinatari la possibilità di gestire i propri dati (per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ificar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o eventualme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ocare il consenso –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-ou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) in modo chiaro ed esplici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2761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Custodi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con cura i dati sensibili e i documenti che attestano il diritto a farne us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2761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Adottare misur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curez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informatiche per proteggersi da accessi indesiderat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2761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form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i collaboratori sul corretto utilizzo dei dati personal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2761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serire nel database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dirizzo “sentinella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 per verificare eventuali usi impropri delle lis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2761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Aggiornarsi costantemente su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provvedimenti normativ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tabase e Priva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7280" y="1268280"/>
            <a:ext cx="849636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Fare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 Lead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vvero l’insieme di attività svolte per  raccogliere nuovi contatti.  Que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ccolta può essere effettuata tramite concorsi, campagn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keywo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altre iniziative che richiedano  di lasciare il proprio indirizzo ema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cquisire contatti tramite il sito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ndere ben visibile sul sito Internet la possibilità di iscriversi alla Newsletter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ricevere offerte promozional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73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gevolare il </a:t>
            </a: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member to m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vorire il passaparola, incoraggiando l'inoltro della Newsletter o della DEM 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i uten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e ampliare il Datab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rketing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Nuove strategie per nuovi consumator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cp:lastPrinted>2009-04-22T19:24:48Z</cp:lastPrinted>
  <dcterms:modified xsi:type="dcterms:W3CDTF">2014-07-20T14:24:47Z</dcterms:modified>
  <cp:revision>519</cp:revision>
  <dc:subject/>
  <dc:title>Diapositiva 1</dc:title>
</cp:coreProperties>
</file>