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F5E-7090-470B-8171-A16A479A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2F4-D566-4143-B603-09B664AF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71A-86B3-47BB-B5E2-08FECC2A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61D-E20A-4D49-BACB-0724B5C8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614-40B9-406D-AC7B-EA4861DD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6BA-21CA-460D-9FAA-EA498DD7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781-7678-4E06-802A-AF8ECD94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1B8-A49F-47B0-9409-CCF7B33A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FE4-D204-4ECD-9E32-22D24AF2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958-86A1-47E1-8D2B-5C0CB6A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CE1-505B-4FEB-8EC0-00F23928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17C-25D4-4422-ADC3-E65EE42A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70D56-115A-4BF1-BB2A-74D9B95F4790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88B5E-B520-4175-9557-4B958E6B86B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Territori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asellaDiTesto 4"/>
          <p:cNvSpPr/>
          <p:nvPr/>
        </p:nvSpPr>
        <p:spPr>
          <a:xfrm>
            <a:off x="324000" y="287280"/>
            <a:ext cx="84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l governo delle società multietn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Assimilazionism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neo-assimilazionismo politic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pressione sugli immigrati affinché si conformino culturalmente alla società ricev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Multiculturalism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riconoscimento, rispetto, promozione delle appartenenze culturali e aggregazioni collettive degli immigrati (tende oggi a essere sostituito dalle politiche della diversit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Integra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il divenire una parte accettata della società ricev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e minoranze etn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34880" y="1319040"/>
            <a:ext cx="822960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ono gruppi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ubordinat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all’interno di società comples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resentano aspetti fisici o culturali soggetti a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valutazione negativ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da parte  dei gruppi domina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cquistano un’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autocoscienza di grupp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, essendo legati da una medesima lingua, cultura e appartenenza a una storia, tradizione e destino condivisi, e nello stesso tempo da una comune posizione sociale (svantaggiata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ossono in qualche misura trasmettere alle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generazioni successive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identità minorit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e diaspore (Cohe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34880" y="1690200"/>
            <a:ext cx="8304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aratter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spersione, spesso traumatica, da una madrepatria origina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memoria collettiva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dealizzazione della supposta patria ancestra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movimento di ritorno (o l’aiuto offerto ai movimenti di ritorn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forte coscienza di gruppo etnico, mantenuta nel t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e diaspore (Cohe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4880" y="1125360"/>
            <a:ext cx="83044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relazione tormentata con le società ospitan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enso di solidarietà con i membri coetnici residenti in altri paes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possibilità di una vita peculiare, creativa, in società tollera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iaspore e glob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4880" y="1265040"/>
            <a:ext cx="82519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ul piano economico, diverse diaspore si sono mostrate capaci di trarre vantaggio dalla globalizz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ul piano culturale, rispondono al bisogno di riconoscimento e appartene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Nello stesso tempo, contribuiscono in modo peculiare alla de-territorializzazione delle identità  soc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ossono ricrearsi e riprodursi nel cyberspazio, formando dei legami etnici virtuali: degli ethnoscapes (Appadura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asellaDiTesto 4"/>
          <p:cNvSpPr/>
          <p:nvPr/>
        </p:nvSpPr>
        <p:spPr>
          <a:xfrm>
            <a:off x="324000" y="3803760"/>
            <a:ext cx="59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Arial"/>
              </a:rPr>
              <a:t>Le migrazioni e la formazione </a:t>
            </a:r>
            <a:br>
              <a:rPr sz="3200"/>
            </a:b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Arial"/>
              </a:rPr>
              <a:t>di società multiet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definizione di migra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asellaDiTesto 11"/>
          <p:cNvSpPr/>
          <p:nvPr/>
        </p:nvSpPr>
        <p:spPr>
          <a:xfrm>
            <a:off x="434880" y="1685880"/>
            <a:ext cx="787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Migrant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una persona che si è spostata in un paese diverso da quello di residenza abituale e che vive in quel paese da più di un an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Tre elemen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Uno spostamento territor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attraversamento di un confine nazio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Una temporalità non bre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sellaDiTesto 4"/>
          <p:cNvSpPr/>
          <p:nvPr/>
        </p:nvSpPr>
        <p:spPr>
          <a:xfrm>
            <a:off x="324000" y="287280"/>
            <a:ext cx="84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oppia alterità e straficazione civ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4880" y="1600200"/>
            <a:ext cx="82519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l termine si applica di fatto agli stranieri poveri: comporta una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doppia alterità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 (stranieri e pover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Contiene una valenza sottilmente  peggiora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Le differenze tra gli stranieri residenti si riflettono sul piano legale nella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stratificazione civica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le varie categorie di immigrati (per es. UE/ extra UE) godono di diritti e trattamenti diver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Alcuni concetti in evide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6508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Emigr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uscita dal proprio pae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Immigr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ingresso e il soggiorno in un paese diver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Migrazione/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termine più generico, che si applica ai diversi tipi di spostame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Primomigra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l primo a partire nell’ambito di un nucleo famili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Migrazioni secondari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quelle dei familiari che in seguito lo raggiungo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Fasi o stadi delle migraz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488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rrivano i primi immigrati per lavoro: sono giovani adulti, con un progetto temporan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rrivano altri immigrati, legati ai primi: cresce l’età media, i tempi si allunga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vvengono i ricongiungimenti familiari e  i nuclei si stabilizza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immigrazione si consolida, acquista consapevolezza del proprio insediamento permanente, fonda istituzioni proprie, rivendica una piena inclus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Diversi tipi di immigr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5368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mmigrati per lavo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mmigrati stagionali o lavoratori a contrat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mmigrati qualificati e impren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Familiari al segu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mmigrati di seconda gener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mmigrati in condizione irregolare, clandestini, vittime del traff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Migranti di rito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Richiedenti asilo, rifugiati, migranti forz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e cause delle migraz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4880" y="1427040"/>
            <a:ext cx="830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piegazioni macr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rifanno a grandi cause strutturali, nella società di origine (push factors) o in quella di destinazione (pull facto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piegazioni micr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pongono l’accento sulle scelte razionali degli individui e delle loro famiglie, mossi da interessi soprattutto econom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piegazioni mes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danno priorità ai legami sociali con altre persone già emigrate (networks), oppure alle istituzioni che facilitano gli spostamenti (agenzie, servizi legali e illegal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piegazioni meso-macr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la regolazione politica delle mig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sellaDiTesto 4"/>
          <p:cNvSpPr/>
          <p:nvPr/>
        </p:nvSpPr>
        <p:spPr>
          <a:xfrm>
            <a:off x="324000" y="287280"/>
            <a:ext cx="84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Xenofobia, razzismo, discrimin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migrazioni e la formazione di società multietn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4880" y="1427040"/>
            <a:ext cx="826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Xenofobi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è la paura e quindi l’ostilità verso gli stranieri, che oggi si appunta verso gli immigrati (stranieri pove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Razzism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 teoria che stabilisca una superiorità o un’inferiorità intrinseca di gruppi razziali o etnici, o che fondi dei giudizi di valore su una differenza razz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Discrimina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riferisce ai comportamenti pratici e riguarda il trattamento ineguale di persone e gruppi a causa delle loro origini, apparenze, opin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7:09:38Z</dcterms:modified>
  <cp:revision>149</cp:revision>
  <dc:subject/>
  <dc:title>Le origini della civiltà greca </dc:title>
</cp:coreProperties>
</file>