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D622D-E3F9-4B5A-B0A3-9FCF57A565B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F2EDF-3D27-425C-9E91-C53F3A18EE2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BB1995-A8A4-400A-B9AA-9DA8112A89D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CEE4E-0513-46AC-B9DE-DC1EF7E5818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37297-7F12-4CA7-92E7-D7E9DD54B1F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58114B-8FE1-4469-B611-72C70995D59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568A-C5C0-40DF-85EB-1E8F43AF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2230-41CC-4F37-99A6-13239331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071-6CF8-4AE1-87CE-55BECBE6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CBA-8597-415B-A359-0952B7BA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F3F-376A-45F9-BB6D-0684FCB9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CEB4-957B-4E30-A723-C448A12D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E85-59DB-4B97-96E0-0855DBB2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252-E779-4676-B93B-CC808DEE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68C0-BECD-4EF0-8349-CBF4CE54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4FD4-F3F6-418E-B360-A01FE895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B73C-900E-4B75-937C-F3396330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C0A-7225-4C47-88B4-66C02540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EB9A06-05CB-4822-B7DA-6F9DA3ED0989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45656-ACAF-454A-951F-5585C2834BD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"/>
                <a:ea typeface="Geneva"/>
              </a:rPr>
              <a:t>Territori e societ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434880" y="4275000"/>
            <a:ext cx="59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404040"/>
                </a:solidFill>
                <a:latin typeface="Arial"/>
                <a:ea typeface="Arial"/>
              </a:rPr>
              <a:t>Mobilità e globalizza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4879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8"/>
          <p:cNvSpPr/>
          <p:nvPr/>
        </p:nvSpPr>
        <p:spPr>
          <a:xfrm>
            <a:off x="4070520" y="501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4"/>
          <p:cNvSpPr/>
          <p:nvPr/>
        </p:nvSpPr>
        <p:spPr>
          <a:xfrm>
            <a:off x="163440" y="4898880"/>
            <a:ext cx="8523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Mobilità e global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2001960"/>
          <a:ext cx="8229600" cy="2836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  <a:ea typeface="Geneva"/>
                        </a:rPr>
                        <a:t>Temporalità co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  <a:ea typeface="Geneva"/>
                        </a:rPr>
                        <a:t>Temporalità lung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Interna a un bacino di v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Mobilità quotidi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Mobilità residenzi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Verso l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’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erno di un bacino di v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Viagg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Migrazi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6" name="CasellaDiTesto 4"/>
          <p:cNvSpPr/>
          <p:nvPr/>
        </p:nvSpPr>
        <p:spPr>
          <a:xfrm>
            <a:off x="324000" y="287280"/>
            <a:ext cx="836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e principali forme di mobilità spaziale 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(Kaufman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onnettore 1 6"/>
          <p:cNvSpPr/>
          <p:nvPr/>
        </p:nvSpPr>
        <p:spPr>
          <a:xfrm>
            <a:off x="434880" y="147168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Connettore 1 13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egnaposto contenuto 2"/>
          <p:cNvSpPr/>
          <p:nvPr/>
        </p:nvSpPr>
        <p:spPr>
          <a:xfrm>
            <a:off x="434880" y="1513440"/>
            <a:ext cx="8304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È  la capacita di essere mobili, la maniera in cui un individuo o un gruppo fanno proprio il campo del possibile in materia di mobilità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Essa integra tre aspet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’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accessibilità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e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competenz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 degli at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’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appropria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Mobilità e global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motilità 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(Kauffm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34880" y="1454040"/>
            <a:ext cx="811872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Si riferisce a un insieme di fenomeni connessi con la crescente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integrazione economica, sociale e culturale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tra le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diverse aree del mondo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, e anzitutto con la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liberalizzazione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dei mercati finanziari e degli scambi commerci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Storicamente, si sono verificati altri periodi di globalizzazione economica (per es., inizi del XX  secolo), seguiti da inversioni di tenden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Mobilità e global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   "/>
              </a:rPr>
              <a:t>La globalizz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34880" y="1676520"/>
            <a:ext cx="811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La globalizzazione non è un processo lineare e spontaneo, ma è espressione di un rapporto tra istituzioni politiche e forze economiche in cui le seconde hanno riconquistato margini di autonom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Anche gli sviluppi tecnologici (internet) favoriscono questi processi, diventati più rapidi e pervasivi che in passa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Gli Stati nazionali sono in difficoltà nel governare questi processi: gli attori economici possono facilmente trasferire capitali e attività in altri pae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Mobilità e global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asellaDiTesto 4"/>
          <p:cNvSpPr/>
          <p:nvPr/>
        </p:nvSpPr>
        <p:spPr>
          <a:xfrm>
            <a:off x="324000" y="287280"/>
            <a:ext cx="67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   "/>
                <a:ea typeface="Arial   "/>
              </a:rPr>
              <a:t>Il problema del govern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   "/>
                <a:ea typeface="Arial   "/>
              </a:rPr>
              <a:t>della globalizz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onnettore 1 6"/>
          <p:cNvSpPr/>
          <p:nvPr/>
        </p:nvSpPr>
        <p:spPr>
          <a:xfrm>
            <a:off x="434880" y="147168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34880" y="1453680"/>
            <a:ext cx="83044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5800" indent="-59580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La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Cina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 è diventata la seconda potenza economica del mondo, dopo gli USA (14,7% del PIL mondiale nel 2012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800" indent="-59580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800" indent="-59580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Il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baricentro 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economico del pianeta sta spostandosi nell’area dell’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Oceano Pacifico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: i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21 paesi dell’APEC 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(Asian Pacific Economic Cooperation) raccolgono il 55% del prodotto interno lordo del mondo e muovono il 44% dei commerci (2014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800" indent="-59580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800" indent="-59580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Un riflesso politico di questi processi è il passaggio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dal G7 al G20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, che comprende i paesi emergenti dell’Asia, dell’Africa e dell’America La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Mobilità e global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asellaDiTesto 4"/>
          <p:cNvSpPr/>
          <p:nvPr/>
        </p:nvSpPr>
        <p:spPr>
          <a:xfrm>
            <a:off x="324000" y="287280"/>
            <a:ext cx="8415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  <a:ea typeface="Arial"/>
              </a:rPr>
              <a:t>Una nuova geografia econom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32884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egnaposto contenuto 2"/>
          <p:cNvSpPr/>
          <p:nvPr/>
        </p:nvSpPr>
        <p:spPr>
          <a:xfrm>
            <a:off x="434880" y="1676520"/>
            <a:ext cx="822960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Per globalizzazione culturale si intende soprattutto l’espansione attraverso il mondo delle mode, degli stili di vita, dei gusti di matrice nordamericana, grazie al ruolo pervasivo dei med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È un fenomeno controverso, criticato da mol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A controbilanciare le spinte verso l’omologazione si riscontrano le tendenze alla riscoperta delle identità regionali e loc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Si osservano altresì forme di ibridazione tra processi globali e adattamenti locali: è la dimensione </a:t>
            </a:r>
            <a:r>
              <a:rPr b="0" lang="ja-JP" sz="2400" spc="-1" strike="noStrike">
                <a:solidFill>
                  <a:srgbClr val="404040"/>
                </a:solidFill>
                <a:latin typeface="Arial"/>
                <a:ea typeface="Arial"/>
              </a:rPr>
              <a:t>“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glocal</a:t>
            </a:r>
            <a:r>
              <a:rPr b="0" lang="ja-JP" sz="2400" spc="-1" strike="noStrike">
                <a:solidFill>
                  <a:srgbClr val="404040"/>
                </a:solidFill>
                <a:latin typeface="Arial"/>
                <a:ea typeface="Arial"/>
              </a:rPr>
              <a:t>”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sintesi di globale e locale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 (Robertso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asellaDiTesto 1"/>
          <p:cNvSpPr/>
          <p:nvPr/>
        </p:nvSpPr>
        <p:spPr>
          <a:xfrm>
            <a:off x="6418440" y="66024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Mobilità e global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asellaDiTesto 4"/>
          <p:cNvSpPr/>
          <p:nvPr/>
        </p:nvSpPr>
        <p:spPr>
          <a:xfrm>
            <a:off x="324000" y="287280"/>
            <a:ext cx="841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Globalizzazione cultural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e “Glocalizzazione”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onnettore 1 6"/>
          <p:cNvSpPr/>
          <p:nvPr/>
        </p:nvSpPr>
        <p:spPr>
          <a:xfrm>
            <a:off x="434880" y="147168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3176640" y="6121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32884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egnaposto contenuto 2"/>
          <p:cNvSpPr/>
          <p:nvPr/>
        </p:nvSpPr>
        <p:spPr>
          <a:xfrm>
            <a:off x="434880" y="1824120"/>
            <a:ext cx="8251920" cy="37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Società in rete 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(network society), in cui lo spazio dei luoghi cede il passo allo spazio dei flussi (Castell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Compressione spazio-temporale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, ossia drastica riduzione dei tempi e delle distanze, accelerazione dei ritmi di vita (Harve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Disembedding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, le pratiche sociali contemporanee tendono a essere svincolate dai contesti locali(Gidden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Mobilità e global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asellaDiTesto 4"/>
          <p:cNvSpPr/>
          <p:nvPr/>
        </p:nvSpPr>
        <p:spPr>
          <a:xfrm>
            <a:off x="324000" y="287280"/>
            <a:ext cx="841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   "/>
              </a:rPr>
              <a:t>Il dibattito sulle implicazion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   "/>
              </a:rPr>
              <a:t>sociali della globalizz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onnettore 1 6"/>
          <p:cNvSpPr/>
          <p:nvPr/>
        </p:nvSpPr>
        <p:spPr>
          <a:xfrm>
            <a:off x="434880" y="147168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5T17:09:43Z</dcterms:modified>
  <cp:revision>152</cp:revision>
  <dc:subject/>
  <dc:title>Le origini della civiltà greca</dc:title>
</cp:coreProperties>
</file>