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1A5F6-FB79-4C8F-9DF9-5AA6BBB832A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E3835-0447-4134-AD55-A9E353E88B7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69D45-2E1C-4DA5-8285-180F6329204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75E0A-65A0-4EA3-B962-0ECA5A72A4D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967F0-8605-49EA-99F2-6B9F59AA7E5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0543F-DCEC-4342-BAF8-1C1B9DF1A1B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C446D-AD14-42ED-A42B-CB29A06DA1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F5A-C60D-4D32-A954-BBB9E4F1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F4A-B838-451E-A22F-C16DDB8B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5D7-C6CB-4E33-BE91-87CFCB58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58E-CFC3-4C2D-B019-35F87C84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15F-905A-4CCF-A122-33489D9C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3A9-46BF-4113-861A-6BB37B0B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3EE-5ECF-4A17-8E47-F4F6C23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3A3-2FC2-45A1-A3A7-D71B33F6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18C-88FC-4AB6-8C11-ACFC211E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DBE-1EAB-4C3F-B7F5-71730D98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37C-3E36-423A-AFC1-D3286EBA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7A5-8D1C-4627-A4E3-41BA0670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39B85-C7C2-4FB2-AFBF-4EC71C84A221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553DB-2BAA-42A0-BD65-C368BAC6980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Territori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egnaposto contenuto 2"/>
          <p:cNvSpPr/>
          <p:nvPr/>
        </p:nvSpPr>
        <p:spPr>
          <a:xfrm>
            <a:off x="372960" y="1440000"/>
            <a:ext cx="8229600" cy="47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ono quartieri periferici o città satelliti formati in larga misura da grandi complessi di alloggi sociali di proprietà pubbl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Rappresentano la più nota e discussa forma di segregazione sociale nell’Europa contemporan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ono caratterizzate da degrado edilizio e concentrazione di persone socialmente disagiate, spesso di origine minorita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e banlie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contenuto 2"/>
          <p:cNvSpPr/>
          <p:nvPr/>
        </p:nvSpPr>
        <p:spPr>
          <a:xfrm>
            <a:off x="372960" y="1380960"/>
            <a:ext cx="822960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ono state più volte teatro di rivolte giovanili, interpretabili come espressione di sentimenti di marginalizzazione e svalorizz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Intrecciano quindi dimensioni sociali, spaziali ed etno-razziali</a:t>
            </a:r>
            <a:r>
              <a:rPr b="0" lang="it-IT" sz="2400" spc="-1" strike="noStrike">
                <a:solidFill>
                  <a:srgbClr val="40404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e banlie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egnaposto contenuto 2"/>
          <p:cNvSpPr/>
          <p:nvPr/>
        </p:nvSpPr>
        <p:spPr>
          <a:xfrm>
            <a:off x="434880" y="1306440"/>
            <a:ext cx="825192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Il termine, inizialmente ironico (</a:t>
            </a:r>
            <a:r>
              <a:rPr b="0" lang="ja-JP" sz="2400" spc="-1" strike="noStrike">
                <a:solidFill>
                  <a:srgbClr val="404040"/>
                </a:solidFill>
                <a:latin typeface="Arial"/>
                <a:ea typeface="Arial"/>
              </a:rPr>
              <a:t>“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nobilitazione</a:t>
            </a:r>
            <a:r>
              <a:rPr b="0" lang="ja-JP" sz="2400" spc="-1" strike="noStrike">
                <a:solidFill>
                  <a:srgbClr val="404040"/>
                </a:solidFill>
                <a:latin typeface="Arial"/>
                <a:ea typeface="Arial"/>
              </a:rPr>
              <a:t>”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) indica la riqualificazione di quartieri popolari e vecchie aree industriali, con la sostituzione dei vecchi abitanti da parte di gruppi sociali più ricch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I nuovi abitanti danno impulso all’attività edilizia, esprimono una nuova domanda di consumi, e quindi attraggono l’insediamento di attività economiche destinate a rispondervi, mentre i vecchi abitanti sono tendenzialmente espul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   "/>
              </a:rPr>
              <a:t>La gentr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egnaposto contenuto 2"/>
          <p:cNvSpPr/>
          <p:nvPr/>
        </p:nvSpPr>
        <p:spPr>
          <a:xfrm>
            <a:off x="434880" y="1593720"/>
            <a:ext cx="82519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La 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gentrification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può innescarsi spontaneamente o essere favorita dalle politiche pubbli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Varianti: supergentrification, studentification</a:t>
            </a:r>
            <a:r>
              <a:rPr b="0" lang="it-IT" sz="2400" spc="-1" strike="noStrike">
                <a:solidFill>
                  <a:srgbClr val="40404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   "/>
              </a:rPr>
              <a:t>La gentr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egnaposto contenuto 2"/>
          <p:cNvSpPr/>
          <p:nvPr/>
        </p:nvSpPr>
        <p:spPr>
          <a:xfrm>
            <a:off x="434880" y="1547640"/>
            <a:ext cx="846936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I «non-luoghi» sono spazi privi di storia e di significato, standardizzati e omologati per categorie (es.: le stazioni di servizio o i supermercati), che non conferiscono identità a chi li frequenta e non producono rapporti sociali significativ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Vengono fruiti, attraversati, ma non abit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Malgrado la fortuna del concetto, la sua applicazione va sfumata: per es. i centri commerciali sono per molti frequentatori luoghi di esperienze sociali significa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   "/>
              </a:rPr>
              <a:t>I non-luoghi (Marc Augé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contenuto 2"/>
          <p:cNvSpPr/>
          <p:nvPr/>
        </p:nvSpPr>
        <p:spPr>
          <a:xfrm>
            <a:off x="434880" y="1555920"/>
            <a:ext cx="830448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Tre criteri solitamente utilizza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la struttura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,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ossia la solidità dei muri, la qualità della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costruzione, la tenuta del tetto e dei serrament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il comfort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,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ossia l’efficienza del riscaldamento, la presenza e la qualità dei servizi igienic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la quantità di spazio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isponibile in rapporto al numero degli abita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   "/>
              </a:rPr>
              <a:t>L’adeguatezza dell’abit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contenuto 2"/>
          <p:cNvSpPr/>
          <p:nvPr/>
        </p:nvSpPr>
        <p:spPr>
          <a:xfrm>
            <a:off x="434880" y="1552680"/>
            <a:ext cx="82962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Riflessione critica sugli effetti indesiderati delle politiche di edilizia sociale che hanno formato grandi quartieri socialmente problematici (le 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banlieues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), si insiste oggi sulla mescolanza sociale di gruppi diver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Anche questa nuova impostazione è tuttavia soggetta a critiche: non basta la vicinanza di gruppi diversi a produrre coesione; si riduce la disponibilità di alloggi per le fasce più debo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   "/>
              </a:rPr>
              <a:t>Le politiche abit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egnaposto contenuto 2"/>
          <p:cNvSpPr/>
          <p:nvPr/>
        </p:nvSpPr>
        <p:spPr>
          <a:xfrm>
            <a:off x="434880" y="1203480"/>
            <a:ext cx="822960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È collegata con la grave emarginazione, ma non coincide con es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Quattro categorie di persone </a:t>
            </a:r>
            <a:r>
              <a:rPr b="0" lang="ja-JP" sz="2400" spc="-1" strike="noStrike">
                <a:solidFill>
                  <a:srgbClr val="404040"/>
                </a:solidFill>
                <a:latin typeface="Arial"/>
                <a:ea typeface="Arial"/>
              </a:rPr>
              <a:t>“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enza dimora</a:t>
            </a:r>
            <a:r>
              <a:rPr b="0" lang="ja-JP" sz="2400" spc="-1" strike="noStrike">
                <a:solidFill>
                  <a:srgbClr val="404040"/>
                </a:solidFill>
                <a:latin typeface="Arial"/>
                <a:ea typeface="Arial"/>
              </a:rPr>
              <a:t>”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Roofless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: le persone senza tetto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ossia coloro che dormono per strada o in sistemazioni di emergenz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Houseless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le persone senza casa, alloggiate in dormitori o in altri centri di accoglienza temporane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   "/>
              </a:rPr>
              <a:t>L’esclusione abita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176640" y="612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32884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contenuto 2"/>
          <p:cNvSpPr/>
          <p:nvPr/>
        </p:nvSpPr>
        <p:spPr>
          <a:xfrm>
            <a:off x="434880" y="1263600"/>
            <a:ext cx="82296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Insecure: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le persone che abitano in una casa, ma non hanno la certezza di potervi rimanere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Inadequate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le persone che vivono in contenitori non destinati all’abitazione, come roulotte, camper, baracche, oppure si trovano in situazioni di grave sovraffolla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   "/>
              </a:rPr>
              <a:t>L’esclusione abita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Abitanti e fruitori della cit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5600" y="1441440"/>
          <a:ext cx="8702640" cy="4414680"/>
        </p:xfrm>
        <a:graphic>
          <a:graphicData uri="http://schemas.openxmlformats.org/drawingml/2006/table">
            <a:tbl>
              <a:tblPr/>
              <a:tblGrid>
                <a:gridCol w="2012760"/>
                <a:gridCol w="1468440"/>
                <a:gridCol w="1740240"/>
                <a:gridCol w="1739880"/>
                <a:gridCol w="174132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ol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tiv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 urbana corrispond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t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vora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ta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ì/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tà tradizi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ol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ì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ropoli di prima gener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us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ropoli di seconda gener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ropolitan business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ropoli di terza gener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CasellaDiTesto 4"/>
          <p:cNvSpPr/>
          <p:nvPr/>
        </p:nvSpPr>
        <p:spPr>
          <a:xfrm>
            <a:off x="324000" y="287280"/>
            <a:ext cx="84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Arial   "/>
              </a:rPr>
              <a:t>Popolazioni e forme urbane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  <a:ea typeface="Arial   "/>
              </a:rPr>
              <a:t>(Martinot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contenuto 2"/>
          <p:cNvSpPr/>
          <p:nvPr/>
        </p:nvSpPr>
        <p:spPr>
          <a:xfrm>
            <a:off x="434880" y="1590480"/>
            <a:ext cx="8304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e metropoli contemporanee sono frequentate, attraversate e fruite da popolazioni diverse, con esigenze differenti e talora oppo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esperienza urbana non coincide più con la residenza in città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a città a sua volta conferma la sua centralità sociale, ma con una crescente mobilità e varietà delle popolazioni che ne fanno esperie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esperienza urb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tangolo 2"/>
          <p:cNvSpPr/>
          <p:nvPr/>
        </p:nvSpPr>
        <p:spPr>
          <a:xfrm>
            <a:off x="434880" y="1455840"/>
            <a:ext cx="830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La concentrazione residenziale di gruppi sociali affini ha origini antich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Avvi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per mestie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per una motivazione etnico-reli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involontariamente, come nel caso dei ghetti destinati agli ebr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volontariamente, in quanto offre vantaggi, in termini di socialità e accesso a determinati serviz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concentrazione residenz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4880" y="1552320"/>
            <a:ext cx="83836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89680" indent="-5896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Assimilazione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: i nuovi arrivati gradualmente si fondono con i residenti già da tempo insediati, acquisendone i tratti culturali e le pratiche sociali e diventando così simili a es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Successione ecologica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: le popolazioni si avvicendano in una certa area urbana secondo dinamiche in parte prevedibili, ma i quartieri mantengono le loro caratteristiche specifiche, cosi come i nuovi arrivati ricalcano la situazione dei loro predecessor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sellaDiTesto 4"/>
          <p:cNvSpPr/>
          <p:nvPr/>
        </p:nvSpPr>
        <p:spPr>
          <a:xfrm>
            <a:off x="324000" y="287280"/>
            <a:ext cx="84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ue concetti (scuola di Chicag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4880" y="1550520"/>
            <a:ext cx="83044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Consiste nella separazione fisica, spaziale, fra i gruppi nei quali si articola una certa popolazione, in base a tratti come la provenienza, la religione, il reddito, quali che siano i motivi che l</a:t>
            </a:r>
            <a:r>
              <a:rPr b="0" lang="ja-JP" sz="2400" spc="-1" strike="noStrike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hanno provoc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Può essere volontaria o involonta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</a:rPr>
              <a:t>Segregazione residenz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34880" y="1823760"/>
            <a:ext cx="830448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Indice di dissimilarità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: 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misura il grado di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separazione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residenziale tra due o più gruppi sociali, variando da 0 a 100: se l’indice si approssima allo 0, vuol dire che non vi è segreg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Indice di prevalenza demografica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misura il rapporto percentuale tra un certo gruppo e il totale degli abitanti di un quarti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Indice di concentrazione residenziale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: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ice quanti individui appartenenti a un certo gruppo sociale risiedono in un quartiere, rispetto al totale dei membri del gruppo che risultano residenti in cit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asellaDiTesto 4"/>
          <p:cNvSpPr/>
          <p:nvPr/>
        </p:nvSpPr>
        <p:spPr>
          <a:xfrm>
            <a:off x="324000" y="287280"/>
            <a:ext cx="67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   "/>
                <a:ea typeface="Arial   "/>
              </a:rPr>
              <a:t>Indici per la misurazione della segregazione residenz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nettore 1 6"/>
          <p:cNvSpPr/>
          <p:nvPr/>
        </p:nvSpPr>
        <p:spPr>
          <a:xfrm>
            <a:off x="434880" y="146376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4880" y="1824120"/>
            <a:ext cx="830448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Ghetto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: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è una forma di concentrazione subita da parte di un determinato gruppo sociale, considerato inferiore o pericoloso dalle autorità e dalla popolazione maggiorita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Enclave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: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concentrazione volontaria di</a:t>
            </a:r>
            <a:r>
              <a:rPr b="0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persone che scelgono la contiguità residenziale con altri con cui condividono certi tratti culturali (lingua, religione, nazionalità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Cittadella</a:t>
            </a: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Arial"/>
              </a:rPr>
              <a:t>: esprime anch’essa una concentrazione volontaria, ma basata su criteri socio-economici e non culturali. Caratterizza gruppi privilegi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Territori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Abitanti e fruitori della cit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asellaDiTesto 4"/>
          <p:cNvSpPr/>
          <p:nvPr/>
        </p:nvSpPr>
        <p:spPr>
          <a:xfrm>
            <a:off x="324000" y="287280"/>
            <a:ext cx="8415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Tre forme di concentrazione residenziale (Marcus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nettore 1 6"/>
          <p:cNvSpPr/>
          <p:nvPr/>
        </p:nvSpPr>
        <p:spPr>
          <a:xfrm>
            <a:off x="434880" y="146376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6:47:19Z</dcterms:modified>
  <cp:revision>152</cp:revision>
  <dc:subject/>
  <dc:title>Le origini della civiltà greca</dc:title>
</cp:coreProperties>
</file>