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E42E5-AB70-404C-B4D0-8DA18DB7E96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45838-8E96-4235-9FB7-4E2C0EB025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7CA7F-1E3B-4A59-BF3D-87AB47B34CD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7A00E-51B1-4D87-A8FF-9E5E65EB2DC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202C7-DC76-4822-B989-15AEF5C0EC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5C857-F915-40F6-841A-D363A04FE6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FDA80-8FF2-434A-A216-C50B3556C1C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BB3-A493-4696-B48D-08690BA5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3BD-7CA6-4219-BA6B-1A28F44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33A-B0B4-4C7E-94E4-68F1A839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16F-8411-439D-AE14-BD3959D6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746-8567-4FB6-8CA5-3D03A3C4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7F5-7153-4A74-B497-67DCAED9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B6A-D1B6-4932-A30E-CEB7E7F6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396-F5E8-45C4-AC57-C6A252D7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E38-F0A4-4475-9F2F-12E44E34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F3A-5E16-49E4-9A28-584C66FB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B9F-5E24-4328-9210-BD9B94C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E9B-D1D5-44F9-8E81-D30D9D7A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20E67-A1EE-46FB-8878-F72D894CEF3E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66971-F66D-4448-B4B3-8FDA28574E9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Territori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contenuto 2"/>
          <p:cNvSpPr/>
          <p:nvPr/>
        </p:nvSpPr>
        <p:spPr>
          <a:xfrm>
            <a:off x="434880" y="178452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  <a:ea typeface="Arial"/>
              </a:rPr>
              <a:t>Morfologia urbana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 le città europee hanno una forma compatta, sono densamente costrui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Longevità</a:t>
            </a:r>
            <a:r>
              <a:rPr b="0" i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la grande maggioranza di esse ha origini antiche, romane o medioeval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Densità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 fanno parte di sistemi urbani molto fitti, con poca distanza fra loro (13 km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Prevalenza della dimensione piccola o media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(tra 20.000 e 100.000 abitant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sellaDiTesto 4"/>
          <p:cNvSpPr/>
          <p:nvPr/>
        </p:nvSpPr>
        <p:spPr>
          <a:xfrm>
            <a:off x="324000" y="287280"/>
            <a:ext cx="57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Elementi caratterizzanti delle città europ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nettore 1 6"/>
          <p:cNvSpPr/>
          <p:nvPr/>
        </p:nvSpPr>
        <p:spPr>
          <a:xfrm>
            <a:off x="434880" y="15001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contenuto 2"/>
          <p:cNvSpPr/>
          <p:nvPr/>
        </p:nvSpPr>
        <p:spPr>
          <a:xfrm>
            <a:off x="434880" y="13795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truttura uniforme, reticolare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a griglia geometrica, senza un centro ben identifica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Diffusione urbana a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bassa densità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(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urban sprawl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Policentrismo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e dipendenza dall’automob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oncentrazione delle popolazioni povere nelle aree centrali</a:t>
            </a:r>
            <a:r>
              <a:rPr b="0" lang="it-IT" sz="2400" spc="-1" strike="noStrike">
                <a:solidFill>
                  <a:srgbClr val="40404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a città nordameric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contenuto 2"/>
          <p:cNvSpPr/>
          <p:nvPr/>
        </p:nvSpPr>
        <p:spPr>
          <a:xfrm>
            <a:off x="434880" y="13730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Anche in Europa negli ultimi decenni le città si sono allargate nel territorio circostan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Dispersione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delle attività e delle residenze, perdita di rilevanza dei confini urbani, aumento del traffico pendol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Periurbanizzazione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processo di disseminazione di edifici e infrastrutture attorno ai centri urba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Rurbanizzazione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pratiche abitative che consentono di mescolare stili di vita urbani e rur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a diffusione urb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I processi di urbanizz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contenuto 2"/>
          <p:cNvSpPr/>
          <p:nvPr/>
        </p:nvSpPr>
        <p:spPr>
          <a:xfrm>
            <a:off x="434880" y="1414080"/>
            <a:ext cx="811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 Weber la città è uno stabile insediamento di mercato, dotato di istituzioni politiche di autogoverno almeno parziale. Si associa alla modernizzazione della mentalità, favorita dalla razionalità dello scambio econom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nche in Simmel, la città si associa alla «spietata oggettività» dello scambio economico. È inoltre luogo di contatti sociali numerosi ma superficiali, della riservatezza e della distr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Città e vita mode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contenuto 2"/>
          <p:cNvSpPr/>
          <p:nvPr/>
        </p:nvSpPr>
        <p:spPr>
          <a:xfrm>
            <a:off x="434880" y="1421640"/>
            <a:ext cx="770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Inurbamento: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l’afflusso di popolazione dalle zone rurali verso le cit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Urbanizza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l’aumento del numero di persone che vivono in città, l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’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ffetto dell’inurba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Tasso di urbanizza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è la percentuale di popolazione che vive in città, rispetto al totale degli abitanti di un territo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Urbanesim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l’assunzione di modi di pensare e stili di vita tipici delle città. È la dimensione culturale dei primi due proces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Alcuni concetti in evide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tangolo 2"/>
          <p:cNvSpPr/>
          <p:nvPr/>
        </p:nvSpPr>
        <p:spPr>
          <a:xfrm>
            <a:off x="434880" y="1373040"/>
            <a:ext cx="795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De-urbanizzazione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 o contro-urbanizzazione: la fuoriuscita di popolazione dalle cit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Suburbanizzazione</a:t>
            </a:r>
            <a:r>
              <a:rPr b="0" i="1" lang="en-US" sz="2400" spc="-1" strike="noStrike">
                <a:solidFill>
                  <a:srgbClr val="404040"/>
                </a:solidFill>
                <a:latin typeface="Arial   "/>
              </a:rPr>
              <a:t>: 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è il processo che trasforma  le aree rurali in residenziali, convertendole in sobborghi o perifer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Conurbazione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si crea quando una città preminente assorbe i centri minori circostanti, o quando due o più città di fatto si fondo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Alcuni concetti in evide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4880" y="1371240"/>
            <a:ext cx="8353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1920" indent="-6019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ossiamo intendere la città co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un insediamento relativamente ampio, denso e stabile di una popolazione composta di individui socialmente eterogen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920" indent="-6019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otato di autogover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 grado di sviluppare al suo interno diverse funzioni che favoriscono l’interazione sociale (economiche, culturali, educative, politiche, religiose, associative, ricreativ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efinizione di cit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4880" y="1780920"/>
            <a:ext cx="811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Proto-urbanizza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è collegata alla rivoluzione neolitica e alla nascita dell’agricolt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Rivoluzione urbana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nascono vere città, con forme anche elaborate di organizzazione sociale (caso delle capitali degli antichi imper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Industrializza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grazie alle industrie, si sviluppano le città del mondo occident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Urbanizzazione del Sud del mond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oggi la crescita urbana si concentra nelle megalopoli del Sud del pianeta, dissociandosi dallo sviluppo econom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sellaDiTesto 4"/>
          <p:cNvSpPr/>
          <p:nvPr/>
        </p:nvSpPr>
        <p:spPr>
          <a:xfrm>
            <a:off x="324000" y="28728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</a:rPr>
              <a:t>Quattro fasi nella storia dell’urbanizzazione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(Bairo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nettore 1 6"/>
          <p:cNvSpPr/>
          <p:nvPr/>
        </p:nvSpPr>
        <p:spPr>
          <a:xfrm>
            <a:off x="434880" y="15001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34880" y="1862280"/>
            <a:ext cx="830448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Fattori di spinta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sconvolgimenti degli assetti rurali tradizionali, disastri ambientali, espulsione di popolazione dalle campag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Fattori di attrazione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aspettativa di trovare in città lavoro, servizi, assistenza, stili di vita più stimola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Come per le migrazioni internazionali, influiscono però molto i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legami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 con persone conosciute e già insedi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asellaDiTesto 4"/>
          <p:cNvSpPr/>
          <p:nvPr/>
        </p:nvSpPr>
        <p:spPr>
          <a:xfrm>
            <a:off x="324000" y="28728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   "/>
                <a:ea typeface="Arial   "/>
              </a:rPr>
              <a:t>Le ragioni della crescita delle megalopoli del Sud del mon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nettore 1 6"/>
          <p:cNvSpPr/>
          <p:nvPr/>
        </p:nvSpPr>
        <p:spPr>
          <a:xfrm>
            <a:off x="434880" y="15001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324000" y="5756400"/>
            <a:ext cx="8708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378080"/>
            <a:ext cx="811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Prima fase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tà antica; città sul Mediterraneo, poi verso interno sugli assi del Rodano e del Re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econda fase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medioevo; segue direttrici epoca romana con nuovi poli urbani sulle coste settentrion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Terza fase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tà moderna; sviluppo delle capitali politiche e amministrative degli Stati nazional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Quarta fase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tà dell’industrializzazione; protagoniste le città costi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processi di urbanizz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sellaDiTesto 4"/>
          <p:cNvSpPr/>
          <p:nvPr/>
        </p:nvSpPr>
        <p:spPr>
          <a:xfrm>
            <a:off x="324000" y="287280"/>
            <a:ext cx="841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città europee: fasi di urbanizzazi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6:30:58Z</dcterms:modified>
  <cp:revision>136</cp:revision>
  <dc:subject/>
  <dc:title>Le origini della civiltà greca </dc:title>
</cp:coreProperties>
</file>