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F05E0-ED26-4D21-ABA8-EDE6B509A7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7D949-34B0-480A-B826-47DC81E1CD5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BA1-70AC-4480-BA14-8FBE9266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664-53C4-4F34-A251-63FFA07E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85F-E09E-4574-909A-7895F175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FE6-C209-4735-BCA9-C34820CF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218-8796-4902-B88A-D79E2F8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1A1-0490-4710-BC35-84D0984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26B-2BAA-4C73-8701-AC56E92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8DF-BC7A-49B2-B4EE-9A26532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5D9-EA84-4206-A218-080DA939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77C-AA47-4E05-8261-3F52D0F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8B7-001A-4427-BC57-9F378EB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216-B278-42D1-BB2B-C79BD35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05C09-39C7-4639-ADF8-83A73855EDF6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Le origini della cività gre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BDE03-09F7-4C80-B940-0EA85D940A5B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2331720"/>
            <a:ext cx="6270840" cy="17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5400" spc="-1" strike="noStrike">
                <a:solidFill>
                  <a:srgbClr val="d9d9d9"/>
                </a:solidFill>
                <a:latin typeface="Arial   "/>
              </a:rPr>
              <a:t>Politica e societ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sellaDiTesto 4"/>
          <p:cNvSpPr/>
          <p:nvPr/>
        </p:nvSpPr>
        <p:spPr>
          <a:xfrm>
            <a:off x="324000" y="287280"/>
            <a:ext cx="83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</a:rPr>
              <a:t>Mobilità geograf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   "/>
              </a:rPr>
              <a:t>e sviluppi della cittadina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8520" y="19443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atur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oppia cittadin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ritto di voto dall’es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ittadinanza transnaz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dentità-m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onnettore 1 6"/>
          <p:cNvSpPr/>
          <p:nvPr/>
        </p:nvSpPr>
        <p:spPr>
          <a:xfrm>
            <a:off x="398520" y="145404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8520" y="182232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cittadinanza non è soltanto uno status giuridico che viene concesso ‘dall’alto’, ossia dagli Stati: è anche in una certa misura costruita e conquistata attivamente, mediante diverse pratiche politiche e soci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«Atti di cittadinanza» (Isin e Nielsen, 2008): gli atti, individuali e collettivi, mediante i quali i soggetti si costituiscono come cittadini (es.: infrazione delle regole nella separazione razz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sellaDiTesto 4"/>
          <p:cNvSpPr/>
          <p:nvPr/>
        </p:nvSpPr>
        <p:spPr>
          <a:xfrm>
            <a:off x="324000" y="28728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La produz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di cittadinanza dal bas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nettore 1 6"/>
          <p:cNvSpPr/>
          <p:nvPr/>
        </p:nvSpPr>
        <p:spPr>
          <a:xfrm>
            <a:off x="398520" y="145404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1590840"/>
            <a:ext cx="83628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aspettative legittime, giustificate da una legge o da un accordo, che qualcun altro faccia o si astenga dal fare qualcosa, legati all’appartenenza nazionale fino alla seconda guerra mond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 umani universa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diritti delle persone in quanto tali, non vincolati alla nazionalità, riconosciuti dal secondo dopoguerra (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Dichiarazione universale dei diritti dell’uomo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romulgata dalle Nazioni Unite il 10 dicembre 194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 diritti uma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8520" y="1939680"/>
            <a:ext cx="822960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analisi dell’effettiva accettazione e attuazione dei diritti riconosciuti a livello legale: problema dei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“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ritti di carta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 (Bob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costruzione sociale dei diritti: come i diritti sorgono, vengono diffusi e si affer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ttore 1 6"/>
          <p:cNvSpPr/>
          <p:nvPr/>
        </p:nvSpPr>
        <p:spPr>
          <a:xfrm>
            <a:off x="398520" y="145404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sellaDiTesto 4"/>
          <p:cNvSpPr/>
          <p:nvPr/>
        </p:nvSpPr>
        <p:spPr>
          <a:xfrm>
            <a:off x="324000" y="217440"/>
            <a:ext cx="67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Due prospetti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per lo studio dei diritti uma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251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Nasce ufficialmente nel 1942 nel Regno Unito, con il rapporto Beve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omprende un complesso di strategie di protezione sociale universalistica, ossia estesa a tutti i cittadini, mediante il meccanismo dell’assicurazione obbligatoria (per pensioni, sanità, infortuni sul lavo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’Europa è l’area in cui si è maggiormente svilupp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È soggetto negli ultimi anni a revisioni e limitazioni, per problemi di sostenibilità finanziaria (es.: innalzamento dell’età pensionabi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l Welfare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1592280"/>
            <a:ext cx="8362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Regime liberale o anglosas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Regime socialdemocratico o nor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Regime continentale o conserv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Regime sud-europeo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 variante del regime continentale (Spagna, Portogallo, Grecia, Italia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 regimi di welfare in Europ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246320"/>
            <a:ext cx="871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risi dei sistemi di welfare per cause endogene (invecchiamento della popolazione e costi crescenti) ed esogene (globalizzazione e competizione internazion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fficoltà a tutelare i nuovi bisogni, a fornire prestazioni mirate, a promuovere il reinserimento sociale dei soggetti assist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nfasi sulle 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“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politiche sociali attive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”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workfar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learnfare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Allargamento del concetto di welfare, oltre lo Stato: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welfare mix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,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welfare society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Crisi e riforma del welf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4000" y="1248840"/>
            <a:ext cx="83628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sieme composito di soggetti e attività, che hanno in comune la natura giuridica privata, ma non orientata al profitto (anche non-profit, privato-sociale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stinto da Stato e merc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Comprende associazioni di volontariato, cooperative sociali, fond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Il terzo set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324000" y="4230720"/>
            <a:ext cx="59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3d3d3d"/>
                </a:solidFill>
                <a:latin typeface="Arial"/>
                <a:ea typeface="Arial"/>
              </a:rPr>
              <a:t>La politica in 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ttore 1 6"/>
          <p:cNvSpPr/>
          <p:nvPr/>
        </p:nvSpPr>
        <p:spPr>
          <a:xfrm>
            <a:off x="434880" y="4879800"/>
            <a:ext cx="83044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3640" y="1249200"/>
            <a:ext cx="847548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n inglese, l’attività politica è denominata con tre termin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litics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è la dimensione istituzionale della politica. Vi rientrano governi, parlamenti, part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licy</a:t>
            </a: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(spesso al plurale, </a:t>
            </a:r>
            <a:r>
              <a:rPr b="0" i="1" lang="it-IT" sz="2400" spc="-1" strike="noStrike">
                <a:solidFill>
                  <a:srgbClr val="404040"/>
                </a:solidFill>
                <a:latin typeface="Arial   "/>
              </a:rPr>
              <a:t>policies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): è il prodotto della politica, in termini di misure che ricadono sulla società (politica fiscale, politica sociale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404040"/>
                </a:solidFill>
                <a:latin typeface="Arial   "/>
              </a:rPr>
              <a:t>Polity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oncerne la definizione dell’identità e dei confini della comunità politica (es.: le norme sulla cittadin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Arial   "/>
              </a:rPr>
              <a:t>Politica e polit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6500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iversi sociologi hanno sostenuto che il potere effettivo rimane concentrato nelle mani di un’é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Minoranze coese contro maggioranze disorganizzate (Gaetano Mosca, 189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legge ferrea dell’oligarchia. «Chi dice organizzazione, dice oligarchia» (Robert Michels, 191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Il complesso militare-industriale, la sua influenza sulla politica e i processi di cooptazione per arrivare a posizioni di vertice (Charles Wright Mills, 195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4"/>
          <p:cNvSpPr/>
          <p:nvPr/>
        </p:nvSpPr>
        <p:spPr>
          <a:xfrm>
            <a:off x="324000" y="287280"/>
            <a:ext cx="74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’esercizio del potere decisionale: le posizioni eliti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ttore 1 6"/>
          <p:cNvSpPr/>
          <p:nvPr/>
        </p:nvSpPr>
        <p:spPr>
          <a:xfrm>
            <a:off x="398520" y="145404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571400"/>
            <a:ext cx="836280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Alle teorie elitiste si contrappongono le </a:t>
            </a: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posizioni pluralist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, che insistono sulla diversità e sulla competizione tra i gruppi domina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</a:rPr>
              <a:t>La competizione fra éli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24000" y="1581120"/>
            <a:ext cx="83628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Gruppo di interesse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: un insieme di persone che si aggregano volontariamente per difendere i propri specifici inter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  "/>
              </a:rPr>
              <a:t>Gruppo di pressione 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(in inglese </a:t>
            </a:r>
            <a:r>
              <a:rPr b="0" i="1" lang="en-US" sz="2400" spc="-1" strike="noStrike">
                <a:solidFill>
                  <a:srgbClr val="404040"/>
                </a:solidFill>
                <a:latin typeface="Arial   "/>
              </a:rPr>
              <a:t>lobby</a:t>
            </a:r>
            <a:r>
              <a:rPr b="0" lang="en-US" sz="2400" spc="-1" strike="noStrike">
                <a:solidFill>
                  <a:srgbClr val="404040"/>
                </a:solidFill>
                <a:latin typeface="Arial   "/>
              </a:rPr>
              <a:t>): quando il gruppo  per affermare i propri interessi mobilita delle risorse (es.: la promessa di appoggio elettorale) per influenzare le decisioni poli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sellaDiTesto 4"/>
          <p:cNvSpPr/>
          <p:nvPr/>
        </p:nvSpPr>
        <p:spPr>
          <a:xfrm>
            <a:off x="324000" y="28728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Gruppi d’interesse e di press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674360"/>
            <a:ext cx="83628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Giuridicamente indica anzitutto la relazione tra un individuo e uno Stato, e i diritti e i doveri che tale relazione com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Sociologicamente indica lo status che viene conferito a coloro che sono membri a pieno diritto di una comunità. Quelli che lo posseggono sono uguali rispetto ai diritti e ai doveri (Marsha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sellaDiTesto 4"/>
          <p:cNvSpPr/>
          <p:nvPr/>
        </p:nvSpPr>
        <p:spPr>
          <a:xfrm>
            <a:off x="324000" y="287280"/>
            <a:ext cx="67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"/>
              </a:rPr>
              <a:t>La cittadina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8960" y="179676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Forte legame tra cittadinanza e appartenenza 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Duplice volto: comporta inclusione e lotta contro la disuguaglianza all’interno, tra i cittadini, ma esclusione verso l</a:t>
            </a:r>
            <a:r>
              <a:rPr b="0" lang="ja-JP" sz="2400" spc="-1" strike="noStrike">
                <a:solidFill>
                  <a:srgbClr val="404040"/>
                </a:solidFill>
                <a:latin typeface="Arial   "/>
              </a:rPr>
              <a:t>’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esterno, nei confronti dei non cittad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La globalizzazione complica ancora la situazione quando sul territorio nazionale vengono a risiedere a vario titolo degli strani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sellaDiTesto 4"/>
          <p:cNvSpPr/>
          <p:nvPr/>
        </p:nvSpPr>
        <p:spPr>
          <a:xfrm>
            <a:off x="324000" y="287280"/>
            <a:ext cx="79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La cittadinanz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tra nazione e global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ttore 1 6"/>
          <p:cNvSpPr/>
          <p:nvPr/>
        </p:nvSpPr>
        <p:spPr>
          <a:xfrm>
            <a:off x="398520" y="148428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4000" y="1243080"/>
            <a:ext cx="836280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 civi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riferiscono alle libertà individuali fondamentali (di opinione, di culto, di tutela contro l’arbitrio dello Stato). Si sono sviluppati a partire dal Settec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 politic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consistono nella facoltà di votare e di essere eletti. Si sono affermati nell’Ottoc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   "/>
              </a:rPr>
              <a:t>Diritti sociali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</a:rPr>
              <a:t>: si riferiscono ai benefici e servizi assicurati dallo Stato ai cittadini su basi di uguaglianza (scuola, sanità, pensioni…). Si sono sviluppati nella seconda metà del Novecento, soprattutto in Eur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ttore 1 6"/>
          <p:cNvSpPr/>
          <p:nvPr/>
        </p:nvSpPr>
        <p:spPr>
          <a:xfrm>
            <a:off x="324000" y="936720"/>
            <a:ext cx="83041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piè di pagina 10"/>
          <p:cNvSpPr/>
          <p:nvPr/>
        </p:nvSpPr>
        <p:spPr>
          <a:xfrm>
            <a:off x="324000" y="6450120"/>
            <a:ext cx="569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Politica e società </a:t>
            </a:r>
            <a:r>
              <a:rPr b="0" lang="it-IT" sz="1000" spc="-1" strike="noStrike">
                <a:solidFill>
                  <a:srgbClr val="404040"/>
                </a:solidFill>
                <a:latin typeface="Arial"/>
                <a:ea typeface="Arial"/>
              </a:rPr>
              <a:t>&gt; La politica in azi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ttore 1 14"/>
          <p:cNvSpPr/>
          <p:nvPr/>
        </p:nvSpPr>
        <p:spPr>
          <a:xfrm>
            <a:off x="324000" y="6450120"/>
            <a:ext cx="6858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4"/>
          <p:cNvSpPr/>
          <p:nvPr/>
        </p:nvSpPr>
        <p:spPr>
          <a:xfrm>
            <a:off x="324000" y="287280"/>
            <a:ext cx="83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6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Tre tipi di diritti di cittadinanza </a:t>
            </a:r>
            <a:r>
              <a:rPr b="0" lang="it-IT" sz="2400" spc="-1" strike="noStrike">
                <a:solidFill>
                  <a:srgbClr val="404040"/>
                </a:solidFill>
                <a:latin typeface="Arial   "/>
                <a:ea typeface="ＭＳ Ｐゴシック"/>
              </a:rPr>
              <a:t>(Marsh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9:53:44Z</dcterms:created>
  <dc:creator>Emanuele Centola</dc:creator>
  <dc:description/>
  <dc:language>en-US</dc:language>
  <cp:lastModifiedBy>ame ame</cp:lastModifiedBy>
  <dcterms:modified xsi:type="dcterms:W3CDTF">2016-12-15T16:24:00Z</dcterms:modified>
  <cp:revision>173</cp:revision>
  <dc:subject/>
  <dc:title>Le origini della civiltà greca </dc:title>
</cp:coreProperties>
</file>