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90754-C898-448B-86E5-2859AD7EEB1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B0201-D21A-4588-A6DE-78DCCC8E56B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F93-EF6B-4A2D-9D27-E44740C5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E71-F595-4C4E-944D-B48563FE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9DE-F29B-4153-AFB0-08A10B76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ECA-6728-4C8E-A038-22A1F2D4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449-0134-43D4-994F-C7298544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17C-5279-4383-9FDB-7961621C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B05-6367-4854-A22E-DDE4BCFA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11D-E172-4220-9FA9-C59662A8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CBC-8526-448C-A294-B21971E5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AEA-4E35-44BA-877E-1DF95BEF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4B7-73A8-42D5-B8A5-0F95E1D7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B41-090A-47E6-BE85-3D6F7189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8CCCC-18AF-420D-93E6-DD3F907997F2}" type="datetime">
              <a:rPr b="0" lang="it-IT" sz="1200" spc="-1" strike="noStrike">
                <a:solidFill>
                  <a:srgbClr val="89898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E056C-C98D-40F7-AEB6-3FA3C296CA91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   "/>
              </a:rPr>
              <a:t>Politica e societ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51000" y="1351080"/>
            <a:ext cx="8229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Sono un insieme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reti di relazioni 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prevalentemente inform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basate su </a:t>
            </a: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credenze condi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solidarie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capacità di </a:t>
            </a: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mobilitazione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 mediante varie forme di prot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I movimenti soci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60360" y="1217520"/>
            <a:ext cx="82296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È uno sbocco estremo delle forme di protesta contro i poteri costitu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Consiste nell’impiego della violenza da parte di attori non istituzionali, nei confronti di simboli, infrastrutture, personale militare, ma soprattutto di semplici civili disarmati, allo scopo di perseguire obiettivi polit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l concetto è però controverso: a volte movimenti e leader politici in una prima fase sono stati definiti terroristi, poi sono diventati interlocutori rispettati (Mandela, Arafat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Il caso del terroris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4"/>
          <p:cNvSpPr/>
          <p:nvPr/>
        </p:nvSpPr>
        <p:spPr>
          <a:xfrm>
            <a:off x="324000" y="28728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Arial   "/>
              </a:rPr>
              <a:t>Una tipologia dei movimenti sociali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  <a:ea typeface="Arial   "/>
              </a:rPr>
              <a:t>(Tarrow, 199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28640"/>
          <a:ext cx="8096400" cy="4586400"/>
        </p:xfrm>
        <a:graphic>
          <a:graphicData uri="http://schemas.openxmlformats.org/drawingml/2006/table">
            <a:tbl>
              <a:tblPr/>
              <a:tblGrid>
                <a:gridCol w="2023920"/>
                <a:gridCol w="1791000"/>
                <a:gridCol w="2257200"/>
                <a:gridCol w="2024280"/>
              </a:tblGrid>
              <a:tr h="1233720">
                <a:tc gridSpan="2" rowSpan="2"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ello di opposizione alle istituzi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zia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7800">
                <a:tc rowSpan="2"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i rapporto con le istituzi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ttu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menti espressi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menti integrali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menti di rifor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menti comunita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9" name="Connettore 1 6"/>
          <p:cNvSpPr/>
          <p:nvPr/>
        </p:nvSpPr>
        <p:spPr>
          <a:xfrm>
            <a:off x="324000" y="136224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24000" y="1411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er buona parte del 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‘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900, sono rientrati nell’ambito del movimento opera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ntorno al 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’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68, sono comparsi i 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“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nuovi movimenti sociali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”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più autonomi, legati a scelte ed esperienze soggettive (pacifisti, ambientalisti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i sviluppano movimenti single issue (es.: animalis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Verso la fine degli anni 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’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90, ritornano alla ribalta istanze economiche e sociali (NO global, Occupy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asellaDiTesto 4"/>
          <p:cNvSpPr/>
          <p:nvPr/>
        </p:nvSpPr>
        <p:spPr>
          <a:xfrm>
            <a:off x="324000" y="287280"/>
            <a:ext cx="83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Arial   "/>
              </a:rPr>
              <a:t>Evoluzione storica dei movimenti soci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24000" y="1216080"/>
            <a:ext cx="83628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1920" indent="-6019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ue vie fondamentali per esprimere insoddisf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Exit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(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defezion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). È la risposta economica. Quando un prodotto non soddisfa, si smette di acquistarlo. Costa poco, ma incide po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Voic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(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protesta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). È la risposta politica. Consiste nelle iniziative di pressione per ottenere un cambiamento rispetto all’oggetto di insoddisfazione. Richiede tempo e impeg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Exit e voice (Hirschma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24000" y="1215720"/>
            <a:ext cx="836280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l problema del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free rider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chi persegue il proprio interesse senza impegnarsi in azioni collettive, e raccoglie i vantaggi, per es. di uno sciopero, senza aver contribuito a produrre il risult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er risolverlo si è parlato di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incentivi selettivi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lla partecipazione (Olson):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materiali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(benefici o servizi accordati solo ai partecipanti, come gli iscritti ai sindacati) e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simbolici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(es.: i benefici intrinseci derivanti dalla partecipazione ai movimenti social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Gli incentivi alla partecip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23640" y="1362240"/>
            <a:ext cx="8304120" cy="38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econdo Putnam, l’interazione tra le persone e la partecipazione associativa accrescono il capitale sociale: ossia reti sociali che alimentano la fiducia negli altri, la disponibilità e la capacità di cooperare in vista di obiettivi comu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l capitale sociale cosi inteso rafforza lo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spirito civico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, ossia il rispetto delle norme, l’interesse per la politica, il senso di responsabilità per il bene comune e la disponibilità a impegnarsi per 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asellaDiTesto 4"/>
          <p:cNvSpPr/>
          <p:nvPr/>
        </p:nvSpPr>
        <p:spPr>
          <a:xfrm>
            <a:off x="324000" y="287280"/>
            <a:ext cx="84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Capitale sociale e spirito civico (Putnam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4"/>
          <p:cNvSpPr/>
          <p:nvPr/>
        </p:nvSpPr>
        <p:spPr>
          <a:xfrm>
            <a:off x="324000" y="3797280"/>
            <a:ext cx="598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3d3d3d"/>
                </a:solidFill>
                <a:latin typeface="Arial"/>
                <a:ea typeface="Arial"/>
              </a:rPr>
              <a:t>La partecipazione politica: </a:t>
            </a:r>
            <a:br>
              <a:rPr sz="3200"/>
            </a:br>
            <a:r>
              <a:rPr b="0" lang="it-IT" sz="3200" spc="-1" strike="noStrike">
                <a:solidFill>
                  <a:srgbClr val="3d3d3d"/>
                </a:solidFill>
                <a:latin typeface="Arial"/>
                <a:ea typeface="Arial"/>
              </a:rPr>
              <a:t>partiti e movimenti soci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1452240"/>
            <a:ext cx="8362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Partecipazione politica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: il prendere parte a una dimensione collettiva che attiene alla sfera delle decisioni socialmente vincola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Due dimensioni: </a:t>
            </a:r>
            <a:r>
              <a:rPr b="1" i="1" lang="en-US" sz="2400" spc="-1" strike="noStrike">
                <a:solidFill>
                  <a:srgbClr val="404040"/>
                </a:solidFill>
                <a:latin typeface="Arial   "/>
              </a:rPr>
              <a:t>prendere parte 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(svolgere un ruolo attivo nelle decisioni) ed </a:t>
            </a:r>
            <a:r>
              <a:rPr b="1" i="1" lang="en-US" sz="2400" spc="-1" strike="noStrike">
                <a:solidFill>
                  <a:srgbClr val="404040"/>
                </a:solidFill>
                <a:latin typeface="Arial   "/>
              </a:rPr>
              <a:t>essere parte</a:t>
            </a: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(essere riconosciuti come membri e sentirsi partecipi di una collettività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sellaDiTesto 4"/>
          <p:cNvSpPr/>
          <p:nvPr/>
        </p:nvSpPr>
        <p:spPr>
          <a:xfrm>
            <a:off x="324000" y="287280"/>
            <a:ext cx="83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Arial   "/>
              </a:rPr>
              <a:t>La partecipazione politica: defini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3640" y="1380960"/>
            <a:ext cx="8304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Si distingue in </a:t>
            </a:r>
            <a:r>
              <a:rPr b="1" i="1" lang="en-US" sz="2400" spc="-1" strike="noStrike">
                <a:solidFill>
                  <a:srgbClr val="404040"/>
                </a:solidFill>
                <a:latin typeface="Arial   "/>
              </a:rPr>
              <a:t>attivo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 (poter votare) e </a:t>
            </a:r>
            <a:r>
              <a:rPr b="1" i="1" lang="en-US" sz="2400" spc="-1" strike="noStrike">
                <a:solidFill>
                  <a:srgbClr val="404040"/>
                </a:solidFill>
                <a:latin typeface="Arial   "/>
              </a:rPr>
              <a:t>passivo</a:t>
            </a:r>
            <a:r>
              <a:rPr b="0" i="1" lang="en-US" sz="2400" spc="-1" strike="noStrike">
                <a:solidFill>
                  <a:srgbClr val="404040"/>
                </a:solidFill>
                <a:latin typeface="Arial   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(poter essere elet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Nelle democrazie moderne, il diritto di voto si è </a:t>
            </a: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progressivamente allargato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: prima ai maschi adulti, poi alle donne (in Italia nel 1946), poi ai giovani dai 18 anni in 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Il diritto di vo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23640" y="1431720"/>
            <a:ext cx="826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Convenzional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rientra nell’alveo delle modalità istituzionali di partecipazione (es.: votare, iscriversi un partito, partecipare e militare nell’ambito dei parti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Non convenzional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comprendono una vasta gamma di azioni non istituzionalizzate e in genere orientate alla protesta (es.:  dimostrazioni, i cortei, i blocchi stradali, i boicottaggi di determinati prodotti, le occupazioni di luoghi simbolic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Forme di partecipazione poli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3640" y="1220400"/>
            <a:ext cx="830412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Voto di opinion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scelta tra proposte programmatiche d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Voto di appartenenza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espressione di un’identità sociale, territoriale o religi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Voto di scambio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, o voto clientelare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sorta di baratto tra un elettore che manifesta un problema o un’esigenza e un candidato che promette di risolv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Voto di protesta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esprime disaffezione per i partiti tradizionali e premia soggetti politici nuovi. Si parla infatti anche di «antipolitica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Tipi di vo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4000" y="1220400"/>
            <a:ext cx="833112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ono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libere associazioni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i persone, che sorgono quando si riconosce al popolo il diritto di gestire il potere politico, e che si organizzano per raggiungere questo scop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a loro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competizion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caratterizza l’esistenza e il funzionamento dei regimi parlamenta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artiti dei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notabili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e partiti di 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massa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(Web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I partiti politi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24000" y="1223640"/>
            <a:ext cx="83628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nizialmente sono espressione soprattutto del movimento operaio, hanno un radicamento di classe, dispongono di un’ideologia precisa e si sforzano di diffonderla. Dispongono di quadri a tempo pieno e di molti militanti che li sostengono anche econom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Oggi sono definiti </a:t>
            </a: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partiti professionali-elettorali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meno ideologici, meno classisti, più governati dai vertici, aperti ai gruppi d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’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nteresse, orientati all’occupazione delle cariche pubbl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</a:rPr>
              <a:t>L’evoluzione dei partiti di mas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4000" y="1222200"/>
            <a:ext cx="83628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umento dell’importanza della comunicazione e delle campagne elettorali: dalla «democrazia dei partiti» alla «democrazia del pubblico» (Man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erdono terreno il voto di appartenenza e la militanza, a vantaggio del voto di opinione e della TV, oggi di internet e social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e tecniche di comunicazione e di marketing vengono adottate in poli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Ruolo accresciuto dei leader e della loro biografia: personalizzazione e spettacolarizzazione della poli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artecipazione politica: partiti e movimenti socia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asellaDiTesto 4"/>
          <p:cNvSpPr/>
          <p:nvPr/>
        </p:nvSpPr>
        <p:spPr>
          <a:xfrm>
            <a:off x="324000" y="287280"/>
            <a:ext cx="67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La mediatizzazione della poli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5:59:30Z</dcterms:modified>
  <cp:revision>139</cp:revision>
  <dc:subject/>
  <dc:title>Le origini della civiltà greca </dc:title>
</cp:coreProperties>
</file>