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65A-0721-4ED4-A0A4-020CFC15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C01-4838-4985-92E8-3D5CFBB9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E6-F5F5-4BED-A85F-DBD6ED25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1AF-CF39-4261-87ED-6FDB7406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AAA-D6D7-4BCC-810F-556C3F3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09C-87CD-48FA-BA63-4855A71E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1B-D98D-4B19-9BF1-2910BE0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F2B-FA7A-48A7-8A33-110B2C1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0C5-FFC6-490B-BD46-DC0FD57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B51-5206-4D42-8258-3277009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577-BF77-4C22-B995-21A8D13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258-4F72-4169-B6F5-4732D79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56897-A190-4923-8200-F6AE1FFBE649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58056-4F86-4C9F-B210-67644AB0122F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d9d9d9"/>
                </a:solidFill>
                <a:latin typeface="Arial   "/>
              </a:rPr>
              <a:t>Politica e societ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34880" y="1120320"/>
            <a:ext cx="82519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Gli Stati si sono sforzati di sviluppare la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scienza nazionale,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grazie all’adozione di una lingua comune e al ricorso a vari simboli: la bandiera, l’inno nazionale, l’altare della patri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discute se il sentimento nazionale sia l’origine o l’effetto di un’azione politica inten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unificazione linguistica e l’educazione pubblica sono aspetti essenziali della </a:t>
            </a: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nazionalizzazione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delle socie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esasperazione della coscienza nazionale viene definita </a:t>
            </a: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nazion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324000" y="2872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Coscienza nazionale e nazion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asellaDiTesto 4"/>
          <p:cNvSpPr/>
          <p:nvPr/>
        </p:nvSpPr>
        <p:spPr>
          <a:xfrm>
            <a:off x="324000" y="287280"/>
            <a:ext cx="84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Tre elementi della coscienza nazion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</a:rPr>
              <a:t>(B. Anders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20800"/>
            <a:ext cx="822960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senso di appartenenza a un territorio geografico delimitato da altri spazi confinanti e distinti da 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idea che il destino di quel territorio sia di governarsi in modo autonomo, con autorità sov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tendenza degli individui a pensarsi come membri di una comunità più ampia di quella del vicinato, ma altrettanto solid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25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È un aspetto caratteristico degli Stati moder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tabilisce la norma dell’indipendenza degli Stati, del monopolio del potere all’interno dei loro confini, della non ingerenza da parte di altri Stati o poteri esterni nei loro affari inter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ttribuisce agli Stati pieno controllo sul proprio territorio e sulla popolazione che lo ab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epoca contemporanea, entra in tensione con l’affermazione di diritti umani univers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l principio di sovran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34880" y="1790280"/>
            <a:ext cx="82519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tati unitar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centralizzati) e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tati federal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autonomia maggiore alle istituzioni politiche loca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ocietà civi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l’insieme delle attività e delle relazioni sociali che non derivano dallo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Governanc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questa comprende i meccanismi, i processi, le negoziazioni mediante i quali si formano, si strutturano e si applicano le decisioni poli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Centralizzazione e articolazione del potere poli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34880" y="1333080"/>
            <a:ext cx="82519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Secondo Abramo Lincoln, la democrazia è il governo del popolo, da parte del popolo, per i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Si tratta di un regime in cui i diritti di stampo liberale (la libertà di parola, di associazione, di voto) si fondono con i principi democratici della sovranità popolare, estendendosi al numero più ampio possibile di persone riconosciute come «cittadini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Regime democra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asellaDiTesto 4"/>
          <p:cNvSpPr/>
          <p:nvPr/>
        </p:nvSpPr>
        <p:spPr>
          <a:xfrm>
            <a:off x="324000" y="287280"/>
            <a:ext cx="84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ieci caratteri delle democrazie liberali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</a:rPr>
              <a:t>(Diamo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Responsabili democraticamente el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Limit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del potere esecutivo (gov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pposizione politica e possibilità d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lternanza dei partit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lla guida del gov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Tutela de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 delle minoranz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tniche e religi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ssociazioni e mov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Fonti di informazioni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Libertà di opinione ed espr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Uguaglianza politica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 fronte alla le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istema giudiziario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rote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dei cittadini dall’arbitrio anche di attori non sta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34880" y="2038320"/>
            <a:ext cx="830448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emocrazi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irett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i cittadini decidono direttamente, mediante il voto, su questioni di comune interesse: per es. mediante i referen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emocrazia rappresentativ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è invece indiretta, i cittadini sono chiamati a scegliere mediante libere elezioni i loro rappresentanti. Sono poi questi a esercitare effettivamente il potere decis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4"/>
          <p:cNvSpPr/>
          <p:nvPr/>
        </p:nvSpPr>
        <p:spPr>
          <a:xfrm>
            <a:off x="324000" y="28728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emocrazia diretta e democrazia rappresenta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34520" y="1506240"/>
            <a:ext cx="820116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democrazia gli eletti non concentrano nelle loro mani l’intero potere poli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distinguono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otere esecutivo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il governo),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otere legislativ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le assemblee parlamentari che elaborano e approvano le leggi) e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otere giudiziari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la magistra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azione dei tre poteri è inoltre subordinata alla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stitu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separazione dei pot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27040" y="1437840"/>
            <a:ext cx="815976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emocrazia maggioritaria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e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emocrazia consensual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nella prima predomina il potere esecutivo (un esempio tipico è quello britannico), nella seconda il rapporto tra potere esecutivo e potere legislativo è più equil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Sistemi parlamentari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e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sistemi presidenziali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nei primi il capo del governo è eletto dal parlamento, nei secondi direttamente da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istinzioni interne alle democraz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34880" y="1370160"/>
            <a:ext cx="825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Regimi autoritar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 dittatoriali: non soddisfano i requisiti per essere ritenuti democratici; i governi concentrano il potere nelle mani di una sola per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Totalitarism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aso estremo dei regimi autorita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aratt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ominio di un partito uni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resenza di un’ideologia elaborat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obilitazione permanente delle masse a sostegno del potere politi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un capo unico o un piccolo gruppo al verti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essuna limitazione al potere dei governa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Regimi autoritari e totalitaris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4"/>
          <p:cNvSpPr/>
          <p:nvPr/>
        </p:nvSpPr>
        <p:spPr>
          <a:xfrm>
            <a:off x="434880" y="3736800"/>
            <a:ext cx="82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Il potere e lo Stato mode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34880" y="1403280"/>
            <a:ext cx="8251920" cy="27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capacita di ottenere che gli altri obbediscano a un comando, anche quando questo contrasta con la loro volontà (Max We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definizione di potere è quind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relaziona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riferisce a rapporti tra persone o gruppi sociali, oppure tra organizzazioni e pers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efinizione di pot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34880" y="1305000"/>
            <a:ext cx="825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Weber ha distinto fondamentalmente due forme di potere: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Macht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Herrschaft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Macht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potenza) si riferisce alla possibilità di far valere la propria volontà anche di fronte a un’opposizione, quali che siano i fondamenti di questa possibi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Herrschaft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potere legittimo o anche autorità) riguarda le situazioni in cui la prerogativa di dare ordini e il dovere di obbedirvi sono considerati legittimi. Si crede, cioè, che chi dà ordini abbia titolo per f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legittimazione del pot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7788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ell’ambito politico generalmente la potenza cerca di trasformarsi in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otere legittim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anche nel caso di regimi dispo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pera per ottenere il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nsens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dei sottoposti, al fine di stabilizzarsi e durare nel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324000" y="2872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ricerca di legittimazione e consen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3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tradiziona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fonda su antichi ordinamenti, sulla continuità con il passato e dunque su tradizioni investite di caratteri di sacra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carismatic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basa sull’attribuzione a un individuo di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qualità straordinarie, di virtù eccezionali o sovrum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legale-raziona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basa su norme impersonali, statuite razionalmente, definite e accettate come leg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Tre tipi ideali di potere in We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34520" y="1115640"/>
            <a:ext cx="8371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economic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onsiste nel possesso di determinate risorse, grazie alle quali alcuni soggetti possono obbligare altri ad eseguire dei comandi, per es. nel lav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ideologico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riferisce alla capacità di influenzare i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unti di vista, i giudizi, le visioni del mondo, per es. mediante i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tere coercitivo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(politico)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ttiene al monopolio legittimo degli strumenti repressivi, della possibilità di fare ricorso alla violenza. È la tipica prerogativa degli S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iversi ambiti del pot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12212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o Stato è l’organizzazione che governa un determinato territorio, pretende e ottiene obbedienza da parte degli abitanti, ed esercita il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onopolio della violenza legittim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è formato storicamente in Europa mediante la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entralizzazione del poter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olitico nelle mani dei sovr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è affermato imponendo il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onopolio militare, giudiziario, monetario, fi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 tale scopo si è dotato di un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rpo di funzionar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lle proprie dirette dipende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o St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34880" y="1230480"/>
            <a:ext cx="825192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 partire dalla fine del Settecento, gli Stati cominciano a presentarsi come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“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azionali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ossia basati sul consenso dei cittadini che si riconoscono in una comunità politica insediata in un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questa accezione, la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n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indica il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rpo sociale dello Stat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la popolazione che non solo è sottoposta alla sua autorità, ma sente di appartenere a una determinata comunità politica e vi aderisce conferendole legittim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o Stato nazi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potere e lo Stato modern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5:46:21Z</dcterms:modified>
  <cp:revision>162</cp:revision>
  <dc:subject/>
  <dc:title>Le origini della civiltà greca </dc:title>
</cp:coreProperties>
</file>