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4E77BB-4104-4B76-9883-930025A8CEAC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921037-F722-469E-9E56-AA26B3D36B6E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A37C52-D472-4A9E-919F-C5DD6B6129C6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4DF17B-BD76-4CC2-B942-ADEE70AAD051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0401D7-EC18-4756-ACB4-C5D8161F85ED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A12DFC-7457-4C3D-810E-172A58D1FE95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4376D7-AB89-4107-BEB4-1B305BC7B8AD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6E18-0C6E-47D5-8082-E14F9401E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D089-15C2-4FF5-8019-DEB2393C7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8D5D-300A-43B1-B3B3-346CCD008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E66B-D599-4F4F-A5B2-6EE6C21C3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E254-F66A-4E71-8221-250D131F4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9F43-F56D-4B22-94C7-769BED6B4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6814-E71E-4E23-855A-01875CE0E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D255-2000-4CE3-B8AC-8F671ECEE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7D8C-3154-45E2-82BA-3888A35C4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DD64-8933-4673-878F-26DFB930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E2E6-147B-4555-AC96-D1EE994D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07C4-1E71-4895-806D-763BEFF5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AEAD9B-F00A-46E9-B524-8BE0CB462E20}" type="datetime">
              <a:rPr b="0" lang="it-IT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Le origini della cività gre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E42A24-0030-41A3-BA42-52E6A909582E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3760" y="2331720"/>
            <a:ext cx="6270840" cy="17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5400" spc="-1" strike="noStrike">
                <a:solidFill>
                  <a:srgbClr val="d9d9d9"/>
                </a:solidFill>
                <a:latin typeface="Arial"/>
              </a:rPr>
              <a:t>Economia, lavoro e società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2328840" y="6121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Connettore 1 19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Economia, lavor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a regolazione del lavor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egnaposto contenuto 2"/>
          <p:cNvSpPr/>
          <p:nvPr/>
        </p:nvSpPr>
        <p:spPr>
          <a:xfrm>
            <a:off x="434880" y="1292400"/>
            <a:ext cx="8304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La regolazione dell’incontro tra domanda e offerta di lavor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Le misure di mantenimento o garanzia del reddit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I provvedimenti a favore dell’occupazione di particolari categorie, come le donne, i giovani, le persone con disabilità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Le azioni volte a incidere sulla quantità e la qualità dell’offerta di(formazione professionale, interventi di riqualificazione dei disoccupati).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Connettore 1 6"/>
          <p:cNvSpPr/>
          <p:nvPr/>
        </p:nvSpPr>
        <p:spPr>
          <a:xfrm>
            <a:off x="434880" y="93672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CasellaDiTesto 4"/>
          <p:cNvSpPr/>
          <p:nvPr/>
        </p:nvSpPr>
        <p:spPr>
          <a:xfrm>
            <a:off x="434880" y="287280"/>
            <a:ext cx="795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3d3d3d"/>
                </a:solidFill>
                <a:latin typeface="Arial"/>
                <a:ea typeface="Arial"/>
              </a:rPr>
              <a:t>Le politiche del lavoro: obiettiv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3176640" y="6121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2328840" y="6121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Connettore 1 19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Economia, lavor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a regolazione del lavor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egnaposto contenuto 2"/>
          <p:cNvSpPr/>
          <p:nvPr/>
        </p:nvSpPr>
        <p:spPr>
          <a:xfrm>
            <a:off x="434880" y="1297080"/>
            <a:ext cx="8304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Flexicurity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: conciliazione tra flessibilità dell’occupazione richiesta dalle imprese e tutela dei lavoratori richiesta dalla società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Occupabilità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: l’insieme delle caratteristiche individuali, ossia competenze, esperienza, capacità di relazione e di collaborazione con altri, che rendono il lavoratore idoneo a svolgere un determinato lavor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Attivazione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: misure che mirano a promuovere un’assunzione di responsabilità da parte delle persone nella ricerca di soluzioni autonome e indipendenti sul mercato del lavor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Connettore 1 6"/>
          <p:cNvSpPr/>
          <p:nvPr/>
        </p:nvSpPr>
        <p:spPr>
          <a:xfrm>
            <a:off x="434880" y="93672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CasellaDiTesto 4"/>
          <p:cNvSpPr/>
          <p:nvPr/>
        </p:nvSpPr>
        <p:spPr>
          <a:xfrm>
            <a:off x="434880" y="287280"/>
            <a:ext cx="795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3d3d3d"/>
                </a:solidFill>
                <a:latin typeface="Arial"/>
                <a:ea typeface="Arial"/>
              </a:rPr>
              <a:t>Tre concett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CasellaDiTesto 4"/>
          <p:cNvSpPr/>
          <p:nvPr/>
        </p:nvSpPr>
        <p:spPr>
          <a:xfrm>
            <a:off x="434880" y="4275000"/>
            <a:ext cx="598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200" spc="-1" strike="noStrike">
                <a:solidFill>
                  <a:srgbClr val="404040"/>
                </a:solidFill>
                <a:latin typeface="Arial"/>
                <a:ea typeface="Arial"/>
              </a:rPr>
              <a:t>La regolazione del lavo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Connettore 1 6"/>
          <p:cNvSpPr/>
          <p:nvPr/>
        </p:nvSpPr>
        <p:spPr>
          <a:xfrm>
            <a:off x="434880" y="487980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CasellaDiTesto 18"/>
          <p:cNvSpPr/>
          <p:nvPr/>
        </p:nvSpPr>
        <p:spPr>
          <a:xfrm>
            <a:off x="4070520" y="50198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CasellaDiTesto 4"/>
          <p:cNvSpPr/>
          <p:nvPr/>
        </p:nvSpPr>
        <p:spPr>
          <a:xfrm>
            <a:off x="434880" y="287280"/>
            <a:ext cx="795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3d3d3d"/>
                </a:solidFill>
                <a:latin typeface="Arial"/>
                <a:ea typeface="Arial"/>
              </a:rPr>
              <a:t>Le forme di organizzazione sindaca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Economia, lavor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a regolazione del lavor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Connettore 1 14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egnaposto contenuto 2"/>
          <p:cNvSpPr/>
          <p:nvPr/>
        </p:nvSpPr>
        <p:spPr>
          <a:xfrm>
            <a:off x="434880" y="1328400"/>
            <a:ext cx="8304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Le prime esperienze sindacali: sindacati di mestiere e sindacati territorial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Con la grande industria di massa, nasce il sindacalismo industriale, basato sui settori produttivi (metalmeccanici, chimici, tessili, ecc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È questo ancora oggi il principale criterio di organizzazione dei sindacati, in Italia e in molti altri paesi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Connettore 1 6"/>
          <p:cNvSpPr/>
          <p:nvPr/>
        </p:nvSpPr>
        <p:spPr>
          <a:xfrm>
            <a:off x="434880" y="93672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Connettore 1 13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Economia, lavor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a regolazione del lavor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egnaposto contenuto 2"/>
          <p:cNvSpPr/>
          <p:nvPr/>
        </p:nvSpPr>
        <p:spPr>
          <a:xfrm>
            <a:off x="434880" y="1323720"/>
            <a:ext cx="8304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Il sindacato di classe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: vuole rappresentare la classe operaia nel suo complesso, compresi i non iscritti, dà la priorità all’azione politica, si collega con i partiti di sinistra e ha un consistente retroterra ideologic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Il sindacato associativo o rivendicativo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: ispirato all’esperienza statunitense, si concepisce come associazione che tutela gli interessi dei lavoratori mediante la contrattazione, ha un orientamento pragmatico e scarsamente ideologic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Connettore 1 6"/>
          <p:cNvSpPr/>
          <p:nvPr/>
        </p:nvSpPr>
        <p:spPr>
          <a:xfrm>
            <a:off x="434880" y="93672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CasellaDiTesto 4"/>
          <p:cNvSpPr/>
          <p:nvPr/>
        </p:nvSpPr>
        <p:spPr>
          <a:xfrm>
            <a:off x="434880" y="287280"/>
            <a:ext cx="795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3d3d3d"/>
                </a:solidFill>
                <a:latin typeface="Arial"/>
                <a:ea typeface="Arial"/>
              </a:rPr>
              <a:t>Modello aggregativ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Connettore 1 14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Economia, lavor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a regolazione del lavor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egnaposto contenuto 2"/>
          <p:cNvSpPr/>
          <p:nvPr/>
        </p:nvSpPr>
        <p:spPr>
          <a:xfrm>
            <a:off x="434880" y="1606680"/>
            <a:ext cx="8304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Comprende tutto l’insieme dei rapporti negoziali, più o meno formali, che intercorrono tra sindacati e datori di lavoro, con l’eventuale intervento dello Stato, in ordine alla regolamentazione dei rapporti di lavor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Tende a istituzionalizzare il conflitto industriale, ossia le divergenze di interessi tra lavoratori e datori di lavor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Connettore 1 6"/>
          <p:cNvSpPr/>
          <p:nvPr/>
        </p:nvSpPr>
        <p:spPr>
          <a:xfrm>
            <a:off x="434880" y="93672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CasellaDiTesto 4"/>
          <p:cNvSpPr/>
          <p:nvPr/>
        </p:nvSpPr>
        <p:spPr>
          <a:xfrm>
            <a:off x="434880" y="287280"/>
            <a:ext cx="795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3d3d3d"/>
                </a:solidFill>
                <a:latin typeface="Arial"/>
                <a:ea typeface="Arial"/>
              </a:rPr>
              <a:t>La contrattazione collettiv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Connettore 1 10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Economia, lavor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a regolazione del lavor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egnaposto contenuto 2"/>
          <p:cNvSpPr/>
          <p:nvPr/>
        </p:nvSpPr>
        <p:spPr>
          <a:xfrm>
            <a:off x="434880" y="1293840"/>
            <a:ext cx="8304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La contrattazione interconfederale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: riguarda materie che interessano l’insieme dei lavoratori dipendenti e delle impre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La contrattazione nazionale di categoria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: è la più importante, determina retribuzioni, orari di lavoro, inquadramento dei lavorator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La contrattazione decentrata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: in Italia non è obbligatoria, e di solito trova applicazione nelle imprese medio-grandi. In alcuni settori è sostituita da forme di contrattazione territoria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Connettore 1 6"/>
          <p:cNvSpPr/>
          <p:nvPr/>
        </p:nvSpPr>
        <p:spPr>
          <a:xfrm>
            <a:off x="434880" y="93672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CasellaDiTesto 4"/>
          <p:cNvSpPr/>
          <p:nvPr/>
        </p:nvSpPr>
        <p:spPr>
          <a:xfrm>
            <a:off x="434880" y="287280"/>
            <a:ext cx="795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3d3d3d"/>
                </a:solidFill>
                <a:latin typeface="Arial"/>
                <a:ea typeface="Arial"/>
              </a:rPr>
              <a:t>I livelli della contrattazione collettiv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Connettore 1 10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Economia, lavor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a regolazione del lavor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egnaposto contenuto 2"/>
          <p:cNvSpPr/>
          <p:nvPr/>
        </p:nvSpPr>
        <p:spPr>
          <a:xfrm>
            <a:off x="434880" y="1430280"/>
            <a:ext cx="8304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Allorquando materie di politica economica e sociale sono discusse in rapporti trilaterali tra governo, sindacati e organizzazioni imprenditoriali, si parla di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concertazione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Le relazioni di lavoro a livello nazionale sono spesso viste come un triangolo, ai cui vertici stanno le organizzazioni imprenditoriali, i sindacati dei lavoratori e il govern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Connettore 1 6"/>
          <p:cNvSpPr/>
          <p:nvPr/>
        </p:nvSpPr>
        <p:spPr>
          <a:xfrm>
            <a:off x="434880" y="93672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CasellaDiTesto 4"/>
          <p:cNvSpPr/>
          <p:nvPr/>
        </p:nvSpPr>
        <p:spPr>
          <a:xfrm>
            <a:off x="434880" y="287280"/>
            <a:ext cx="795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3d3d3d"/>
                </a:solidFill>
                <a:latin typeface="Arial"/>
                <a:ea typeface="Arial"/>
              </a:rPr>
              <a:t>La concertazio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egnaposto contenuto 2"/>
          <p:cNvSpPr/>
          <p:nvPr/>
        </p:nvSpPr>
        <p:spPr>
          <a:xfrm>
            <a:off x="434880" y="1297080"/>
            <a:ext cx="8304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La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partecipazione diretta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: riguarda i lavoratori in quanto tali e si riferisce soprattutto al miglioramento dell’organizzazione del lavor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La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partecipazione economica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: prevede la condivisione con i lavoratori di una quota dei risultati economici dell’impres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La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partecipazione indiretta o istituzionalizzata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: si attua mediante rappresentanti dei lavoratori e consiste nel riconoscimento di diritti di informazione e consultazione, arrivando in alcuni paesi a prevedere forme di decisione congiunta su alcune materi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Connettore 1 10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Economia, lavor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a regolazione del lavor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Connettore 1 6"/>
          <p:cNvSpPr/>
          <p:nvPr/>
        </p:nvSpPr>
        <p:spPr>
          <a:xfrm>
            <a:off x="434880" y="93672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CasellaDiTesto 4"/>
          <p:cNvSpPr/>
          <p:nvPr/>
        </p:nvSpPr>
        <p:spPr>
          <a:xfrm>
            <a:off x="434880" y="287280"/>
            <a:ext cx="795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3d3d3d"/>
                </a:solidFill>
                <a:latin typeface="Arial"/>
                <a:ea typeface="Arial"/>
              </a:rPr>
              <a:t>Tre tipi di esperienze partecipa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Connettore 1 19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Economia, lavor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a regolazione del lavor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egnaposto contenuto 2"/>
          <p:cNvSpPr/>
          <p:nvPr/>
        </p:nvSpPr>
        <p:spPr>
          <a:xfrm>
            <a:off x="434880" y="1454040"/>
            <a:ext cx="8304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Il diritto al lavoro come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diritto-limite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Le politiche del lavoro sono l’espressione dell’impegno delle istituzioni per favorire da un lato l’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occupazione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, dall’altro la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fornitura al sistema economico delle competenze professionali di cui necessita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Politiche del lavoro </a:t>
            </a:r>
            <a:r>
              <a:rPr b="0" i="1" lang="it-IT" sz="2400" spc="-1" strike="noStrike">
                <a:solidFill>
                  <a:srgbClr val="3d3d3d"/>
                </a:solidFill>
                <a:latin typeface="Arial"/>
              </a:rPr>
              <a:t>passive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(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garanzia del reddito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) e politiche del lavoro</a:t>
            </a:r>
            <a:r>
              <a:rPr b="0" i="1" lang="it-IT" sz="2400" spc="-1" strike="noStrike">
                <a:solidFill>
                  <a:srgbClr val="3d3d3d"/>
                </a:solidFill>
                <a:latin typeface="Arial"/>
              </a:rPr>
              <a:t> attive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 (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impegno per la qualificazione e l</a:t>
            </a:r>
            <a:r>
              <a:rPr b="1" lang="ja-JP" sz="2400" spc="-1" strike="noStrike">
                <a:solidFill>
                  <a:srgbClr val="3d3d3d"/>
                </a:solidFill>
                <a:latin typeface="Arial"/>
              </a:rPr>
              <a:t>’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inserimento dei lavoratori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Connettore 1 6"/>
          <p:cNvSpPr/>
          <p:nvPr/>
        </p:nvSpPr>
        <p:spPr>
          <a:xfrm>
            <a:off x="434880" y="93672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CasellaDiTesto 4"/>
          <p:cNvSpPr/>
          <p:nvPr/>
        </p:nvSpPr>
        <p:spPr>
          <a:xfrm>
            <a:off x="434880" y="287280"/>
            <a:ext cx="795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3d3d3d"/>
                </a:solidFill>
                <a:latin typeface="Arial"/>
                <a:ea typeface="Arial"/>
              </a:rPr>
              <a:t>Le politiche del lavo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09:53:44Z</dcterms:created>
  <dc:creator>Emanuele Centola</dc:creator>
  <dc:description/>
  <dc:language>en-US</dc:language>
  <cp:lastModifiedBy>ame ame</cp:lastModifiedBy>
  <dcterms:modified xsi:type="dcterms:W3CDTF">2016-12-15T15:31:29Z</dcterms:modified>
  <cp:revision>114</cp:revision>
  <dc:subject/>
  <dc:title>Le origini della civiltà greca</dc:title>
</cp:coreProperties>
</file>