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D6F50-540D-41BA-86C9-BEDB32409E2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540DD-1423-4ACE-BD18-2E79E6596E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67D99-618D-4789-B8A9-A7763BE2CF8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E7D4-AD72-45F3-8A9D-0FBE58AE08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CDAF0-C479-452A-BD13-A1E41E6B80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E3B39-2BAA-4D93-961A-A47DEB6AB19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36F4F-5120-422F-A617-389BC99E811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7D5-EB4C-4243-9A70-C7E9A56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AB3-AEDB-4DEC-913A-91A594B7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2CB-024B-48BD-8097-589CDBA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E33-7A8B-48CD-8B92-42FEB793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CB5-9F11-4429-9364-77CC727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D64-31D5-4D0F-8584-8834FB1D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AB2-3E73-4AD6-AC6F-A4BDD73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A32-FFE9-46C0-AC55-84DBDCE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A90-5CB1-4200-AC19-9C6BF13A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6A7-E7DD-4F7A-9FF1-8E47D125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C4E-677E-44E3-BBBB-C519EF3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DBF-58E6-4B35-B6A5-BFAC38F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44EB7-BCD0-47F2-ABFD-85B42C2A4018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2B10-0540-4184-BDEB-3E302435AAD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d9d9d9"/>
                </a:solidFill>
                <a:latin typeface="Arial"/>
              </a:rPr>
              <a:t>Economia, </a:t>
            </a:r>
            <a:br>
              <a:rPr sz="5400"/>
            </a:br>
            <a:r>
              <a:rPr b="0" lang="en-US" sz="5400" spc="-1" strike="noStrike">
                <a:solidFill>
                  <a:srgbClr val="d9d9d9"/>
                </a:solidFill>
                <a:latin typeface="Arial"/>
              </a:rPr>
              <a:t>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contenuto 2"/>
          <p:cNvSpPr/>
          <p:nvPr/>
        </p:nvSpPr>
        <p:spPr>
          <a:xfrm>
            <a:off x="434880" y="148104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onsumerism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nascita e crescita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movimenti e associazioni di consumatori,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che battagliano per ottenere maggiore tutela per i cittadini, controlli più rigorosi, effettiva concorrenza tra i vendito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viluppo di esperienze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onsumo critico e alternativ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commercio equo e solidale, gruppi di acquisto solidale (G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iscoperta del baratto, del rius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l riciclaggi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lla rivendi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di vestiti o altri prodotti us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consumatori come soggetti att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Consumi e pover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alla povertà all’esclus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contenuto 2"/>
          <p:cNvSpPr/>
          <p:nvPr/>
        </p:nvSpPr>
        <p:spPr>
          <a:xfrm>
            <a:off x="434880" y="1622520"/>
            <a:ext cx="823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over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enuria di risorse per le spese ritenute socialmente necessa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Working poors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sone che pur lavorando non riescono ad assicurare una vita dignitosa a se stesse e alla propria famig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dita della protezione familiare e spirali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cesa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contenuto 2"/>
          <p:cNvSpPr/>
          <p:nvPr/>
        </p:nvSpPr>
        <p:spPr>
          <a:xfrm>
            <a:off x="434880" y="1635120"/>
            <a:ext cx="811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sclusi sono  coloro che occupano le posizioni più basse nella stratificazione sociale: dispongono di meno risorse di quelle necessarie per condurre una vita normale e si trovano in un qualche modo separati dal resto della società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missione di indagine sull’esclusion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elemento cruciale consiste nella «separazione tra coloro che partecipano pienamente alla società e coloro che invece si trovano privati di un ruolo riconosciuto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finizione di esclus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324000" y="287280"/>
            <a:ext cx="8192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Rapporto tra disoccupazion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relazioni familiari e pover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contenuto 2"/>
          <p:cNvSpPr/>
          <p:nvPr/>
        </p:nvSpPr>
        <p:spPr>
          <a:xfrm>
            <a:off x="434880" y="1887480"/>
            <a:ext cx="745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Persone senza famig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Donne con bambini, prive del sostegno del coniu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Persone che subiscono a livello psicologico e relazionale i contraccolpi della disoccup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6"/>
          <p:cNvSpPr/>
          <p:nvPr/>
        </p:nvSpPr>
        <p:spPr>
          <a:xfrm>
            <a:off x="434880" y="132876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709640"/>
          <a:ext cx="8404200" cy="3805200"/>
        </p:xfrm>
        <a:graphic>
          <a:graphicData uri="http://schemas.openxmlformats.org/drawingml/2006/table">
            <a:tbl>
              <a:tblPr/>
              <a:tblGrid>
                <a:gridCol w="2100240"/>
                <a:gridCol w="2101680"/>
                <a:gridCol w="2365560"/>
                <a:gridCol w="1836720"/>
              </a:tblGrid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Vita quotidia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tting b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tting back (a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ersona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tting ou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tting organiz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it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rizzonte strateg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Connettore 1 6"/>
          <p:cNvSpPr/>
          <p:nvPr/>
        </p:nvSpPr>
        <p:spPr>
          <a:xfrm>
            <a:off x="434880" y="132876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8192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Forme di agency delle pers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in condizione di pover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contenuto 2"/>
          <p:cNvSpPr/>
          <p:nvPr/>
        </p:nvSpPr>
        <p:spPr>
          <a:xfrm>
            <a:off x="434880" y="1631880"/>
            <a:ext cx="825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’azione che include l’acquisizione, l’uso, il godimento, la fruizione di beni e servizi, in modo che questi risultino indisponibili ad altri, o in via definitiva (ad esempio il cibo) o in forma temporanea (come uno spettacolo cinematografic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a duplice funzione: appartenenza a una cerchia sociale  e distinzione dagli alt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onsumo: definizione e fun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contenuto 2"/>
          <p:cNvSpPr/>
          <p:nvPr/>
        </p:nvSpPr>
        <p:spPr>
          <a:xfrm>
            <a:off x="434880" y="1635120"/>
            <a:ext cx="8231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ari consumi servono a segnalare una certa posizione sociale (generalmente l’agiatezz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ogica di competizione emulativ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e classi inferiori cercano di imitare i comportamenti di consumo delle classi superiori, e queste sviluppano nuovi consumi per mantenere le distanze dalle classi subalter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ggi, i gruppi sociali privilegiati sono spesso culturalmente «onnivori», incuriositi da esperienze sempre nuove e varieg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valore posizionale dei consu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nsumi e pover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contenuto 2"/>
          <p:cNvSpPr/>
          <p:nvPr/>
        </p:nvSpPr>
        <p:spPr>
          <a:xfrm>
            <a:off x="324000" y="122400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induzion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bisogni artificios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a parte dell’apparato produttivo e commerciale, grazie a un marketing sofisticato e a una pubblicità aggressiva e martellante, capaci di spingere i consumatori all’accumulazione di beni inutili e all’investimento in consumi superflui. Oggi però sembra più difficile definire che cosa è utile o inutile, necessario o superflu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consumi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positivi di integrazion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ervono a inserirsi in un determinato gruppo o ambiente sociale, a essere accettati e apprezzati da altri con cui si vogliono stabilire dei leg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434880" y="287280"/>
            <a:ext cx="82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onsum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5:26:36Z</dcterms:modified>
  <cp:revision>126</cp:revision>
  <dc:subject/>
  <dc:title>Le origini della civiltà greca</dc:title>
</cp:coreProperties>
</file>