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CF15E4-D3D7-4F8D-8250-538941F586E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245381-69DF-4080-AB83-68A41B5FBB2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9FFFAA-F898-40FB-8C38-F7B3E0B2509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3FFBEB-FF58-4CDA-B441-E843291EC00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F42A1B-DA5D-4E9D-B9E0-4293D2DFB77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B48906-A2F5-43E4-B5D9-5192416BD9F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3F1874-7858-4D95-AB52-48DC1EC1D5A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A8BD-3D48-468D-ADC9-84A8D54CB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792D-F1DA-4F8B-A4EE-B16A6D61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8577-952D-46A1-9040-CA496C5B8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FC5B-DFA4-45C7-BEB2-FE29C9B3F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30E4-2AD2-4038-ACD7-227306F6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5697-EC38-405F-8FC1-5B7C49BF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A87B-E993-4513-BEE8-F94985AE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2B78-DD9E-40B2-BEAC-0DBA15D1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8D70-AD43-4DAE-AA4D-AD4783A5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97E3-22DC-495F-8872-A5A57E9D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54A5-74D1-4268-910C-A2FF9C07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0D1F-9E12-4E88-9618-49739E7C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E22DF4-8B45-437C-B1A3-49AC296854C2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Le origini della cività gre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F35BE5-45AE-4A8B-837E-5BBE238EFE19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3760" y="2331720"/>
            <a:ext cx="6270840" cy="17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5400" spc="-1" strike="noStrike">
                <a:solidFill>
                  <a:srgbClr val="d9d9d9"/>
                </a:solidFill>
                <a:latin typeface="Arial"/>
              </a:rPr>
              <a:t>Economia, lavoro e società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3125880" y="6172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onnettore 1 19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Economia, lavor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l mercato del lavor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egnaposto contenuto 2"/>
          <p:cNvSpPr/>
          <p:nvPr/>
        </p:nvSpPr>
        <p:spPr>
          <a:xfrm>
            <a:off x="434880" y="1671480"/>
            <a:ext cx="8304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Grandi diversità tra i disoccupati, a seconda delle loro situazioni biografiche, familiari e social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a disoccupazione non coincide con l’assenza assoluta di lavoro, ma può essere punteggiata di esperienze precarie e occasional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Sfuma la distinzione tra inoccupati, disoccupati propriamente detti e altre persone in cerca di lavor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asellaDiTesto 4"/>
          <p:cNvSpPr/>
          <p:nvPr/>
        </p:nvSpPr>
        <p:spPr>
          <a:xfrm>
            <a:off x="324000" y="287280"/>
            <a:ext cx="674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"/>
              </a:rPr>
              <a:t>Aspetti della disoccupazi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1957320" y="6207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Connettore 1 19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Economia, lavor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l mercato del lavor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itolo 1"/>
          <p:cNvSpPr/>
          <p:nvPr/>
        </p:nvSpPr>
        <p:spPr>
          <a:xfrm>
            <a:off x="3289320" y="59961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egnaposto contenuto 2"/>
          <p:cNvSpPr/>
          <p:nvPr/>
        </p:nvSpPr>
        <p:spPr>
          <a:xfrm>
            <a:off x="434880" y="167148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Tasso di attività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: è dato dal rapporto tra forze di lavoro (ossia chi si presenta sul mercato del lavoro, sia egli occupato o in cerca di lavoro) e popolazione totale (tasso lordo), o tra forze di lavoro e popolazione in età attiva (tasso netto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Tasso di disoccupazione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: è dato dal rapporto tra le persone in cerca di occupazione e le forze di lavoro (o popolazione attiva): indica quanti non trovano lavoro ogni cento attiv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Tasso di occupazione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: è dato dal rapporto tra occupati e popolazione totale (tasso lordo) o in età attiva (tasso netto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onnettore 1 6"/>
          <p:cNvSpPr/>
          <p:nvPr/>
        </p:nvSpPr>
        <p:spPr>
          <a:xfrm>
            <a:off x="434880" y="142560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CasellaDiTesto 4"/>
          <p:cNvSpPr/>
          <p:nvPr/>
        </p:nvSpPr>
        <p:spPr>
          <a:xfrm>
            <a:off x="324000" y="287280"/>
            <a:ext cx="674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"/>
              </a:rPr>
              <a:t>Indici statistici per l’analisi </a:t>
            </a:r>
            <a:br>
              <a:rPr sz="3600"/>
            </a:br>
            <a:r>
              <a:rPr b="0" lang="it-IT" sz="3600" spc="-1" strike="noStrike">
                <a:solidFill>
                  <a:srgbClr val="3d3d3d"/>
                </a:solidFill>
                <a:latin typeface="Arial"/>
              </a:rPr>
              <a:t>del mercato del lavo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941400" y="6156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onnettore 1 19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Economia, lavor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l mercato del lavor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egnaposto contenuto 2"/>
          <p:cNvSpPr/>
          <p:nvPr/>
        </p:nvSpPr>
        <p:spPr>
          <a:xfrm>
            <a:off x="434880" y="1673280"/>
            <a:ext cx="8294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Trattamento differenziale e ineguale delle persone o dei gruppi a causa delle loro origini, delle loro appartenenze, (fisiche o sociali) o delle loro opinioni, reali o immaginarie (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Taguieff 1999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"/>
              </a:rPr>
              <a:t>La discriminazi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Connettore 1 6"/>
          <p:cNvSpPr/>
          <p:nvPr/>
        </p:nvSpPr>
        <p:spPr>
          <a:xfrm>
            <a:off x="434880" y="136224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2617920" y="6138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Connettore 1 19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Economia, lavor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l mercato del lavor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egnaposto contenuto 2"/>
          <p:cNvSpPr/>
          <p:nvPr/>
        </p:nvSpPr>
        <p:spPr>
          <a:xfrm>
            <a:off x="434880" y="213372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Nell’accesso all’impieg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Nelle modalità di assunzi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Nella concentrazione settoriale e occupazion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Nelle opportunità di carrie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Nell’esposizione a rischi infortunistici e malattie profession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Nella possibilità di accedere al lavoro autono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CasellaDiTesto 4"/>
          <p:cNvSpPr/>
          <p:nvPr/>
        </p:nvSpPr>
        <p:spPr>
          <a:xfrm>
            <a:off x="324000" y="287280"/>
            <a:ext cx="6740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d3d3d"/>
                </a:solidFill>
                <a:latin typeface="Arial"/>
              </a:rPr>
              <a:t>Forme di discriminazion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d3d3d"/>
                </a:solidFill>
                <a:latin typeface="Arial"/>
              </a:rPr>
              <a:t>verso le minoranze immigr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CasellaDiTesto 4"/>
          <p:cNvSpPr/>
          <p:nvPr/>
        </p:nvSpPr>
        <p:spPr>
          <a:xfrm>
            <a:off x="434880" y="4275000"/>
            <a:ext cx="598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404040"/>
                </a:solidFill>
                <a:latin typeface="Arial"/>
                <a:ea typeface="Arial"/>
              </a:rPr>
              <a:t>Il mercato del lavo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ttore 1 6"/>
          <p:cNvSpPr/>
          <p:nvPr/>
        </p:nvSpPr>
        <p:spPr>
          <a:xfrm>
            <a:off x="434880" y="487980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asellaDiTesto 18"/>
          <p:cNvSpPr/>
          <p:nvPr/>
        </p:nvSpPr>
        <p:spPr>
          <a:xfrm>
            <a:off x="4070520" y="5019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Economia, lavor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l mercato del lavor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egnaposto contenuto 2"/>
          <p:cNvSpPr/>
          <p:nvPr/>
        </p:nvSpPr>
        <p:spPr>
          <a:xfrm>
            <a:off x="425520" y="1668600"/>
            <a:ext cx="8386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Indica i meccanismi che regolano l’incontro tra i posti di lavoro vacanti e le persone in cerca di occupazione, e determinano i salari pagati dalle imprese ai lavorator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e controparti del mercato del lavoro sono l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domand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(ossia i datori di lavoro in cerca di persone disponibili a lavorare) e l’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offerta di lavor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(ossia le persone che cercano un’occupazione retribuita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Che cos’è il mercato del lavo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Connettore 1 6"/>
          <p:cNvSpPr/>
          <p:nvPr/>
        </p:nvSpPr>
        <p:spPr>
          <a:xfrm>
            <a:off x="434880" y="137016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Economia, lavor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l mercato del lavor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egnaposto contenuto 2"/>
          <p:cNvSpPr/>
          <p:nvPr/>
        </p:nvSpPr>
        <p:spPr>
          <a:xfrm>
            <a:off x="434880" y="167328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Occorre l’intervento dello Stato per garantire un certo equilibrio tra le parti e per prevenire effetti indesiderabili: come ad esempio il lavoro minori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Retribuzioni e condizioni d’impiego non fluttuano liberamente, ma sono regolate da norme e contratti collettiv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Varie convenzioni sociali, come l’avversione per il lavoro serale e festivo, incidono sul funzionamento del mercato del lavor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avoratori e società hanno sempre resistito alla mercificazione del lavor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CasellaDiTesto 4"/>
          <p:cNvSpPr/>
          <p:nvPr/>
        </p:nvSpPr>
        <p:spPr>
          <a:xfrm>
            <a:off x="324000" y="287280"/>
            <a:ext cx="6740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Il mercato del lavoro come mercato atipic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Connettore 1 13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Economia, lavor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l mercato del lavor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egnaposto contenuto 2"/>
          <p:cNvSpPr/>
          <p:nvPr/>
        </p:nvSpPr>
        <p:spPr>
          <a:xfrm>
            <a:off x="434880" y="1670040"/>
            <a:ext cx="822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Il mercato del lavoro è composto di strati e nicchie fra loro poco o per nulla comunican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Il mercato del lavoro si divide in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primari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e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secondari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Possono coesistere segmenti di mercato in cui l’offerta di lavoro è sovrabbondante rispetto ai posti di lavoro disponibili, e altri in cui accade il contrari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Il mercato del lavoro si divide in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estern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e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intern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asellaDiTesto 4"/>
          <p:cNvSpPr/>
          <p:nvPr/>
        </p:nvSpPr>
        <p:spPr>
          <a:xfrm>
            <a:off x="324000" y="222120"/>
            <a:ext cx="851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Arial"/>
                <a:ea typeface="Arial"/>
              </a:rPr>
              <a:t>La segmentazione del mercat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Arial"/>
                <a:ea typeface="Arial"/>
              </a:rPr>
              <a:t>del lavo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Connettore 1 6"/>
          <p:cNvSpPr/>
          <p:nvPr/>
        </p:nvSpPr>
        <p:spPr>
          <a:xfrm>
            <a:off x="434880" y="13795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Economia, lavor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l mercato del lavor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egnaposto contenuto 2"/>
          <p:cNvSpPr/>
          <p:nvPr/>
        </p:nvSpPr>
        <p:spPr>
          <a:xfrm>
            <a:off x="434880" y="1673280"/>
            <a:ext cx="811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Concetto di «flessibilità numerica» o «quantitativa»: possibilità di variare il volume degli occupati o delle ore lavorate in funzione delle esigenze aziendal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Tre tendenz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MS PGothic"/>
              </a:rPr>
              <a:t>crescita dei contratti di lavoro di durata temporan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MS PGothic"/>
              </a:rPr>
              <a:t>diffusione del lavoro a tempo parziale «involontario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MS PGothic"/>
              </a:rPr>
              <a:t>aumento del lavoro autonomo sostitutivo del lavoro dipend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La precarizzazione del lavo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onnettore 1 6"/>
          <p:cNvSpPr/>
          <p:nvPr/>
        </p:nvSpPr>
        <p:spPr>
          <a:xfrm>
            <a:off x="434880" y="142560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Economia, lavor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l mercato del lavor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egnaposto contenuto 2"/>
          <p:cNvSpPr/>
          <p:nvPr/>
        </p:nvSpPr>
        <p:spPr>
          <a:xfrm>
            <a:off x="444600" y="2031840"/>
            <a:ext cx="811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Centralità dei contatti e dei rapporti interpersonal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Distinzione tra legami forti e legami deboli (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Granovetter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I legami deboli convogliano soprattutto informazioni, mentre i legami forti forniscono appoggio personalizza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CasellaDiTesto 4"/>
          <p:cNvSpPr/>
          <p:nvPr/>
        </p:nvSpPr>
        <p:spPr>
          <a:xfrm>
            <a:off x="324000" y="287280"/>
            <a:ext cx="66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L’incontro tra domanda e offerta di lavo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Connettore 1 6"/>
          <p:cNvSpPr/>
          <p:nvPr/>
        </p:nvSpPr>
        <p:spPr>
          <a:xfrm>
            <a:off x="434880" y="928800"/>
            <a:ext cx="53992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Economia, lavor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l mercato del lavor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egnaposto contenuto 2"/>
          <p:cNvSpPr/>
          <p:nvPr/>
        </p:nvSpPr>
        <p:spPr>
          <a:xfrm>
            <a:off x="444600" y="1674720"/>
            <a:ext cx="7964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Relazioni intersoggettive, legami con altri, rapporti con diversi ambiti di vita sociale e luoghi di aggregazione, possono essere capitalizzati dalle persone e trasformati in risorse per raggiungere determinati obiettivi, come il reperimento di un</a:t>
            </a:r>
            <a:r>
              <a:rPr b="0" lang="ja-JP" sz="2400" spc="-1" strike="noStrike">
                <a:solidFill>
                  <a:srgbClr val="3d3d3d"/>
                </a:solidFill>
                <a:latin typeface="Arial"/>
              </a:rPr>
              <a:t>’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occupazi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Capitale sociale 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bonding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e capitale sociale 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bridg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</a:rPr>
              <a:t>Capitale socia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Connettore 1 19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Economia, lavor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l mercato del lavor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egnaposto contenuto 2"/>
          <p:cNvSpPr/>
          <p:nvPr/>
        </p:nvSpPr>
        <p:spPr>
          <a:xfrm>
            <a:off x="444600" y="1795320"/>
            <a:ext cx="8304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strutturazione del tem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I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contatti sociali, all’esterno della famigl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Il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perseguimento di obiettivi comun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(collaborazione con altr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’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identità o lo status social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definiti dalla divisione del lavo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regolarità delle attività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(ritmi e regole da seguire) (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Jahod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sicurezza econom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asellaDiTesto 4"/>
          <p:cNvSpPr/>
          <p:nvPr/>
        </p:nvSpPr>
        <p:spPr>
          <a:xfrm>
            <a:off x="324000" y="287280"/>
            <a:ext cx="6740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I benefici psico-sociali del lavo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09:53:44Z</dcterms:created>
  <dc:creator>Emanuele Centola</dc:creator>
  <dc:description/>
  <dc:language>en-US</dc:language>
  <cp:lastModifiedBy>ame ame</cp:lastModifiedBy>
  <dcterms:modified xsi:type="dcterms:W3CDTF">2016-12-15T15:05:57Z</dcterms:modified>
  <cp:revision>140</cp:revision>
  <dc:subject/>
  <dc:title>Le origini della civiltà greca</dc:title>
</cp:coreProperties>
</file>