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A9449-96E4-481B-845C-D735CE488A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2F3F2-13E3-4CEB-828B-365E71E710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0A94D-33F5-44A6-AD30-4B1721CAEC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9B37B-8503-4173-8209-F610E885F72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C18B0-F3D8-4F86-93F6-7D0CD10522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05E5F-DFB0-49AF-88F4-052F454FC6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1AA-13F2-46F2-B502-9C677BAD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10D-8562-45E3-BCA0-8B7603F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5FF-7E27-4D41-91C1-CCFC6DBF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7EE-377B-44C0-833A-A9B51ACC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B88-32DD-4EBB-BB45-B535F31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7B0-688B-4B20-B474-9A79315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E04-681F-4673-AEEE-1205C82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054-9BF9-490E-B71A-89351560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768-8F6D-485C-8022-52EB52A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40E-5622-44E1-AC2D-410D036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4D5-EBAE-44F9-A7EC-3A7F76E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7DD-7085-4449-B891-3AB749A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FB588-06CE-42EA-9EE5-70EDF91ACC6B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EC3F4-3031-4002-A253-9426B1DC649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Economia, lavor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I modelli produt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4880" y="1784520"/>
            <a:ext cx="8251920" cy="20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trodotta d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Henry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or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 partire dal 191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parla di “fordismo” per riferirsi al modello produttivo che si sviluppa negli Stati Uniti nell’ambito dell’industria automobilist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produzione di mas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contenuto 2"/>
          <p:cNvSpPr/>
          <p:nvPr/>
        </p:nvSpPr>
        <p:spPr>
          <a:xfrm>
            <a:off x="474840" y="1803240"/>
            <a:ext cx="81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fezionamento degli strumenti di taglio e di mis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tandardizzazione dei compon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iformità dei prodotti fin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corso a manodopera scarsamente qual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Banalizzazione e rigida definizione delle mansioni: organizzazione scientifica del lavoro (taylorismo) e figura dell’operaio-mas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marginazione del sindacalismo di mestiere, nascita del sindacalismo d’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324000" y="287280"/>
            <a:ext cx="84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Caratteri della produzione di mas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contenuto 2"/>
          <p:cNvSpPr/>
          <p:nvPr/>
        </p:nvSpPr>
        <p:spPr>
          <a:xfrm>
            <a:off x="434880" y="1239840"/>
            <a:ext cx="830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Downsizing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riduzione del personale e delle dimensioni delle impre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Outsourcing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processi di esternalizzazione, ricorso a fornitori ester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Delocalizzazio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dislocazione territoriale delle attiv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Destaffing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semplificazione delle gerarchie (organizzazioni «piatte»), riduzione degli organi di consulenza interna (staff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ristrutturazioni delle industr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contenuto 2"/>
          <p:cNvSpPr/>
          <p:nvPr/>
        </p:nvSpPr>
        <p:spPr>
          <a:xfrm>
            <a:off x="434880" y="1800360"/>
            <a:ext cx="830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Esperienza dei distretti industr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entralità delle piccole e medie imprese specializz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intesi di artigianato e nuove tecnolo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voro qualificato e collabor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ntegrazione con il territorio: industrializzazione senza frat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llaborazione tra imprese, sindacati, istituzioni pubbliche loc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Un modello in declino o in trasformazi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pecializzazione flessibi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contenuto 2"/>
          <p:cNvSpPr/>
          <p:nvPr/>
        </p:nvSpPr>
        <p:spPr>
          <a:xfrm>
            <a:off x="324000" y="160956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ferimento all’esperienza tedes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«Vincoli benefici» fissati dalle leggi: influenza sindacale, buona sicurezza dell’impiego, pace soc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seguimento di una «via alta» alla competitività: prodotti di qualità, rivolti ai segmenti medio-alti del merc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stema duale di formazione professionale basato su alternanza tra scuola e azi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Manodopera qualificata e polifunzio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324000" y="287280"/>
            <a:ext cx="83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produzione diversificata di quali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contenuto 2"/>
          <p:cNvSpPr/>
          <p:nvPr/>
        </p:nvSpPr>
        <p:spPr>
          <a:xfrm>
            <a:off x="434880" y="1465200"/>
            <a:ext cx="811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ferimento all’esperienza giapponese: «toyotismo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stematico perseguimento dell’eliminazione di inefficienze, colli di bottiglia, scorte di magazz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involgimento dei dipendenti in questo sforzo: «qualità totale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rande flessibilità interna: impegno dei dipendenti come contropartita della stabilità dell’occup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involgimento dei fornitori nella stessa lo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modello si è dimostrato in una certa misura esportabile: in Italia, esperienza della Fiat di Mel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scussioni sugli effetti sociali del model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produzione snel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modelli produttiv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contenuto 2"/>
          <p:cNvSpPr/>
          <p:nvPr/>
        </p:nvSpPr>
        <p:spPr>
          <a:xfrm>
            <a:off x="434880" y="142236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stantaneità, coincidenza tra produzione e consumo del serviz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involgimento del cliente nella co-produzione del serviz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tangibilità, assenza della merce come oggetto intermedi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arattere interpersonale e relazionale del serviz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mportanza degli atteggiamenti personali e del 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voro emozionale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levato potere vulnerante degli scioperi e delle proteste dei lavora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324000" y="287280"/>
            <a:ext cx="83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lavoro nei servizi rivolti al pub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4:50:50Z</dcterms:modified>
  <cp:revision>125</cp:revision>
  <dc:subject/>
  <dc:title>Le origini della civiltà greca</dc:title>
</cp:coreProperties>
</file>