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E51DD-7D32-4217-9B44-488FCA35A68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6F468-E272-437B-88F4-AAA51075453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368B1-56AE-4B6B-9647-F1D8A25D47B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7618C-536A-437B-9A79-BFC0BA97FAA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7C097-644D-45A3-95EE-7B85499B2AE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F1E57-E354-4B2B-9753-DA442E615E6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D094A-BCE0-47E6-A6A4-6DDC4E59DE0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024BB-8BE2-45A7-9737-F6849A4C1EB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1F8-59C1-440A-BE31-21B95E55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203-E069-46BA-B6D7-E2B891F5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084-FEC8-4729-8E0D-3370BE19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7D7-046F-4439-BB9D-BA54F9AD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886-0AEB-4D56-A489-F0A9A505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C41-B004-4A61-8C32-82A87653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C35-DC10-4F2E-A4A1-EFCF120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622-47DD-43E5-AEC7-F5738716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BA9-BC61-48D8-92E6-8CA0241A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1AA-9815-4E19-9F65-61886C58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48E-D186-409E-8155-08D29EA0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950-833A-4E2B-AE07-3E93AFBF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AFCD0-1AA4-43EE-A6D9-42D242C43D1C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51155-6319-4B92-9096-6A27C78573E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Economia, lavoro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718080" y="627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apitalismo e società industr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277920"/>
          <a:ext cx="8380440" cy="5987880"/>
        </p:xfrm>
        <a:graphic>
          <a:graphicData uri="http://schemas.openxmlformats.org/drawingml/2006/table">
            <a:tbl>
              <a:tblPr/>
              <a:tblGrid>
                <a:gridCol w="2814480"/>
                <a:gridCol w="2814480"/>
                <a:gridCol w="2751480"/>
              </a:tblGrid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pitalismo neo-america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pitalismo alpino-rena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lo economic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iluppo liberistic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sociale di merca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i pubblici (non commerciabili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zione ristret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zione ampia (istruzione, ricerca…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i nella formazio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arsi da parte dello Stato e delle imprese, lasciati soprattutto agli individu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i da parte dello Stato, coinvolgimento delle impre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zione delle impre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dity</a:t>
                      </a: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una merce, proprietà privata degli azionisti (</a:t>
                      </a:r>
                      <a:r>
                        <a:rPr b="0" i="1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holders</a:t>
                      </a: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nche) </a:t>
                      </a:r>
                      <a:r>
                        <a:rPr b="0" i="1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ty</a:t>
                      </a: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un bene comune, in cui hanno voce diversi portatori di interessi legittimi (</a:t>
                      </a:r>
                      <a:r>
                        <a:rPr b="0" i="1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s</a:t>
                      </a: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riere lavor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giore interscambio con il mercato del lavoro ester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prattutto interne alle impre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zione socia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ata (no pensioni e sanità pubblica su basi universalistich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a: buona sanità pubblica, pensioni e altri servizi di welf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onnettore 1 6"/>
          <p:cNvSpPr/>
          <p:nvPr/>
        </p:nvSpPr>
        <p:spPr>
          <a:xfrm>
            <a:off x="434880" y="145728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176640" y="641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apitalismo e società industr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olo 1"/>
          <p:cNvSpPr/>
          <p:nvPr/>
        </p:nvSpPr>
        <p:spPr>
          <a:xfrm>
            <a:off x="324000" y="297360"/>
            <a:ext cx="7227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400" spc="-1" strike="noStrike">
                <a:solidFill>
                  <a:srgbClr val="3d3d3d"/>
                </a:solidFill>
                <a:latin typeface="Arial"/>
              </a:rPr>
              <a:t>Impresa società per azioni contro impresa-comunità (R. Dor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contenuto 2"/>
          <p:cNvSpPr/>
          <p:nvPr/>
        </p:nvSpPr>
        <p:spPr>
          <a:xfrm>
            <a:off x="425520" y="1887480"/>
            <a:ext cx="831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prima, tipica del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capitalismo nordamerican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proprietà degli azionisti, rapporti di lavoro basati sullo scambio tra lavoro e prestazioni, nessun impegno di lungo termine, scarsi investimenti formativ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La seconda, tipica del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capitalismo giapponese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: ente a dimensione sociale, senso di appartenenza e mutua fiducia, impiego tendenzialmente a vita, investimenti formativ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8840" y="4275000"/>
            <a:ext cx="60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Capitalismo e società industri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asellaDiTesto 4"/>
          <p:cNvSpPr/>
          <p:nvPr/>
        </p:nvSpPr>
        <p:spPr>
          <a:xfrm>
            <a:off x="434880" y="28728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capitalismo mod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apitalismo e società industr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egnaposto contenuto 2"/>
          <p:cNvSpPr/>
          <p:nvPr/>
        </p:nvSpPr>
        <p:spPr>
          <a:xfrm>
            <a:off x="434880" y="1325520"/>
            <a:ext cx="8304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Orientamento sistematico al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razionali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conomica (Web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nova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come «distruzione creatrice» degli assetti esistenti (Schumpet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Origini religiose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el capitalismo moderno (rapporto con il calvinismo)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Web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uolo dell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inoranz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tniche e religiose, degli </a:t>
            </a:r>
            <a:r>
              <a:rPr b="0" lang="ja-JP" sz="2400" spc="-1" strike="noStrike">
                <a:solidFill>
                  <a:srgbClr val="3d3d3d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tranieri</a:t>
            </a:r>
            <a:r>
              <a:rPr b="0" lang="ja-JP" sz="2400" spc="-1" strike="noStrike">
                <a:solidFill>
                  <a:srgbClr val="3d3d3d"/>
                </a:solidFill>
                <a:latin typeface="Arial"/>
              </a:rPr>
              <a:t>”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Sombar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324000" y="287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liberismo econom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apitalismo e società industr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contenuto 2"/>
          <p:cNvSpPr/>
          <p:nvPr/>
        </p:nvSpPr>
        <p:spPr>
          <a:xfrm>
            <a:off x="434880" y="1322280"/>
            <a:ext cx="8229600" cy="25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uolo economico dello Stato limitato al minimo indispensab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Fiducia nella «mano invisibile» del mercato come il miglior regolatore possibile dell’equilibrio tra domanda e offe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ts val="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sellaDiTesto 4"/>
          <p:cNvSpPr/>
          <p:nvPr/>
        </p:nvSpPr>
        <p:spPr>
          <a:xfrm>
            <a:off x="435960" y="287280"/>
            <a:ext cx="48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capitalismo riformis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apitalismo e società industr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egnaposto contenuto 2"/>
          <p:cNvSpPr/>
          <p:nvPr/>
        </p:nvSpPr>
        <p:spPr>
          <a:xfrm>
            <a:off x="434880" y="1325520"/>
            <a:ext cx="7743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crisi del</a:t>
            </a:r>
            <a:r>
              <a:rPr b="0" lang="ja-JP" sz="2400" spc="-1" strike="noStrike">
                <a:solidFill>
                  <a:srgbClr val="3d3d3d"/>
                </a:solidFill>
                <a:latin typeface="Arial"/>
              </a:rPr>
              <a:t>‘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29 scuote la fiducia nella capacità del mercato di autoregolarsi in modo effici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e teorie keynesiane: intervento attivo dello Stato in econom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conomia mista e Stato sociale come espressioni del capitalismo riform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 tre poli del sistema: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Big Busines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Big Labor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Big St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società industr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apitalismo e società industr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egnaposto contenuto 2"/>
          <p:cNvSpPr/>
          <p:nvPr/>
        </p:nvSpPr>
        <p:spPr>
          <a:xfrm>
            <a:off x="434880" y="133020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industria come settore preval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ivisione del lavo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rocessi di urbanizz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Formazione di classi e movimen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Aumento dei redditi e dei cons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ascita di forme di protezione soci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Mobilità soci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Forme di divisione del lavo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apitalismo e società industr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egnaposto contenuto 2"/>
          <p:cNvSpPr/>
          <p:nvPr/>
        </p:nvSpPr>
        <p:spPr>
          <a:xfrm>
            <a:off x="434880" y="13302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3d3d3d"/>
                </a:solidFill>
                <a:latin typeface="Arial"/>
              </a:rPr>
              <a:t>Divisione del lavoro sociale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nascita di mestieri e professioni) come base della solidarietà organica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Durkhe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3d3d3d"/>
                </a:solidFill>
                <a:latin typeface="Arial"/>
              </a:rPr>
              <a:t>Divisione sociale del lavor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tra datori di lavoro e salariati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Marx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3d3d3d"/>
                </a:solidFill>
                <a:latin typeface="Arial"/>
              </a:rPr>
              <a:t>Divisione tecnica del lavor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ossia la scomposizione delle occupazioni in compiti molto definiti, semplificati, «parcellizzati», sottoposti a controllo gerarchico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(Marx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 macrosettori economi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apitalismo e società industr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egnaposto contenuto 2"/>
          <p:cNvSpPr/>
          <p:nvPr/>
        </p:nvSpPr>
        <p:spPr>
          <a:xfrm>
            <a:off x="431640" y="13273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ettore primari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agricoltura, pesca, attività estrat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ettore secondari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le attività industriali, dedicate alla trasformazione delle materie pr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ettore terziari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tutto il complesso dei servizi (ciò che non rientra nei due settori precedent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rziario avanzato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quaternari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per indicare i servizi più innovativi e qualificati (come per esempio la ricerca scientifica e l’informatica), in contrapposizione al terziario tradiz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46392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sellaDiTesto 4"/>
          <p:cNvSpPr/>
          <p:nvPr/>
        </p:nvSpPr>
        <p:spPr>
          <a:xfrm>
            <a:off x="324000" y="287280"/>
            <a:ext cx="8057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società post-industr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Economia, lavor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Capitalismo e società industri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egnaposto contenuto 2"/>
          <p:cNvSpPr/>
          <p:nvPr/>
        </p:nvSpPr>
        <p:spPr>
          <a:xfrm>
            <a:off x="434880" y="1330200"/>
            <a:ext cx="8304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04880" indent="-7048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erdita di centralità sociale del mondo dell’industria, crescita dell’occupazione nei servizi (Touraine 1970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04880" indent="-7048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04880" indent="-7048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viluppo della «società della conoscenza» (centralità dell’istruzione e della ricerca) (visione ottimist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04880" indent="-7048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04880" indent="-7048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recarizzazione del lavoro, crescita del proletariato dei servizi (visione pessimist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04880" indent="-7048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04880" indent="-704880">
              <a:lnSpc>
                <a:spcPct val="100000"/>
              </a:lnSpc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«Le città globali» (Sassen 2010) (una possibile sintes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4:34:20Z</dcterms:modified>
  <cp:revision>127</cp:revision>
  <dc:subject/>
  <dc:title>Le origini della civiltà greca</dc:title>
</cp:coreProperties>
</file>