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9BE16-EABF-4317-A3CC-A2429D29517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B9402-DDE6-4DA3-AE9B-0C02CD3AC4C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51605-EC8B-4D18-908C-9C07B7E57DE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DB948-9037-4450-8467-D817B7ED28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851D1-7B63-4D43-BFCC-41F86235450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732C4-C790-4CEA-9A3D-32B3D40E5C6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9D87B-2CA7-4EC3-BA4A-9DF2F542CB9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8F9-3062-4E01-86D0-733FBDE7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7F0-50B6-42DA-8C82-D6F30DE7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DF8-32D2-48B6-AB0B-729A00CF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EDE-CB8D-49A0-8977-2097B263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039-334E-4293-9160-271B40A0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155-1725-48B0-A682-BD46C4F9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F40-B498-4E59-81AD-B2B60BFA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CED-3057-47F7-AEB7-AE61A943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A52-91C5-43C5-8C60-FA5BE299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7D1-A06C-425E-A67A-D8CF6BA0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865-7112-4D31-B657-A533018B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781-6AB6-492D-B950-A65CABF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ED566-6A47-4296-BF83-6F4BA1DCD213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FFBED-2DD3-4B0F-8CB4-FF8BC695BBD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Economia, lavoro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Mercato ed econo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nettore 1 6"/>
          <p:cNvSpPr/>
          <p:nvPr/>
        </p:nvSpPr>
        <p:spPr>
          <a:xfrm>
            <a:off x="434880" y="1477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asellaDiTesto 4"/>
          <p:cNvSpPr/>
          <p:nvPr/>
        </p:nvSpPr>
        <p:spPr>
          <a:xfrm>
            <a:off x="434880" y="304920"/>
            <a:ext cx="767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Tre approcci all’analisi sociologica dei processi econom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ercato ed econom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egnaposto contenuto 2"/>
          <p:cNvSpPr/>
          <p:nvPr/>
        </p:nvSpPr>
        <p:spPr>
          <a:xfrm>
            <a:off x="434880" y="1906560"/>
            <a:ext cx="82296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’approccio micro o individualis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 focus sull’individuo come attore razionale e strate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’approccio macro o strutturalis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 focus sulle grandi determinanti strutturali che condizionano l’agire individu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a nuova sociologia economic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 focus sulla costruzione sociale dei processi economi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contenuto 2"/>
          <p:cNvSpPr/>
          <p:nvPr/>
        </p:nvSpPr>
        <p:spPr>
          <a:xfrm>
            <a:off x="434880" y="1906560"/>
            <a:ext cx="789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Econom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l’insieme delle attività stabilmente intraprese dai membri di una società per produrre, distribuire e scambiare beni e servizi (Trigilia, 1998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istema economic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l’insieme delle diverse modalità attraverso le quali le istituzioni orientano e regolano le attività economiche nello spazio e nel tempo (es.: sistema economico feudale, capitalistic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Economia e sistema econom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ercato ed econom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contenuto 2"/>
          <p:cNvSpPr/>
          <p:nvPr/>
        </p:nvSpPr>
        <p:spPr>
          <a:xfrm>
            <a:off x="431640" y="1906560"/>
            <a:ext cx="79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ndica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nsieme di negoziazion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in base alle quali  la distribuzione delle risorse  è l’esito di scambi basati sui prezzi in condizioni di concorre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l mercato presuppone e alimenta 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razionali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dei comportamenti degli attori sociali: venditori e compratori cercano di trarre dallo scambio i maggiori benefici possibi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ercato ed econom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Merc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Reciprocità e redistribu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ercato ed econom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contenuto 2"/>
          <p:cNvSpPr/>
          <p:nvPr/>
        </p:nvSpPr>
        <p:spPr>
          <a:xfrm>
            <a:off x="431640" y="1174680"/>
            <a:ext cx="8307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Oltre al mercato,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olanyi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1993) ha distinto altri d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ispositivi di regolazione delle attività economich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eciprocità: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processi di distribuzione di beni e servizi basati su legami sociali e obblighi di solidarietà (come nell’ambito familiare). Centralità degl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bblighi mora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edistribuzione: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un’autorità centralizzata raccoglie le risorse di un territorio e delle popolazioni che lo abitano, le immagazzina e poi le suddivide tra i soggetti sottoposti al suo potere (come gli antichi imperi; oggi il Welfare State). Centralità del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olitic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Mercato e modern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ercato ed econom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contenuto 2"/>
          <p:cNvSpPr/>
          <p:nvPr/>
        </p:nvSpPr>
        <p:spPr>
          <a:xfrm>
            <a:off x="431640" y="1449360"/>
            <a:ext cx="830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avvento del mercato rappresenta l’affrancamento degli scambi economici dall’influenza della regolazione sociale e polit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i collega ai processi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odernizz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al passaggio dalla comunità tradizionale alla società degli individ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stituzione tipica del mercato è 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ntrat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ossia un accordo tra eguali liberamente sottoscritto, che vincola le parti contraenti soltanto per i suoi contenuti specifici e per il tempo previsto dall’accor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sellaDiTesto 4"/>
          <p:cNvSpPr/>
          <p:nvPr/>
        </p:nvSpPr>
        <p:spPr>
          <a:xfrm>
            <a:off x="324000" y="287280"/>
            <a:ext cx="71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Economia informale, sommersa, crimin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6"/>
          <p:cNvSpPr/>
          <p:nvPr/>
        </p:nvSpPr>
        <p:spPr>
          <a:xfrm>
            <a:off x="434880" y="1477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ercato ed econom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egnaposto contenuto 2"/>
          <p:cNvSpPr/>
          <p:nvPr/>
        </p:nvSpPr>
        <p:spPr>
          <a:xfrm>
            <a:off x="434880" y="1652760"/>
            <a:ext cx="838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Economia informal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attività economiche realizzate al di fuori del mercato formale, anche nelle società sviluppate (es.: il lavoro delle donne in famigli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Economia sommers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rregolar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complesso di attività in cui si producono per il mercato, a scopo di lucro, beni o servizi leciti, violando però le norme che regolamentano le attività economiche, e in particolare quelle che tutelano i lavoratori o disciplinano i rapporti di lavoro (es.: lavoro ner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Economia criminale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oggetto dell’attività economica è in se stesso illecito, anche se a volte viene effettuato con mezzi leciti (es: il riciclaggio di denaro sporc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4"/>
          <p:cNvSpPr/>
          <p:nvPr/>
        </p:nvSpPr>
        <p:spPr>
          <a:xfrm>
            <a:off x="324000" y="304920"/>
            <a:ext cx="8057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Tre scuole di pensiero sull’economia inform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ercato ed econom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contenuto 2"/>
          <p:cNvSpPr/>
          <p:nvPr/>
        </p:nvSpPr>
        <p:spPr>
          <a:xfrm>
            <a:off x="434880" y="1679400"/>
            <a:ext cx="830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Dualist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vede una netta distinzione tra attività formali e informali, considerando le seconde come strategie di sopravvivenza di popolazioni margin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Strutturalist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pone in rilievo gli intrecci tra economia formale ed economia informale, nonché la funzionalità della seconda allo sviluppo della pri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Legalist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, ha una visione più ottimistica, ritenendola un ambito in cui le persone possono esprimere delle capacità di iniziativa, sottraendosi ai vincoli degli apparati burocrati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nettore 1 6"/>
          <p:cNvSpPr/>
          <p:nvPr/>
        </p:nvSpPr>
        <p:spPr>
          <a:xfrm>
            <a:off x="434880" y="1477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4:18:35Z</dcterms:modified>
  <cp:revision>117</cp:revision>
  <dc:subject/>
  <dc:title>Le origini della civiltà greca</dc:title>
</cp:coreProperties>
</file>