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32948-DCB8-4A96-B934-C57B32A477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A2A51-5A6E-4109-9A1B-D525D206299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3F9C7-2E8A-424C-9EB3-0583A0A19C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72719-D8E7-4C7E-8F7E-AFC777925C6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06671-874A-4A04-84E2-7A6C0AD0135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45F23-391B-4394-8F6E-EB39ECBFDC0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8DB42-4D14-4BD7-A798-420801D69FF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D123A-FADE-4026-AD87-0EA1AF8238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ED6-BF3E-420F-965F-A55DEBFB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C5-442C-43DC-8A08-66127824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E5D-B7B9-44CA-9FFC-69A00BC4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555-61D6-4E16-8733-8AE853B8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8E4-5225-48E5-99E4-3861E07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DF9-B153-4D60-A096-AFDDFDA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DDE-76FF-41BD-8827-6DB55C9C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272-64B7-4F8A-9E70-6827F69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240-510A-4FDB-B550-A28034C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51B-115C-49C1-A3A5-BDA8B06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665-1C55-4F2C-B1AE-2AE9C8A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275-43EB-4F22-86DB-3AF83A9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9866E-015A-4BF3-94B2-D8D18A62B5B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14462-1AE1-48FD-BBAF-A514D94B04F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ultura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istituzionalizzazione del caris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6"/>
          <p:cNvSpPr/>
          <p:nvPr/>
        </p:nvSpPr>
        <p:spPr>
          <a:xfrm>
            <a:off x="434880" y="928800"/>
            <a:ext cx="713124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24000" y="1638360"/>
            <a:ext cx="8229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organizzazioni specificamente religiose sorgono sulla base di esperienze religiose di singoli fondatori e dei loro segua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evoluzione del momento carismatico e fluido di una religione in «pratica quotidiana», viene chiamata da Weber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routinizzazione del carisma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ssa avviene come risposta al problema della successione al leader carisma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44880" y="21420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ipi di organizzazione religio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9"/>
          <p:cNvSpPr/>
          <p:nvPr/>
        </p:nvSpPr>
        <p:spPr>
          <a:xfrm>
            <a:off x="360360" y="934920"/>
            <a:ext cx="810108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1500120"/>
            <a:ext cx="82296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hies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comunità di credenti istituzionalizzata, a cui si appartiene per nasci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ett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comunità di credenti a cui si aderisce per un atto di libera scelta che presuppone un processo individuale di convers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nominazion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evoluzione delle sette che, con il passare del tempo, il succedersi delle generazioni, tendono a perdere parte della carica conflittu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180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667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26880" y="30600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scala evolutiva (Bella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422280" y="1042920"/>
            <a:ext cx="81820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74760" y="1195560"/>
            <a:ext cx="82296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eligioni prim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eligioni arcai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eligioni stori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eligioni protomoder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eligioni moder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22920" y="416880"/>
            <a:ext cx="70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Concezione della divinità (Webe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0880" y="1154160"/>
            <a:ext cx="82296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80880" y="1727280"/>
            <a:ext cx="8229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mmagine teocentr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cezione di un dio personale trascendente (islam, ebraismo, cristianesim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mmagine cosmocentr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cezione di un potere divino impersonale immanente (induismo, buddism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07340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24720" y="304200"/>
            <a:ext cx="58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apporto uomo/dio (Webe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24000" y="977760"/>
            <a:ext cx="82296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24000" y="1469880"/>
            <a:ext cx="82296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ligioni ascetic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uomo è visto come l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strumento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 Dio, che agisce nel mondo per suo volere (tradizione mediorientale e occidental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ligioni mistic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individuo non è concepito come uno strumento, ma come «vaso» del divino, ossia come contenitore della divinità (tradizione asiat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671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7180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5667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2041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secolar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24000" y="153972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termine secolarizzazione nasce i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mbito giuridico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derivato dal latin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saeculu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 per indicare il trasferimento di beni e territori dalla chiesa a possessori civil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 suo uso descrittivo, di tipo storico-sociologico, si intend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 processo di cambiamento della religione nella società modern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in base al quale alcune sfere della società e della cultura vengono sottratte al dominio delle istituzioni e dei simboli religio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34800" y="846000"/>
            <a:ext cx="68374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465280" y="64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7180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667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33000" y="6448320"/>
            <a:ext cx="29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24000" y="347040"/>
            <a:ext cx="75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e livelli della secolar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76120" y="1287360"/>
            <a:ext cx="85662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ivell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istituzional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la differenziazione sociale ha prodotto una riduzione del ruolo della religione, confinata in una sfera sociale specifica (separazione stato/chiesa; pluralismo religios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ivell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ultural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le credenze religiose sono divenute sempre più individualizzate (scelta individuale; credere senza appartenere e appartenere senza creder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ivello 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omportamental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la pratica religiosa regolare in Europa è diventata minoritaria e la religione orienta molto meno di un tempo le scelte etiche di individui e grupp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371520" y="1020600"/>
            <a:ext cx="8137440" cy="324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Religione e secolarizz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analisi sociologica della relig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92160"/>
            <a:ext cx="7994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434880" y="1633680"/>
            <a:ext cx="82296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sociologia e le altre scienze sociali adottano un metodo analitico e induttivo nello studio  della relig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sociologia non intende individuare la «verità» o «non verità» dell’oggetto o degli oggetti che il termine religione circoscrive, ma si limita a considerarla come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enomeno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distinguendola da altri fenomeni e oggetti sociali che non sono religio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057480" y="4843440"/>
            <a:ext cx="290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finizione di relig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6"/>
          <p:cNvSpPr/>
          <p:nvPr/>
        </p:nvSpPr>
        <p:spPr>
          <a:xfrm>
            <a:off x="434880" y="1008000"/>
            <a:ext cx="7772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30280" y="1646640"/>
            <a:ext cx="75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n il termin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eligio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si intende un insieme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redenz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valor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imbol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it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che collegano individui e gruppi umani a entità 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forze extraumane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ritenut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acr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funzioni delle relig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6"/>
          <p:cNvSpPr/>
          <p:nvPr/>
        </p:nvSpPr>
        <p:spPr>
          <a:xfrm>
            <a:off x="482760" y="1023840"/>
            <a:ext cx="79419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4000" y="1558800"/>
            <a:ext cx="77263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Rafforzamento dei legami social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urkhei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estione delle tensioni emotiv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Malinowsk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iustificazione della distribuzione della ricchezza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Web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4"/>
          <p:cNvSpPr/>
          <p:nvPr/>
        </p:nvSpPr>
        <p:spPr>
          <a:xfrm>
            <a:off x="324000" y="287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ruolo innovatore della relig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6"/>
          <p:cNvSpPr/>
          <p:nvPr/>
        </p:nvSpPr>
        <p:spPr>
          <a:xfrm>
            <a:off x="434880" y="968400"/>
            <a:ext cx="7994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24000" y="1359000"/>
            <a:ext cx="82296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Max Weber sottolinea il ruolo attivo della religione attraverso gli studi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risma.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«Forza dirompente e rivoluzionaria» che sovverte i valori su cui si fondavano le vecchie consuetudini e tradizioni religi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’etica protestan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Trasferisce l’idea di «vocazione» dall’ambito religioso a quello professionale, forgiando il nuovo «spirito del capitalismo» (costituito da razionalità, dedizione al lavoro, inclinazione al risparmio per l’investimento) che ha cambiato il volto dell’economia e della cultura tradiz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esperienza del sac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6"/>
          <p:cNvSpPr/>
          <p:nvPr/>
        </p:nvSpPr>
        <p:spPr>
          <a:xfrm>
            <a:off x="355680" y="960480"/>
            <a:ext cx="8118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34880" y="1871640"/>
            <a:ext cx="80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econdo l’approccio fenomenologico, la religione ha un ruolo fondamentale nel forgiare un mondo significativo e nel proteggere il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nomo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ossia l’ordine sociale, da ogni forza disgregatric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Berg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sellaDiTesto 4"/>
          <p:cNvSpPr/>
          <p:nvPr/>
        </p:nvSpPr>
        <p:spPr>
          <a:xfrm>
            <a:off x="323640" y="287280"/>
            <a:ext cx="73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religione come sistema cultur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6"/>
          <p:cNvSpPr/>
          <p:nvPr/>
        </p:nvSpPr>
        <p:spPr>
          <a:xfrm>
            <a:off x="455760" y="1008000"/>
            <a:ext cx="7557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34880" y="1704960"/>
            <a:ext cx="82296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resenza di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ttura di significa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espressi sia in dottrine e dogmi, sia in precetti, simboli e ritu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serimento dell’individuo e della realtà umana in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rdine cosmico sac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rattere pubblic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acquisito attraverso processi sociali di apprend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4"/>
          <p:cNvSpPr/>
          <p:nvPr/>
        </p:nvSpPr>
        <p:spPr>
          <a:xfrm>
            <a:off x="323280" y="287280"/>
            <a:ext cx="699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religione come organ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6"/>
          <p:cNvSpPr/>
          <p:nvPr/>
        </p:nvSpPr>
        <p:spPr>
          <a:xfrm>
            <a:off x="465120" y="920880"/>
            <a:ext cx="8088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Religione e secolar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24000" y="1336680"/>
            <a:ext cx="82296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religione svilupp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orme specifiche di organizz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he soddisfano esigenze di adattamento rispetto al mondo e di continuazione dell’originaria esperienza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asc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pecialis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lla religione, ossia un personale specificamente dedicato a svolgere compiti religio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comunità religiosa originaria si struttura secondo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erarchia di autor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on poteri e ruoli definiti, dando vita a un’istituzione che dura nel tem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39:26Z</dcterms:modified>
  <cp:revision>109</cp:revision>
  <dc:subject/>
  <dc:title>Le origini della civiltà greca </dc:title>
</cp:coreProperties>
</file>