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A1B28-FC30-4F60-AA21-60A9BD7C00B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589EE-D6A3-46CA-B85C-81476EEC796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AD949-1918-4EE4-99EA-97F4761D794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A10AA-3948-481E-AF01-BA8C335355C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C1E13-A41F-4A91-9D03-D371A996490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FEF49-992B-409D-A830-AFA04F58F48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6E8DF-B752-48B5-BE8F-E5DD5571E65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8C241-9DFC-4D80-8D8F-EF8C3101469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561-9349-4B39-9E0A-CB2BA345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E08-2E7D-4181-A81E-14EBA978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D14-5572-4D89-9190-A6BFF786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6BB-8F6C-4C4A-832E-7B435959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4BC-5139-43F5-8CB7-CEE3826C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962-FFE3-4205-89B6-2A5CA92B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4B9E-C912-4618-AD62-6F374F50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A07D-6BEC-4E6A-832A-64FC2EE0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646E-2F58-4247-B3A6-5C412FC1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89A-6ED5-42A8-B892-2E5E5313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49DC-7472-4F94-8463-33A5A7D2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3C77-4FE6-4603-B05C-83B7DD3C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56979-3701-4F8B-BD3A-9F5A06543E3E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CDA1F7-B99C-4A61-86EB-4DCEB6EE751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"/>
              </a:rPr>
              <a:t>Cultura e societ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asellaDiTesto 4"/>
          <p:cNvSpPr/>
          <p:nvPr/>
        </p:nvSpPr>
        <p:spPr>
          <a:xfrm>
            <a:off x="324000" y="287280"/>
            <a:ext cx="834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Cause dell’espansio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dell’istruzione superio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nettore 1 6"/>
          <p:cNvSpPr/>
          <p:nvPr/>
        </p:nvSpPr>
        <p:spPr>
          <a:xfrm>
            <a:off x="455760" y="1477800"/>
            <a:ext cx="7824600" cy="0"/>
          </a:xfrm>
          <a:prstGeom prst="line">
            <a:avLst/>
          </a:prstGeom>
          <a:ln w="648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cuola ed educ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24000" y="2025720"/>
            <a:ext cx="846432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Al livell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macrosoci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, il progresso economico e tecnologico richiede un aumento della forza lavoro qualific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Al livello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microsoci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, la decisione se continuare o meno gli studi dipende dal calcolo del rapporto costi-benefici stimato dagli studenti e dalle loro famiglie.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31920" y="6448320"/>
            <a:ext cx="258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cuola ed educ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4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45600" y="214200"/>
            <a:ext cx="71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Istruzione e disuguaglianze soci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9"/>
          <p:cNvSpPr/>
          <p:nvPr/>
        </p:nvSpPr>
        <p:spPr>
          <a:xfrm>
            <a:off x="360360" y="923760"/>
            <a:ext cx="759780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324000" y="1549440"/>
            <a:ext cx="82296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È al livello superiore di istruzione che permangono divari nella probabilità di accedere e completare la scuo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Vengono distinti due effet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’effetto della classe soci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, che rimanda ai costi della scuol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L’effetto del titolo di studio dei genitor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, che rimanda all’«eredità familiare», ossia alla trasmissione di competenze culturali e cognitive legate a un ambiente più ricco di risorse educa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5310360" y="629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31920" y="6448320"/>
            <a:ext cx="258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cuola ed educ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24000" y="416880"/>
            <a:ext cx="68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  <a:ea typeface="ＭＳ Ｐゴシック"/>
              </a:rPr>
              <a:t>Scuola e processi educativ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380880" y="1058760"/>
            <a:ext cx="806940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380880" y="176544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3d3d3d"/>
                </a:solidFill>
                <a:latin typeface="Arial"/>
              </a:rPr>
              <a:t>curriculum nascosto</a:t>
            </a:r>
            <a:r>
              <a:rPr b="0" lang="en-US" sz="2400" spc="-1" strike="noStrike">
                <a:solidFill>
                  <a:srgbClr val="3d3d3d"/>
                </a:solidFill>
                <a:latin typeface="Arial"/>
              </a:rPr>
              <a:t> non è scritto, è informale e non è consapevolmente pianificato. Esso include norme, valori, pratiche e relazioni di gruppo che tutte le persone coinvolte nel lavoro scolastico (in primo luogo insegnanti e studenti) portano con sé e sviluppano in clas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71808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566720" y="635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5310360" y="629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31920" y="6448320"/>
            <a:ext cx="258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cuola ed educ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27040" y="3060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</a:rPr>
              <a:t>L’interazione in clas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458640" y="1549440"/>
            <a:ext cx="822960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Gli studi sull’interazione in classe si sono concentrati sui meccanismi che tendono a riprodurre l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diseguaglianze social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 figli del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lasse operaia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vengono premiati per comportamenti scolastici come 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docilità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e l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obbedienz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corrispondenti all’acquisizione futura di status socio-occupazionali inferiori; i figli dell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lassi dirigenti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o sono per qualità come l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ssertività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e l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niziativa personal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doti necessarie a svolgere professioni di livello gerarchico superi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560520" y="1066680"/>
            <a:ext cx="792468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073400" y="635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310360" y="629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3796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31920" y="6448320"/>
            <a:ext cx="258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cuola ed educ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24000" y="6448320"/>
            <a:ext cx="68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39040" y="304200"/>
            <a:ext cx="82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3d3d3d"/>
                </a:solidFill>
                <a:latin typeface="Arial"/>
              </a:rPr>
              <a:t>Dalla scuola d’élite alla scuola di mas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458640" y="1486080"/>
            <a:ext cx="8229600" cy="43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on l’avvento della scuola superiore di mass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Il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modello tradizionale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di formazione delle élite, che funzionava in base al cosiddetto «programma istituzionale»,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entra in cris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Dubet 2002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scuola superiore, divenuta un crogiuolo di classi sociali diverse, deve fare i cont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con culture giovanili estrane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a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tradizionali valor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e norme scolastich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enfasi si sposta sul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verifica dei risultati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e sull’esigenza di stabilire un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nuovo rapporto tra conoscenza e mercato del lavoro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324000" y="1065240"/>
            <a:ext cx="8464320" cy="0"/>
          </a:xfrm>
          <a:prstGeom prst="line">
            <a:avLst/>
          </a:prstGeom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34880" y="4275000"/>
            <a:ext cx="59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404040"/>
                </a:solidFill>
                <a:latin typeface="Arial"/>
                <a:ea typeface="Arial"/>
              </a:rPr>
              <a:t>Scuola ed educa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8"/>
          <p:cNvSpPr/>
          <p:nvPr/>
        </p:nvSpPr>
        <p:spPr>
          <a:xfrm>
            <a:off x="4070520" y="501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4"/>
          <p:cNvSpPr/>
          <p:nvPr/>
        </p:nvSpPr>
        <p:spPr>
          <a:xfrm>
            <a:off x="434880" y="287280"/>
            <a:ext cx="76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’analisi sociologica della scuo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ttore 1 6"/>
          <p:cNvSpPr/>
          <p:nvPr/>
        </p:nvSpPr>
        <p:spPr>
          <a:xfrm>
            <a:off x="434880" y="1030320"/>
            <a:ext cx="8118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cuola ed educ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34880" y="1755720"/>
            <a:ext cx="811872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cuol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è un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istituzion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volta a istruire e a educare gli alliev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secondo una struttura didattica organizzata in base a regole condivis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guidata da specifiche figure professionali, gli insegnanti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on l’indicazione di precisi obiettivi di apprendim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4"/>
          <p:cNvSpPr/>
          <p:nvPr/>
        </p:nvSpPr>
        <p:spPr>
          <a:xfrm>
            <a:off x="324000" y="28728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Istruire ed edu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nettore 1 13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cuola ed educ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85640" y="14508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Tra i compiti della scuola vanno distin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L’istruzione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riguarda processi formalizzati di trasmissione delle conoscenz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L’educazione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comprende anche aspetti informali e impliciti, che tendono preparare il giovane ad assumere orientamenti e comportamenti che ogni cultura ritiene adeguati alla convivenza sociale. Questa è proprio la parte più direttamente legata alla scuola come agenzia di socializzazione.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onnettore 1 12"/>
          <p:cNvSpPr/>
          <p:nvPr/>
        </p:nvSpPr>
        <p:spPr>
          <a:xfrm>
            <a:off x="434880" y="1030320"/>
            <a:ext cx="8118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4"/>
          <p:cNvSpPr/>
          <p:nvPr/>
        </p:nvSpPr>
        <p:spPr>
          <a:xfrm>
            <a:off x="434880" y="287280"/>
            <a:ext cx="798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Due spiegazioni della nascita dei sistemi scolastici nazion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nettore 1 6"/>
          <p:cNvSpPr/>
          <p:nvPr/>
        </p:nvSpPr>
        <p:spPr>
          <a:xfrm>
            <a:off x="434880" y="1477800"/>
            <a:ext cx="79898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nettore 1 14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cuola ed educ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324000" y="1974960"/>
            <a:ext cx="822960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Teorie funzionalist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i sistemi moderni di istruzione rispondono al più elevato livello di competenze tecniche e di qualificazione richieste dallo sviluppo econom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Teorie conflittualiste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: i sistemi moderni di istruzione derivano dall’interesse delle classi al potere a riprodurre le disuguaglianze sociali e le ideologie dominan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sellaDiTesto 4"/>
          <p:cNvSpPr/>
          <p:nvPr/>
        </p:nvSpPr>
        <p:spPr>
          <a:xfrm>
            <a:off x="324000" y="287280"/>
            <a:ext cx="83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struttura del sistema scolast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nettore 1 6"/>
          <p:cNvSpPr/>
          <p:nvPr/>
        </p:nvSpPr>
        <p:spPr>
          <a:xfrm>
            <a:off x="434880" y="968400"/>
            <a:ext cx="82314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cuola ed educ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272880" y="1017720"/>
            <a:ext cx="87012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cuola primari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: fornisce le competenze cognitive di base (lettura, scrittura, calcolo) e introduce all’acquisizione delle principali regole di convivenza civi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Scuola secondari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:</a:t>
            </a:r>
            <a:r>
              <a:rPr b="0" i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è finalizzata all’apprendimento di competenze cognitive intermedie e professional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Istruzione terziari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: ha il compito di fornire competenze di tipo superiore, con percorsi di alta formazione e specializzaz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  <a:ea typeface="Arial"/>
              </a:rPr>
              <a:t>Questi tre livelli danno vita a un sistema integrato, perché i cicli di apprendimento si susseguono e ogni livello superiore implica il preced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asellaDiTesto 4"/>
          <p:cNvSpPr/>
          <p:nvPr/>
        </p:nvSpPr>
        <p:spPr>
          <a:xfrm>
            <a:off x="324000" y="287280"/>
            <a:ext cx="78372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400" spc="-1" strike="noStrike">
                <a:solidFill>
                  <a:srgbClr val="404040"/>
                </a:solidFill>
                <a:latin typeface="Arial"/>
                <a:ea typeface="Arial"/>
              </a:rPr>
              <a:t>L’affermarsi dei diversi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400" spc="-1" strike="noStrike">
                <a:solidFill>
                  <a:srgbClr val="404040"/>
                </a:solidFill>
                <a:latin typeface="Arial"/>
                <a:ea typeface="Arial"/>
              </a:rPr>
              <a:t>gradi di istruzione in Europ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onnettore 1 6"/>
          <p:cNvSpPr/>
          <p:nvPr/>
        </p:nvSpPr>
        <p:spPr>
          <a:xfrm>
            <a:off x="434880" y="1477800"/>
            <a:ext cx="8118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cuola ed educ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24000" y="1766880"/>
            <a:ext cx="83804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istituzione educativa più recente è 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cuola primari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 La tappa più importante è stata, a partire dalla fine del Settecento, l’istituzione dell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obbligatorietà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del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frequenz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alla scuola elementare pubbl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Già nell’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Europa medievale 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nasce il livello terziario dell’istruzione, l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’università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. Le università medievali erano tuttavia piuttosto diverse da quelle attuali; si trattava di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associazioni private tra docenti e studenti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, senza alcun collegamento con livelli precedenti di istruz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sellaDiTesto 4"/>
          <p:cNvSpPr/>
          <p:nvPr/>
        </p:nvSpPr>
        <p:spPr>
          <a:xfrm>
            <a:off x="324000" y="2030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a sconfitt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dell’analfabetismo in Ita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nettore 1 6"/>
          <p:cNvSpPr/>
          <p:nvPr/>
        </p:nvSpPr>
        <p:spPr>
          <a:xfrm>
            <a:off x="434880" y="1477800"/>
            <a:ext cx="8118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nettore 1 10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cuola ed educ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9"/>
          <p:cNvSpPr/>
          <p:nvPr/>
        </p:nvSpPr>
        <p:spPr>
          <a:xfrm>
            <a:off x="324000" y="1822320"/>
            <a:ext cx="836280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estensione dell’istruzione obbligatoria, insieme ad altri fattori, ha comportato la graduale sconfitta dell’analfabetismo in Ital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Dieci anni dopo l’unificazione erano analfabeti sette italiani su 10; la percentuale scende al 48,5% all’inizio del nuovo secolo, al 27,4% nel 192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Dopo il secondo conflitto mondiale, gli analfabeti sono ancora il 12,9% della popolazione. Nel 1961, a cento anni dall’Unità d’Italia, le persone che non sanno leggere e scrivere sono l</a:t>
            </a:r>
            <a:r>
              <a:rPr b="0" lang="ja-JP" sz="2400" spc="-1" strike="noStrike">
                <a:solidFill>
                  <a:srgbClr val="3d3d3d"/>
                </a:solidFill>
                <a:latin typeface="Arial"/>
              </a:rPr>
              <a:t>’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8,3% e si riducono all’1,5% nei quarant’anni successiv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asellaDiTesto 4"/>
          <p:cNvSpPr/>
          <p:nvPr/>
        </p:nvSpPr>
        <p:spPr>
          <a:xfrm>
            <a:off x="414720" y="287280"/>
            <a:ext cx="7354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  <a:ea typeface="Arial"/>
              </a:rPr>
              <a:t>L’espansione dell’istruzione in Ita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nettore 1 6"/>
          <p:cNvSpPr/>
          <p:nvPr/>
        </p:nvSpPr>
        <p:spPr>
          <a:xfrm>
            <a:off x="465120" y="923760"/>
            <a:ext cx="791676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nettore 1 19"/>
          <p:cNvSpPr/>
          <p:nvPr/>
        </p:nvSpPr>
        <p:spPr>
          <a:xfrm>
            <a:off x="43488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Cultur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Scuola ed educ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434880" y="1760400"/>
            <a:ext cx="82296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scuo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primari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raggiunge il livello più alto di espansione nei primi cinquant’anni dell’Italia unit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a scuola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secondari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(scuola media e secondaria superiore) ha il suo massimo periodo di espansione nel ventennio 1950-1970, in corrispondenza del «miracolo economico», quando diventa di mas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d3d3d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L’istruzione </a:t>
            </a:r>
            <a:r>
              <a:rPr b="1" lang="it-IT" sz="2400" spc="-1" strike="noStrike">
                <a:solidFill>
                  <a:srgbClr val="3d3d3d"/>
                </a:solidFill>
                <a:latin typeface="Arial"/>
              </a:rPr>
              <a:t>universitaria</a:t>
            </a:r>
            <a:r>
              <a:rPr b="0" lang="it-IT" sz="2400" spc="-1" strike="noStrike">
                <a:solidFill>
                  <a:srgbClr val="3d3d3d"/>
                </a:solidFill>
                <a:latin typeface="Arial"/>
              </a:rPr>
              <a:t> cresce costantemente nel tempo con una particolare accelerazione negli anni Ottanta del secolo scorso, quando gli studenti iscritti all’università superano il mil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3T22:35:17Z</dcterms:modified>
  <cp:revision>111</cp:revision>
  <dc:subject/>
  <dc:title>Le origini della civiltà greca </dc:title>
</cp:coreProperties>
</file>