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7F87F-11B9-49EA-B8C2-8AD459C2E2E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C5587-94EB-41BC-B99F-612D88A9F96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8D6EE-769C-4D2C-9557-81FC60E8D6B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FE8D5-0A52-4D15-BE2A-E5E8AF3456F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8A513-979A-48BA-AF15-9049456C63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DC5A7-2ACE-4D2B-A1BD-8F3640E2FA9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44D81-E846-4B96-A62D-BF57470A1C1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78BC9-241B-4164-B729-0D28859D8FB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A246E-CC07-4232-8D94-70CD6A98939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B4C-F698-4231-8670-4FE182AE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A7D-FECA-4B17-B24E-2988E2E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39C-400F-4901-ADBA-58555A1C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BD0-3810-4FB8-93D4-873300EF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F6E-85B5-4E91-9A35-630ACDA4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B46-01C7-4735-8DAA-98250247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927-EA4F-4EAD-ADFA-DD3332A0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C06-F715-4C4D-93A1-5EE87918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167-B335-4B73-B4E8-58272FBD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346-A821-4C35-AAF7-FFB76D89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C34-04BF-4AC5-B6DC-01F837C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71B-C9C5-4103-86E2-6356206F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B437A-6856-4B5E-B541-F81156A9C730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67AF3-BC4E-462A-BF1A-C954B07350E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Cultura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asellaDiTesto 4"/>
          <p:cNvSpPr/>
          <p:nvPr/>
        </p:nvSpPr>
        <p:spPr>
          <a:xfrm>
            <a:off x="324000" y="287280"/>
            <a:ext cx="83404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Arial"/>
                <a:ea typeface="Arial"/>
              </a:rPr>
              <a:t>La comunicazio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Arial"/>
                <a:ea typeface="Arial"/>
              </a:rPr>
              <a:t>attraverso i nuovi medi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6"/>
          <p:cNvSpPr/>
          <p:nvPr/>
        </p:nvSpPr>
        <p:spPr>
          <a:xfrm>
            <a:off x="434880" y="1477800"/>
            <a:ext cx="82296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34880" y="1638360"/>
            <a:ext cx="82296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Qual è la «novità» dei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new med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laborano dati i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ormato digit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ossia numerico, rendendo cosi l’informazione più facilmente archiviab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ultimedi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ossia utilizzano molteplici canali sensoriali e strumenti comunicativi in forma integrata: testi scritti, suoni, immagini, anim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terattiv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L’interattività indica il grado in cui l’utente può esercitare un’influenza sul contenuto e/o sulla forma della comunicazione medi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asellaDiTesto 4"/>
          <p:cNvSpPr/>
          <p:nvPr/>
        </p:nvSpPr>
        <p:spPr>
          <a:xfrm>
            <a:off x="324000" y="28728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implicazioni sociali di intern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nettore 1 6"/>
          <p:cNvSpPr/>
          <p:nvPr/>
        </p:nvSpPr>
        <p:spPr>
          <a:xfrm>
            <a:off x="434880" y="1000080"/>
            <a:ext cx="811872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34880" y="1836720"/>
            <a:ext cx="811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Anche se tra i nuovi media rientrano diverse tecnologie – dai video games ai dvd alla telefonia mobile – la sociologia si occupa soprattutto dell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eti telematich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in particolare Internet, per l’evoluzione che esse hanno avuto da strutture finalizzate essenzialmente al calcolo 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luoghi» di socialità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 di partecipazione (dai social network alle comunità virtual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32640" y="6448320"/>
            <a:ext cx="269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4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514440" y="214200"/>
            <a:ext cx="54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</a:rPr>
              <a:t>Il divario digit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577800" y="982800"/>
            <a:ext cx="797868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06600" y="1628640"/>
            <a:ext cx="809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termin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vario digital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Digital Divid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 indica le divers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ossibilità di accesso alle tecnologie della comunicazion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paesi occidentali rispetto al resto del mondo e, all’interno dell’Occidente, degli strati istruiti e giovani rispetto a quelli con scarsi livelli di istruzione e anzia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32640" y="6448320"/>
            <a:ext cx="269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24000" y="416880"/>
            <a:ext cx="68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La società delle re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380880" y="1058760"/>
            <a:ext cx="817272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24000" y="1500120"/>
            <a:ext cx="82296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«società reticolare» 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network society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Castells 2014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appresenta una nuova fase dell’organizzazione sociale basata su strutture di comunicazione complesse, le reti appunto, flessibili e adattabili all’ambiente operativ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rganizza ormai le attività centrali della vita umana a livello globale, dai mercati finanziari alla scienza, ai movimenti sociali, agli organismi sovranazion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Comunicazione e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396720" y="276120"/>
            <a:ext cx="821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400" spc="-1" strike="noStrike">
                <a:solidFill>
                  <a:srgbClr val="404040"/>
                </a:solidFill>
                <a:latin typeface="Arial"/>
                <a:ea typeface="Arial"/>
              </a:rPr>
              <a:t>L’approccio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400" spc="-1" strike="noStrike">
                <a:solidFill>
                  <a:srgbClr val="404040"/>
                </a:solidFill>
                <a:latin typeface="Arial"/>
                <a:ea typeface="Arial"/>
              </a:rPr>
              <a:t>sociologico alla comunicazio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14778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24000" y="1685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«Comunicare» deriva dal latino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communicar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mettere in comune, composto di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cum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«insieme», e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munu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«ufficio», «dovere», «dono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etimologia richiama in maniera chiara 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arattere social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ella comunicazione, non atto isolato, ma attività che implica un legame collettivo, una condivisione e una reciproci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 differenzia dal modello matematico della comunicazione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hann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Weav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 1949), basato su una concezione fisica dell’inform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comunicazione interperson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76320"/>
            <a:ext cx="75916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34880" y="1622520"/>
            <a:ext cx="7899480" cy="35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comunicazione interpersonale avviene quotidianamente quando due o più persone interagiscono in situazioni di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ompresenza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, o faccia a fac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È attraverso la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onversazion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(il linguaggio verbale e non) che i diversi elementi della cultura di un gruppo vengono trasmessi e continuamente trasform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434880" y="338040"/>
            <a:ext cx="838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400" spc="-1" strike="noStrike">
                <a:solidFill>
                  <a:srgbClr val="404040"/>
                </a:solidFill>
                <a:latin typeface="Arial"/>
                <a:ea typeface="Arial"/>
              </a:rPr>
              <a:t>Comunicazione verbale e non verba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992160"/>
            <a:ext cx="7917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66560" y="1636560"/>
            <a:ext cx="82296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municazione verb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si intende la comunicazione che fa uso di paro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municazione non verbal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 intende la comunicazione che utilizza gesti (come il fare l’occhiolino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n entrambi i casi si usa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inguaggi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verbale o gestuale, e si usano sistemi più o meno complessi di segni che hanno un significa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comunicazione tra cul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34880" y="1476360"/>
            <a:ext cx="77947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 parla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municazione intercultur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quando la comunicazione interpersonale, faccia a faccia, avviene tra persone che appartengono 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fferenti cultur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tni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principale obiettivo dello studio della comunicazione interculturale è analizzare le incomprensioni, 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regiudizi e gli stereotipi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he si creano in questo tipo di rapporti e le strategie per superarli, così da migliorare la conoscenza reciproca e l’efficacia della comunic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425520" y="28728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comunicazione di mas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34880" y="9684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25520" y="1273320"/>
            <a:ext cx="824220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ass med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sono strumenti finalizzati a raggiungere un numero molto ampio di individui, spazialmente e temporalmente situati a grande dist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mass media s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olto differenziati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 sono sorti in periodi diversi (stampa, giornali, cinema, radio e televisi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i fa iniziare la comunicazione di massa con la cosiddett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rivoluzione di Gutenberg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che, verso la metà del 1400, introdusse 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tampa</a:t>
            </a: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 caratteri mobi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che consentì la produzione di libri su vasta sca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57120" y="28728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Teorie sociologiche dei med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24000" y="1195560"/>
            <a:ext cx="834228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   "/>
              </a:rPr>
              <a:t>Media e messaggio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</a:rPr>
              <a:t>.</a:t>
            </a:r>
            <a:r>
              <a:rPr b="0" i="1" lang="it-IT" sz="2400" spc="-1" strike="noStrike">
                <a:solidFill>
                  <a:srgbClr val="3d3d3d"/>
                </a:solidFill>
                <a:latin typeface="Arial   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</a:rPr>
              <a:t>Secondo </a:t>
            </a:r>
            <a:r>
              <a:rPr b="1" lang="it-IT" sz="2400" spc="-1" strike="noStrike">
                <a:solidFill>
                  <a:srgbClr val="3d3d3d"/>
                </a:solidFill>
                <a:latin typeface="Arial   "/>
              </a:rPr>
              <a:t>Marshall McLuhan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</a:rPr>
              <a:t> (1967) i media influenzano la società non per i contenuti trasmessi, ma per le caratteristiche del mezzo stes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   "/>
              </a:rPr>
              <a:t>La formazione della sfera pubblica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</a:rPr>
              <a:t>.</a:t>
            </a:r>
            <a:r>
              <a:rPr b="0" i="1" lang="it-IT" sz="2400" spc="-1" strike="noStrike">
                <a:solidFill>
                  <a:srgbClr val="3d3d3d"/>
                </a:solidFill>
                <a:latin typeface="Arial   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</a:rPr>
              <a:t>Secondo </a:t>
            </a:r>
            <a:r>
              <a:rPr b="1" lang="it-IT" sz="2400" spc="-1" strike="noStrike">
                <a:solidFill>
                  <a:srgbClr val="3d3d3d"/>
                </a:solidFill>
                <a:latin typeface="Arial   "/>
              </a:rPr>
              <a:t>J</a:t>
            </a:r>
            <a:r>
              <a:rPr b="1" lang="it-IT" sz="2400" spc="-1" strike="noStrike">
                <a:solidFill>
                  <a:srgbClr val="3d3d3d"/>
                </a:solidFill>
                <a:latin typeface="Arial   "/>
                <a:ea typeface="Times New Roman"/>
              </a:rPr>
              <a:t>ürgen Habermas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  <a:ea typeface="Times New Roman"/>
              </a:rPr>
              <a:t> (1995), la </a:t>
            </a:r>
            <a:r>
              <a:rPr b="0" i="1" lang="it-IT" sz="2400" spc="-1" strike="noStrike">
                <a:solidFill>
                  <a:srgbClr val="3d3d3d"/>
                </a:solidFill>
                <a:latin typeface="Arial   "/>
                <a:ea typeface="Times New Roman"/>
              </a:rPr>
              <a:t>sfera pubblica 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  <a:ea typeface="Times New Roman"/>
              </a:rPr>
              <a:t>è quello spazio della vita sociale in cui privati individui discutono di temi di interesse pubblico. Con l</a:t>
            </a:r>
            <a:r>
              <a:rPr b="0" lang="ja-JP" sz="2400" spc="-1" strike="noStrike">
                <a:solidFill>
                  <a:srgbClr val="3d3d3d"/>
                </a:solidFill>
                <a:latin typeface="Arial   "/>
                <a:ea typeface="Times New Roman"/>
              </a:rPr>
              <a:t>’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  <a:ea typeface="Times New Roman"/>
              </a:rPr>
              <a:t>industria culturale è degenerata a mero spettacolo e intratteni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3d3d3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Teorie sociologiche dei med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omunicazione e 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8"/>
          <p:cNvSpPr/>
          <p:nvPr/>
        </p:nvSpPr>
        <p:spPr>
          <a:xfrm>
            <a:off x="324000" y="1901880"/>
            <a:ext cx="834228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ts val="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1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   "/>
              </a:rPr>
              <a:t>Media e interazione sociale. 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</a:rPr>
              <a:t>Secondo </a:t>
            </a:r>
            <a:r>
              <a:rPr b="1" lang="it-IT" sz="2400" spc="-1" strike="noStrike">
                <a:solidFill>
                  <a:srgbClr val="3d3d3d"/>
                </a:solidFill>
                <a:latin typeface="Arial   "/>
              </a:rPr>
              <a:t>John Thompson </a:t>
            </a:r>
            <a:r>
              <a:rPr b="0" lang="it-IT" sz="2400" spc="-1" strike="noStrike">
                <a:solidFill>
                  <a:srgbClr val="3d3d3d"/>
                </a:solidFill>
                <a:latin typeface="Arial   "/>
              </a:rPr>
              <a:t>(1998) le persone non sono recettori passivi dei messaggi mediatici, ma questi vengono da loro continuamente interpretati e reinterpretati</a:t>
            </a:r>
            <a:r>
              <a:rPr b="1" lang="it-IT" sz="2400" spc="-1" strike="noStrike">
                <a:solidFill>
                  <a:srgbClr val="3d3d3d"/>
                </a:solidFill>
                <a:latin typeface="Arial   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2:10:56Z</dcterms:modified>
  <cp:revision>114</cp:revision>
  <dc:subject/>
  <dc:title>Le origini della civiltà greca </dc:title>
</cp:coreProperties>
</file>