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D5647-4E51-400B-9DDE-18C3C0B8872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1874E-84B6-4784-9858-E85FA47A779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02CE5-68CB-43FA-B03D-4A67CD34A0F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D987E-6BE6-40A9-A14F-256D4974D1B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E8540-03CF-42EA-BFCF-CF449F96E59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2391E-5317-477D-A09B-AD09B029A24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0ECC5-6DD5-4AC0-A515-60CD5797099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A991D-3B18-4356-A19D-EEFE7E02FF5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2F0F1-6891-446E-A08F-A9F63D0A0CF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6E9-3676-4EA8-A46B-8EEB3371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959-F357-45A6-BFB7-9EA75B6E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181-8DFF-4F1D-87D1-6B9E3D0B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E636-598F-4F5F-929A-CE07D442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877-81AD-4512-B083-6C1D94F9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756C-B85E-4E8B-A800-CB19CAEC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2BDE-3A54-4DAD-8EB1-47AD4A3C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5F3-A059-453C-BAEC-E92D27CF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754-B3B0-420A-A42C-7D396E90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470-8FAB-4F9D-A2B2-486EC8D8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C29E-149A-4FDC-9622-9CDC8E46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3E2-5D72-49EC-A605-62718A5B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C4387-0DA5-46DB-8D2E-DE62E8D52FA3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46870-8B6B-4A7C-B8CC-0BD940CE933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Cultura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e norme soci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nettore 1 6"/>
          <p:cNvSpPr/>
          <p:nvPr/>
        </p:nvSpPr>
        <p:spPr>
          <a:xfrm>
            <a:off x="434880" y="968400"/>
            <a:ext cx="80582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514440" y="1870200"/>
            <a:ext cx="79153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sono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più specifiche 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e socialmente imperative dei valor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a loro efficacia sociale dipende principalmente da forme di controllo esterno del comportamento: le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sanzi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29400" y="6448320"/>
            <a:ext cx="18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4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57360" y="450720"/>
            <a:ext cx="54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e credenz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9"/>
          <p:cNvSpPr/>
          <p:nvPr/>
        </p:nvSpPr>
        <p:spPr>
          <a:xfrm>
            <a:off x="657360" y="1092240"/>
            <a:ext cx="789624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539640" y="1762200"/>
            <a:ext cx="801396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on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roposizioni descrittive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ella realtà: stabiliscono ciò che la realtà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è (diversamente dalle norme che affermano ciò che la realtà deve essere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organizzano cognitivament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l’esperienza degli individ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asellaDiTesto 4"/>
          <p:cNvSpPr/>
          <p:nvPr/>
        </p:nvSpPr>
        <p:spPr>
          <a:xfrm>
            <a:off x="324000" y="287280"/>
            <a:ext cx="83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 simbo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nettore 1 6"/>
          <p:cNvSpPr/>
          <p:nvPr/>
        </p:nvSpPr>
        <p:spPr>
          <a:xfrm>
            <a:off x="434880" y="968400"/>
            <a:ext cx="8118720" cy="0"/>
          </a:xfrm>
          <a:prstGeom prst="line">
            <a:avLst/>
          </a:prstGeom>
          <a:ln w="648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34880" y="1704960"/>
            <a:ext cx="811872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ono segn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onvenzional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, tali in virtù di una convenzione, 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analogic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, cioè capaci di evocare una relazione tra un oggetto concreto e un’idea astratt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possiedono u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arattere intersoggettiv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i distinguono da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egnal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, che svolgono funzioni informative e da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march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, che hanno funzioni di riconosci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5310360" y="629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29400" y="6448320"/>
            <a:ext cx="18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24000" y="233640"/>
            <a:ext cx="8229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3d3d3d"/>
                </a:solidFill>
                <a:latin typeface="Arial"/>
              </a:rPr>
              <a:t>Il pluralismo cultural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3d3d3d"/>
                </a:solidFill>
                <a:latin typeface="Arial"/>
              </a:rPr>
              <a:t>delle società contemporane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324000" y="1368000"/>
            <a:ext cx="8229600" cy="2556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24000" y="1617840"/>
            <a:ext cx="822960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ndic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esistenza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diversi sistemi simbolic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solo scarsamente correlati tra lor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rescita del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diversificazione intern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e di potenzial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nflitt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cultural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aumento della libertà di scelta dell’individuo, per cui egli è portato ad assumere un atteggiament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iflessi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5191200" y="6359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29400" y="6448320"/>
            <a:ext cx="18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04720" y="299880"/>
            <a:ext cx="7554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Cultura alta, popolare e di mass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520560" y="1030320"/>
            <a:ext cx="803916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30120" y="1778040"/>
            <a:ext cx="82296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ultura alt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è quella prodotta da un’élite sociale (arte, letteratura, musi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ultura popolar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è quella prodotta dai ceti subalterni (prodotti e consumi tradizionali, folklor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ultura di mass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è la cultura popolare prodotta dalle tecniche industriali di produzione di mas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30000"/>
              </a:lnSpc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224320" y="635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29400" y="6448320"/>
            <a:ext cx="18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559800" y="18108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Subcul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558720" y="853920"/>
            <a:ext cx="790740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558720" y="1270080"/>
            <a:ext cx="7907400" cy="47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e subculture sono culture di gruppo subordinate alla cultura della società più amp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Due scu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cuola di Chicag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studia le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subculture delinquenti o deviant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viste come soluzioni innovative di gruppo al problema dell’adattamento soci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cuola di Birmingham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studia le subculture giovanili «spettacolari», di cui si mette in luce il carattere di antagonismo simbol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954600" y="6375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29400" y="6448320"/>
            <a:ext cx="18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09400" y="281160"/>
            <a:ext cx="77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a coscienza di classe secondo Karl Ma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541440" y="922320"/>
            <a:ext cx="827712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539640" y="1562040"/>
            <a:ext cx="807732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Marx parla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scienza di class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e distingue tr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«classe in sé»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indica l’insieme delle condizioni oggettive che definiscono una data clas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«classe per sé»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indica la coscienza soggettiva che questa classe possie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191200" y="6410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9400" y="6448320"/>
            <a:ext cx="18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24000" y="2592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e tre forme di capita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secondo Pierre Bourdi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324000" y="1389240"/>
            <a:ext cx="822960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324000" y="1925640"/>
            <a:ext cx="7994520" cy="35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apitale economic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risorse material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apitale soci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reti di relazion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apitale cultur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istruzione a scuola, educazione in famigl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Gusto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me segno di distinzione di clas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5970600" y="6359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29400" y="6448320"/>
            <a:ext cx="18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63040" y="333360"/>
            <a:ext cx="45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Cultura e generazio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546120" y="974880"/>
            <a:ext cx="780408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542880" y="1558800"/>
            <a:ext cx="77281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ts val="0"/>
              </a:lnSpc>
              <a:spcBef>
                <a:spcPts val="601"/>
              </a:spcBef>
              <a:buClr>
                <a:srgbClr val="3d3d3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Karl Mannheim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 (1928) definisce la generazione come «un’unità temporale storicamente costruita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Generazioni in questo senso sono state la Beat Generation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,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a cultura hippie e la generazione del Sessantot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29400" y="6446880"/>
            <a:ext cx="18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02640" y="281160"/>
            <a:ext cx="33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Sesso e gen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601560" y="922320"/>
            <a:ext cx="795204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601560" y="1805040"/>
            <a:ext cx="79520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econdo le scienze sociali (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gender studies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l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esso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ndica i caratteri ascritti biologicamen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l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genere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egnala l’insieme dei comportamenti e atteggiamenti che una cultura giudica appropriati agli uomini e alle don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427500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La cul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29400" y="6446880"/>
            <a:ext cx="18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605880" y="349200"/>
            <a:ext cx="41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Stereotipi di gen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371520" y="1022400"/>
            <a:ext cx="822960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324000" y="1668600"/>
            <a:ext cx="822960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tereotip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sono rappresentazioni semplificate della realtà che vengono associate, senza distinzioni né verifiche, a un intero gruppo di perso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tereotipi di gener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attribuiscono alle donne caratteri rigidamente precostituiti e generalizzati (es.: emotività, sensibilità alle relazioni, remissività, scarsa competitività), indirizzando le loro aspirazioni di carriera e di vi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03040" y="192600"/>
            <a:ext cx="875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Trasformazione delle norme e dei valori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39560" y="1020600"/>
            <a:ext cx="822960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n la società moderna si sono affermate 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nfigurazioni normat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azionalismo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.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ragione, intesa come la capacita di valersi autonomamente del proprio intelletto, viene ritenuta una facoltà universale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Weber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ndividualism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 L’individualismo mette al centro l’individuo in quanto essere dotato di autonomia e di liberta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Durkheim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immel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Disciplinament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 Comporta un crescente autocontrollo interiore dei propri impulsi, in particolare quelli più aggressivi, e un «innalzamento delle soglie della ripugnanza e del pudore»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Elias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203040" y="819000"/>
            <a:ext cx="846612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041560" y="63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29400" y="6446880"/>
            <a:ext cx="18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4"/>
          <p:cNvSpPr/>
          <p:nvPr/>
        </p:nvSpPr>
        <p:spPr>
          <a:xfrm>
            <a:off x="434880" y="287280"/>
            <a:ext cx="76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Due concezioni della cultu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6"/>
          <p:cNvSpPr/>
          <p:nvPr/>
        </p:nvSpPr>
        <p:spPr>
          <a:xfrm>
            <a:off x="434880" y="928800"/>
            <a:ext cx="81536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434880" y="1697040"/>
            <a:ext cx="8153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oncezione umanistica o classic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: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ultura come ideale di formazione individuale, attività che consente di «coltivare» l’animo umano (dal verbo latino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oler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oncezione antropologica o modern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: cultura come insieme complesso, composto da credenze e costumi delle popolazioni del mondo (non riguarda soltanto l’individuo, ma anche la collettività in cui è inserit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4"/>
          <p:cNvSpPr/>
          <p:nvPr/>
        </p:nvSpPr>
        <p:spPr>
          <a:xfrm>
            <a:off x="324000" y="287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’approccio sociologico alla cultu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6"/>
          <p:cNvSpPr/>
          <p:nvPr/>
        </p:nvSpPr>
        <p:spPr>
          <a:xfrm>
            <a:off x="434880" y="928800"/>
            <a:ext cx="79628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514440" y="1454040"/>
            <a:ext cx="811836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a cultura è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appresa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a cultura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orienta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il comportamento degli esseri umani e dà un senso alle loro azio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Rapporto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reciproco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tra cultura e società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a cultura è internamente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differenziata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a cultura ha un carattere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innovativo</a:t>
            </a:r>
            <a:r>
              <a:rPr b="0" i="1" lang="en-US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4"/>
          <p:cNvSpPr/>
          <p:nvPr/>
        </p:nvSpPr>
        <p:spPr>
          <a:xfrm>
            <a:off x="434880" y="287280"/>
            <a:ext cx="79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Definizione di cultu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nettore 1 6"/>
          <p:cNvSpPr/>
          <p:nvPr/>
        </p:nvSpPr>
        <p:spPr>
          <a:xfrm>
            <a:off x="434880" y="928800"/>
            <a:ext cx="79898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34880" y="1800360"/>
            <a:ext cx="798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a cultura è un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insieme complesso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di proposizioni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descrittiv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(credenze),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normative 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(valori, norme) e di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simboli espressivi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che riguardano la natura, gli esseri umani e la società, incorporati in configurazioni interconnesse e con un grado variabile di coere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Modelli teori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nettore 1 6"/>
          <p:cNvSpPr/>
          <p:nvPr/>
        </p:nvSpPr>
        <p:spPr>
          <a:xfrm>
            <a:off x="434880" y="968400"/>
            <a:ext cx="8169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34880" y="1539720"/>
            <a:ext cx="7947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Funzionalist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focus sulla funzione di integrazione sociale della cultura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alinowsk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;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Durkheim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ausalist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focus sui fattori sociali o psichici che plasmano la cultura e sfuggono alla coscienza degli individui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arx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;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aret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nterazionist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focus sull’interazione comunicativa tra gli individui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Becker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;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Blumer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Modelli teori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nettore 1 6"/>
          <p:cNvSpPr/>
          <p:nvPr/>
        </p:nvSpPr>
        <p:spPr>
          <a:xfrm>
            <a:off x="434880" y="968400"/>
            <a:ext cx="8118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434880" y="1587600"/>
            <a:ext cx="811872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trument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focus su costi e benefici derivanti da norme, valori, rituali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Obershall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trutturalist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focus sulle strutture interne che organizzano la cultura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Lévy-Strauss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;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lexander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Gli elementi della cultu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ttore 1 6"/>
          <p:cNvSpPr/>
          <p:nvPr/>
        </p:nvSpPr>
        <p:spPr>
          <a:xfrm>
            <a:off x="434880" y="968400"/>
            <a:ext cx="79628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82760" y="1900080"/>
            <a:ext cx="582588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Val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ts val="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Nor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ts val="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Creden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ts val="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Simb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asellaDiTesto 4"/>
          <p:cNvSpPr/>
          <p:nvPr/>
        </p:nvSpPr>
        <p:spPr>
          <a:xfrm>
            <a:off x="434880" y="28728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 valo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nettore 1 6"/>
          <p:cNvSpPr/>
          <p:nvPr/>
        </p:nvSpPr>
        <p:spPr>
          <a:xfrm>
            <a:off x="434880" y="968400"/>
            <a:ext cx="5399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cultu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8"/>
          <p:cNvSpPr/>
          <p:nvPr/>
        </p:nvSpPr>
        <p:spPr>
          <a:xfrm>
            <a:off x="434880" y="1770120"/>
            <a:ext cx="74898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ndican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iò che è desiderabi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comportano cioè un dover esser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loro efficacia sociale dipende dall’operare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entimenti interiorizzat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varian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storicamente e geografic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3T21:50:06Z</dcterms:modified>
  <cp:revision>126</cp:revision>
  <dc:subject/>
  <dc:title>Le origini della civiltà greca </dc:title>
</cp:coreProperties>
</file>