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DE690-F0BB-4984-8754-4051F9EE4F3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903E0-7A97-4773-95C9-BC88E6728E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00BF2-4FF2-48E9-9E89-6C9FEC7A02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5C650-9E21-4603-B204-A29C10456D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41C2A-EEBC-4E90-A47C-EE27A52ABE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FD7-A702-48B9-ACBD-AA181427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F6A-A58E-4C8B-9652-8BAC3C93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95C-DAF0-4AAE-8D3B-8CB9DE04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20F-2DD4-4B14-AFDC-75DA6211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355-6E96-4748-8521-ECBB5EFF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0F7-42B9-47C3-B08F-BCCE5010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E21-F0BF-432E-82BB-BAAB768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A53-D5C8-44A6-B499-918A1E9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957-57AD-4EAD-939D-A215FE1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A1D-DE99-438D-B778-1BBF5D1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8AB-6D21-416C-A9F7-43F6867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7E7-75C3-4793-BB65-301BE5A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DDDAD-A133-4E70-BF59-1122414DDE19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15DCD-D9C9-4073-82F9-9B67A973590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Individu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30840" y="6448320"/>
            <a:ext cx="20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720" y="333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grande trasform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7"/>
          <p:cNvSpPr/>
          <p:nvPr/>
        </p:nvSpPr>
        <p:spPr>
          <a:xfrm>
            <a:off x="371520" y="1022400"/>
            <a:ext cx="818208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24000" y="1501920"/>
            <a:ext cx="8229600" cy="32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gli ultimi trent’anni del secolo scorso avvengono trasformazioni profonde connotate 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ottur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e trasformazioni dei modelli familiari, sono talmente radicali da far pensare a una vera e propria discontinuità con la storia precedent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vergenz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queste trasformazioni manifestano tendenze analoghe in tutta l’Europa occidentale.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0840" y="6446880"/>
            <a:ext cx="20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43160" y="26496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lcuni cambiamenti di fon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490680" y="1001880"/>
            <a:ext cx="79992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90680" y="1776240"/>
            <a:ext cx="80629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Possiamo individuare alcune importanti trasformazioni della famiglia moder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alo dei matrim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aumento delle famiglie di fat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rescita dei nati fuori dal matrimo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nstabilità coniug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30840" y="6446880"/>
            <a:ext cx="20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0240" y="34920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Modelli emergenti di famig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24000" y="990720"/>
            <a:ext cx="80899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90600" y="1697040"/>
            <a:ext cx="749916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a questa situazione altamente instabile si generano strutture familiari sempre più comples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famigli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icostitu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famigli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nogeni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famigli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lunga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98628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a famig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322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istinzione tra famiglia e parent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76320"/>
            <a:ext cx="81057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34880" y="1620720"/>
            <a:ext cx="73152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famiglia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mprende un insieme di persone legate da legami di sangue, matrimonio o adozione, di cura e di sostegno economico, che vivono sotto lo stesso tet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arentela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mprende tutte le persone legate da consanguineità, matrimonio, adozione, anche se non coabita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famiglia poliga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625320" y="1643040"/>
            <a:ext cx="7480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È definit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oligamica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famiglia in cui una persona può essere sposata con più partn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i distingue  in due tip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oliginic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quando il matrimonio è contratto da un uomo con più donn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oliandrica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quando è la donna ad essere sposata con più uomi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famiglia monoga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28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24000" y="1420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definit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nogamic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famiglia in cui una persona sposa un solo partner. Si distingue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sidenza </a:t>
            </a: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matrilocal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quando la coppia appena sposata va a vivere con i genitori della mogl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sidenza </a:t>
            </a: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patriloc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quando è la moglie a trasferirsi presso i genitori del ma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sidenza </a:t>
            </a: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neoloc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quando la coppia va ad abitare in un luogo diverso da quello dei genitori di entrambi i coniugi. Poco diffusa a livello mondiale, è oggi dominante nei paesi occident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Famiglia multipla, nucleare, este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 flipV="1">
            <a:off x="434880" y="928800"/>
            <a:ext cx="8118720" cy="396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473120"/>
            <a:ext cx="82296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amiglia multipl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è composta da almeno due unità coniug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amiglia nuclear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composta dai due coniugi e dai loro figli. È il modello prevalente nelle società occidentali moder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amiglia estes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aggiunge al nucleo dei due sposi con figli uno o due parenti che vivono con loro (un fratello o sorella, il padre o la madre di uno dei coniug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truttura della famiglia mode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100008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603360" y="1566720"/>
            <a:ext cx="78739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famiglie estese e multiple sono sempre state minoritarie nell’Europa moderna, dalla fine del 1500 al 1800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aslett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197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i paesi nord europei, in particolare in Inghilterra, è stata dominante la famiglia nucleare ben prima che si affermasse la società industriale moderna, diversamente da quanto sostenuto dalla sociologia class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5460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30840" y="6448320"/>
            <a:ext cx="20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15880" y="281160"/>
            <a:ext cx="74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asformazioni del matrimoni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e del rapporto di cop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15880" y="1386000"/>
            <a:ext cx="80377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324000" y="1577880"/>
            <a:ext cx="82296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assaggio da un sistem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trimonio combinat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ai genitori a uno basato su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ibera scel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i coniu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afferma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trimonio basato sull’amo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tra i partner e si diffonde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nuova intim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he favorisce il rispetto recipro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attenua la tradiziona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simmetria di pote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fra marito e moglie.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19120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30840" y="6448320"/>
            <a:ext cx="20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famigl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24000" y="35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rasformazion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el rapporto tra genitori e fig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92120" y="2103480"/>
            <a:ext cx="79376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a il XVIII e il XIX secolo le relazioni tra genitori e figli diveng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eno form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più affettuose; ai figli vengono dedicati più tempo e maggiore attenzione da parte dei genitor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radualmente entra i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ris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dello patriarc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basato su una rigida gerarchia dei ruoli e sull’autorità indiscussa del capofamigl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24000" y="1557360"/>
            <a:ext cx="810576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1:19:52Z</dcterms:modified>
  <cp:revision>103</cp:revision>
  <dc:subject/>
  <dc:title>Le origini della civiltà greca </dc:title>
</cp:coreProperties>
</file>