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396D5-62D3-443F-9AD5-4138EE8F5D8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D18A5-FC43-45E9-A2EF-240B95D0237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DC400-A28E-4369-AAFF-54E459E7C57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AA10E-FFFF-488F-AD47-A5823FB5A14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47B32-9557-4235-8888-7C11B79AD98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743FA-D39B-4E54-AA88-B4257C21BA1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92FC7-0563-4C64-884E-B70C22C5119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EF8C9-96F1-4B87-A356-7C7A49CAE48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6DC-B6F3-4BFC-B38E-0DEAE520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821-54AE-481D-B38B-91AC3452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5C8-3A3A-4E88-8A34-97523A71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32F-A983-493B-A7CE-F5699A04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662-808E-4827-9DAA-F0FECF51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68C-DE6D-43C3-AB28-5F5445EF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797-0471-4B5B-93CB-4D9D19FC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718-2097-4918-B09E-CAF1241E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657-8F9E-48E8-A0C6-A98DDB40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BA3-CB3B-4996-8873-4F8BC642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1C6-DEAD-4835-9211-1C51B4BA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0AE-9D1A-4FAF-B31D-D016E6DA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8D5B2-48EC-4E18-A345-7DAF5AFAABC4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32CEC-A855-4683-B653-242C28A0583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Individuo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asellaDiTesto 4"/>
          <p:cNvSpPr/>
          <p:nvPr/>
        </p:nvSpPr>
        <p:spPr>
          <a:xfrm>
            <a:off x="324000" y="287280"/>
            <a:ext cx="83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costruzione sociale dell’identit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nettore 1 6"/>
          <p:cNvSpPr/>
          <p:nvPr/>
        </p:nvSpPr>
        <p:spPr>
          <a:xfrm>
            <a:off x="434880" y="968400"/>
            <a:ext cx="8118720" cy="0"/>
          </a:xfrm>
          <a:prstGeom prst="line">
            <a:avLst/>
          </a:prstGeom>
          <a:ln w="648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ocializzazione, identità e devianz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24000" y="1523880"/>
            <a:ext cx="822960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1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er i sociologi l’identità non è un’essenza o una sostanza interiore innata che il soggetto «scopre» isolatamente attraverso un atto introspettiv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ts val="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1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Essa, al contrario,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i forma nell’interazione con gli altr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attraverso un reciproco riconosci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5310360" y="629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34080" y="6448320"/>
            <a:ext cx="34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ocializzazione, identità e devianz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24000" y="416880"/>
            <a:ext cx="68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La devianz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8"/>
          <p:cNvSpPr/>
          <p:nvPr/>
        </p:nvSpPr>
        <p:spPr>
          <a:xfrm>
            <a:off x="324000" y="1150920"/>
            <a:ext cx="818496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555480" y="1798560"/>
            <a:ext cx="774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devianza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è un comportamento, di una persona o di un gruppo, che viola le norme di una data collettività, siano esse formali (es.: commettere un furto) o informali (es.: non rispondere al salut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5191200" y="6359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34080" y="6448320"/>
            <a:ext cx="34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ocializzazione, identità e devianz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569520" y="299880"/>
            <a:ext cx="51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</a:rPr>
              <a:t>Relatività della devianz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539640" y="988920"/>
            <a:ext cx="8167680" cy="2700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Rectangle 9"/>
          <p:cNvGrpSpPr/>
          <p:nvPr/>
        </p:nvGrpSpPr>
        <p:grpSpPr>
          <a:xfrm>
            <a:off x="523800" y="1347840"/>
            <a:ext cx="7937640" cy="2114640"/>
            <a:chOff x="523800" y="1347840"/>
            <a:chExt cx="7937640" cy="2114640"/>
          </a:xfrm>
        </p:grpSpPr>
        <p:pic>
          <p:nvPicPr>
            <p:cNvPr id="106" name="Rectangle 9" descr=""/>
            <p:cNvPicPr/>
            <p:nvPr/>
          </p:nvPicPr>
          <p:blipFill>
            <a:blip r:embed="rId1"/>
            <a:stretch/>
          </p:blipFill>
          <p:spPr>
            <a:xfrm>
              <a:off x="523800" y="1347840"/>
              <a:ext cx="79376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39640" y="1367280"/>
              <a:ext cx="7905960" cy="20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d3d3d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d3d3d"/>
                  </a:solidFill>
                  <a:latin typeface="Arial"/>
                </a:rPr>
                <a:t>Non è una qualità inerente a un atto, ma un’attribuzione soggettiva da parte di una collettività e di una cultura (es.: poligamia)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224320" y="635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34080" y="6448320"/>
            <a:ext cx="34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ocializzazione, identità e devianz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52880" y="387360"/>
            <a:ext cx="56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Spiegazioni della devianz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495360" y="1108080"/>
            <a:ext cx="796608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581040" y="1865160"/>
            <a:ext cx="706896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eoria funzionali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eoria dell’a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eoria della tens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eoria interazioni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954600" y="6375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34080" y="6448320"/>
            <a:ext cx="34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ocializzazione, identità e devianz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30120" y="281160"/>
            <a:ext cx="82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</a:rPr>
              <a:t>Teoria funzionalista e teoria dell’anom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324000" y="1017720"/>
            <a:ext cx="827712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71520" y="1958760"/>
            <a:ext cx="82296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eoria funzionalist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mette in luce le funzioni positive della devianza (es.: rafforza la coscienza collettiv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eoria dell’anomia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Durkheim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: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dentifica come causa della devianza l’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anomi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ossia la mancanza di regolamentazione normativa (es.: il «suicidio anomico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5191200" y="6410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34080" y="6448320"/>
            <a:ext cx="34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ocializzazione, identità e devianz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4000" y="280440"/>
            <a:ext cx="63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Teoria della tensione (Mert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517680" y="960480"/>
            <a:ext cx="795960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05040" y="1619280"/>
          <a:ext cx="7127640" cy="3720960"/>
        </p:xfrm>
        <a:graphic>
          <a:graphicData uri="http://schemas.openxmlformats.org/drawingml/2006/table">
            <a:tbl>
              <a:tblPr/>
              <a:tblGrid>
                <a:gridCol w="1780920"/>
                <a:gridCol w="1782720"/>
                <a:gridCol w="1781280"/>
                <a:gridCol w="1782720"/>
              </a:tblGrid>
              <a:tr h="97596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3840"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ZZ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orm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tual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nov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nuncia 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bell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5970600" y="6359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34080" y="6448320"/>
            <a:ext cx="34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ocializzazione, identità e devianz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24000" y="333360"/>
            <a:ext cx="43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Teorie interazionis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324000" y="1006560"/>
            <a:ext cx="803592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87520" y="1340640"/>
            <a:ext cx="7772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ono elaborate nell’ambito della Scuola di Chica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eoria della subcultur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 la devianza, allo stesso modo della conformità, è dovuta a un processo di apprendimento  entro uno specifico contesto di interazione sociale (es.: subculture criminali e  bande giovanil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eoria dell’etichettament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sono le stesse istituzioni preposte al controllo che, attribuendo il «marchio» di deviante, di fatto lo creano (es.: folli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3697200"/>
            <a:ext cx="520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Socializzazione, identit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e devia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4"/>
          <p:cNvSpPr/>
          <p:nvPr/>
        </p:nvSpPr>
        <p:spPr>
          <a:xfrm>
            <a:off x="434880" y="287280"/>
            <a:ext cx="76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socializz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6"/>
          <p:cNvSpPr/>
          <p:nvPr/>
        </p:nvSpPr>
        <p:spPr>
          <a:xfrm>
            <a:off x="434880" y="928800"/>
            <a:ext cx="8118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ocializzazione, identità e devianz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324000" y="1128600"/>
            <a:ext cx="822960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ocializzazion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è quel processo attraverso il quale l’individuo diventa un essere pienamente sociale e si integra, in modo più o meno completo, in un gruppo o in una comunità più amp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Essa compren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un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trasmissione intergenerazion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, dalla generazione adulta a quella più giovane, che opera attraverso istituzioni specifiche (scuola, famiglia ecc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un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formazione personale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he trasforma l’individuo in un essere morale, con una propria, specifica, identità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4"/>
          <p:cNvSpPr/>
          <p:nvPr/>
        </p:nvSpPr>
        <p:spPr>
          <a:xfrm>
            <a:off x="324000" y="28728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Due prospettive teori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6"/>
          <p:cNvSpPr/>
          <p:nvPr/>
        </p:nvSpPr>
        <p:spPr>
          <a:xfrm>
            <a:off x="434880" y="928800"/>
            <a:ext cx="79470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ocializzazione, identità e devianz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324000" y="1655640"/>
            <a:ext cx="8294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Modello del condizionament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: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la socializzazione è intesa come un processo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top-down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, in cui i soggetti apprendono in maniera piuttosto passiva i valori sociali condivisi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Parsons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Modello dell’interazion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: la socializzazione è vista come un processo di adattamento e apprendimento attivo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Mead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4"/>
          <p:cNvSpPr/>
          <p:nvPr/>
        </p:nvSpPr>
        <p:spPr>
          <a:xfrm>
            <a:off x="434880" y="287280"/>
            <a:ext cx="798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Due tappe del process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di socializzazione (Mea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nettore 1 6"/>
          <p:cNvSpPr/>
          <p:nvPr/>
        </p:nvSpPr>
        <p:spPr>
          <a:xfrm>
            <a:off x="434880" y="1477800"/>
            <a:ext cx="79898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ocializzazione, identità e devianz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24000" y="1687680"/>
            <a:ext cx="8597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George Herbert Mead distingue tr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l gioco puro e semplic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 Il bambino quando comincia a giocare assume i vari ruoli che osserva nel mondo adulto, in un primo tempo apprendendoli da «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ltri significativ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», come i genitori o i fratelli/sorel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ts val="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l gioco organizzato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.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l ragazzo impara il gioco di squadra, in cui deve assumere il ruolo di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tutti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gli altri partecipanti al gioco. In questa fase impara ad agire in gruppo e ad assumere l’atteggiamento dell’«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ltro generalizzat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», che coincide con l’«atteggiamento dell’intera comunità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e agenzie di socializz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nettore 1 6"/>
          <p:cNvSpPr/>
          <p:nvPr/>
        </p:nvSpPr>
        <p:spPr>
          <a:xfrm>
            <a:off x="434880" y="968400"/>
            <a:ext cx="8118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ocializzazione, identità e devianz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24000" y="1749600"/>
            <a:ext cx="822960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Sono istituzioni specificamente, anche se non esclusivamente, dedicate alla socializz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Tipiche delle società industriali moderne e dovute alla crescita della differenziazione soci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e principali sono: la famiglia, la scuola, il gruppo dei pari e i med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sellaDiTesto 4"/>
          <p:cNvSpPr/>
          <p:nvPr/>
        </p:nvSpPr>
        <p:spPr>
          <a:xfrm>
            <a:off x="322200" y="287280"/>
            <a:ext cx="78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Socializzazione primaria e secondar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nettore 1 6"/>
          <p:cNvSpPr/>
          <p:nvPr/>
        </p:nvSpPr>
        <p:spPr>
          <a:xfrm>
            <a:off x="455760" y="928800"/>
            <a:ext cx="80978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ocializzazione, identità e devianz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24000" y="1179360"/>
            <a:ext cx="84470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econdo Peter L.Berger e Thomas Luckmann (1966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ocializzazione primari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avviene durante l’infanzia, principalmente in famiglia, ed è carica di componenti emotive. In essa il bambino apprende l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mponenti cognitive di bas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ocializzazione secondari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inizia con l’ingresso nel mondo della scuola e in quello del lavoro, è molto meno connotata emotivamente della fase precedente. In essa l’individuo acquisisc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noscenze legate a specifici ruol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’identità person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ttore 1 6"/>
          <p:cNvSpPr/>
          <p:nvPr/>
        </p:nvSpPr>
        <p:spPr>
          <a:xfrm>
            <a:off x="434880" y="968400"/>
            <a:ext cx="7915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ocializzazione, identità e devianz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434880" y="1978200"/>
            <a:ext cx="791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</a:t>
            </a:r>
            <a:r>
              <a:rPr b="0" lang="ja-JP" sz="2400" spc="-1" strike="noStrike">
                <a:solidFill>
                  <a:srgbClr val="3d3d3d"/>
                </a:solidFill>
                <a:latin typeface="Arial"/>
              </a:rPr>
              <a:t>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dentità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esigna la capacità autoriflessiva di un individuo, di essere – come diceva George H. Mead – ad un tempo soggetto e oggetto di se stesso, di percepire la propria continuità e coerenza spazio-temporale in rapporto ad altri che lo riconosco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 due volti dell</a:t>
            </a:r>
            <a:r>
              <a:rPr b="0" lang="ja-JP" sz="36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dentit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nettore 1 6"/>
          <p:cNvSpPr/>
          <p:nvPr/>
        </p:nvSpPr>
        <p:spPr>
          <a:xfrm>
            <a:off x="434880" y="968400"/>
            <a:ext cx="8042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ocializzazione, identità e devianz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603360" y="1373040"/>
            <a:ext cx="7731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Goffman distingue tr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dentità per l’altr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come gli altri ci collocano e ci definiscono in base a categorie soci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dentità per sé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entimento più soggettivo, attraverso il quale ci riconosciamo come un certo tipo di perso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Tra questi due aspetti si possono verificar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quilibri e incongruenze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3T20:59:34Z</dcterms:modified>
  <cp:revision>117</cp:revision>
  <dc:subject/>
  <dc:title>Le origini della civiltà greca </dc:title>
</cp:coreProperties>
</file>