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31F13-9B3E-4C72-B475-10BEE9DAEED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86546-633A-4289-8BCB-37E52BCC444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05AA8-C7DF-4586-98C7-BDF3EC82899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73C2D-2604-4682-B3EF-988125779B2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7C457-1B37-4BE8-9979-2874292FC33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5BBA7-B9E3-46D2-BB0E-C055A623C82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652-CF61-4028-970C-FB8942D3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FE9-10A4-41D8-AD0A-05ED9D6E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8BF-D24C-432A-B18A-7AC18E62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15C-B59A-4B00-8079-1F5E1F14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023-AD4F-410E-A81A-FD07B026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B11-1978-4464-B03A-904BD3B6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830-B264-4DE2-8E83-E0374A14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0C0-523E-49D8-926D-27ECE3ED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E78-A113-4FA7-AD2B-940FCF1A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592-0B97-47EC-8057-B21AA1EF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01D-7296-4CEA-8A6E-4CF71E0A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280-2CF2-4EF5-88D0-1E436DED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FF4A6-28A7-4C20-BB5F-213A6C1F186C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98237-ADD5-425E-AE9C-A10B1ABE714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Individuo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398628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Le organizzazio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434880" y="287280"/>
            <a:ext cx="76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Caratteri delle organizzazio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6"/>
          <p:cNvSpPr/>
          <p:nvPr/>
        </p:nvSpPr>
        <p:spPr>
          <a:xfrm>
            <a:off x="434880" y="928800"/>
            <a:ext cx="79470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organizzazio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387360" y="1292400"/>
            <a:ext cx="8229600" cy="34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Enti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 formalmente riconosciu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nternamente strutturati in manier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mpless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apaci di agire com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ttori collettiv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per il raggiungimento di obiettivi comu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324000" y="28728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Due forme di organizz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6"/>
          <p:cNvSpPr/>
          <p:nvPr/>
        </p:nvSpPr>
        <p:spPr>
          <a:xfrm>
            <a:off x="434880" y="928800"/>
            <a:ext cx="8118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organizzazio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324000" y="1860480"/>
            <a:ext cx="82296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Tra le forme di organizzazione ve ne sono d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particolarmente important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e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associazioni volontari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e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organizzazioni burocrati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4"/>
          <p:cNvSpPr/>
          <p:nvPr/>
        </p:nvSpPr>
        <p:spPr>
          <a:xfrm>
            <a:off x="434880" y="287280"/>
            <a:ext cx="79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e associazioni volontar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nettore 1 6"/>
          <p:cNvSpPr/>
          <p:nvPr/>
        </p:nvSpPr>
        <p:spPr>
          <a:xfrm>
            <a:off x="434880" y="928800"/>
            <a:ext cx="79898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organizzazio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92120" y="1535760"/>
            <a:ext cx="793260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Tre caratteristich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’appartenenza  non è obbligatoria né acquisita per nascita, ma vi si aderisce per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ibera scel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Viene costituita per promuovere gl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interessi comun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dei suoi membr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Non è connessa con istituzioni governative locali, statali, o federali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e organizzazioni burocrati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nettore 1 6"/>
          <p:cNvSpPr/>
          <p:nvPr/>
        </p:nvSpPr>
        <p:spPr>
          <a:xfrm>
            <a:off x="434880" y="968400"/>
            <a:ext cx="8118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organizzazio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24000" y="1890720"/>
            <a:ext cx="83437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aratteristiche fondamental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I loro fini non son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tabilit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dai membri dell’organizz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Hanno un carattere più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durevo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 caratteri della burocrazi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organizzazio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24000" y="1077120"/>
            <a:ext cx="8229600" cy="59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Burocrazi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parola che nasce dall’unione del francese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bureau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ufficio, e dal greco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kratos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otere, ossia «potere dei funzionari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ei caratteristiche secondo Web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ivisione dei compi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gerarchia degli uff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ufficio pubbl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pecializz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emunerazione in dena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egole gener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sellaDiTesto 4"/>
          <p:cNvSpPr/>
          <p:nvPr/>
        </p:nvSpPr>
        <p:spPr>
          <a:xfrm>
            <a:off x="324000" y="287280"/>
            <a:ext cx="834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Due spiegazioni delle disfunzion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della burocraz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ttore 1 6"/>
          <p:cNvSpPr/>
          <p:nvPr/>
        </p:nvSpPr>
        <p:spPr>
          <a:xfrm>
            <a:off x="455760" y="1477800"/>
            <a:ext cx="8097840" cy="0"/>
          </a:xfrm>
          <a:prstGeom prst="line">
            <a:avLst/>
          </a:prstGeom>
          <a:ln w="648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organizzazio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24000" y="2104920"/>
            <a:ext cx="82296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l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formalismo burocratico (Merton)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l’adesione scrupolosa a regole e procedure come mezzo per raggiungere determinati obiettivi diventa fine a se stesso, generando rigidità e mancanza di inizia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Le relazioni di potere (Crozier)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gli spazi di incertezza nel funzionamento effettivo delle organizzazioni si trasformano in margini di autonomia e strumenti di potere per chi li controlla, siano essi singoli soggetti o grupp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30840" y="6448320"/>
            <a:ext cx="24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organizzazio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276120" y="214200"/>
            <a:ext cx="882036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Tre prospetti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sulle Organizzazioni (Scot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9"/>
          <p:cNvSpPr/>
          <p:nvPr/>
        </p:nvSpPr>
        <p:spPr>
          <a:xfrm>
            <a:off x="324000" y="1424160"/>
            <a:ext cx="824868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276120" y="1552680"/>
            <a:ext cx="858204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Organizzazione com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istema razion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il sistema è strutturato in modo da realizzare i fini predeterminati con il massimo di efficie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Organizzazione com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istema natur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è un gruppo sociale che cerca di sopravvivere in circostanze particolar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Organizzazione come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 sistema apert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è una combinazione di parti tra loro interdipendenti che si automantiene sulla base di un passaggio di risorse dall’ambiente all’organizzazione e viceversa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3T22:37:06Z</dcterms:modified>
  <cp:revision>104</cp:revision>
  <dc:subject/>
  <dc:title>Le origini della civiltà greca </dc:title>
</cp:coreProperties>
</file>