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035FE-5E7B-4599-B1B2-F3DB6FD304F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2238E-06A0-422D-A47C-68C10A8B71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2C4B6-F581-48D8-93BF-725DA5EE81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40410-33A2-4F73-AA32-378CABD29C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3EC34-E57C-40DC-9280-7ECE7AB3C21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01BC5-9A9E-4A7B-8A1A-13BDBA5E4B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33FA7-F011-4993-9D4D-EC3324B8A93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3FF-CA35-4849-9ADB-DBCE526D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6B2-D1B9-43BB-966C-14685FC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298-92ED-4021-A512-8A224C01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864-7F16-4692-9152-9CF82F46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C24-CAD1-4F5A-A1D4-115F504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281-D6B2-4D36-92DB-6D01422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1AE-DACC-4425-9453-9D5FBC8F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409-8D62-4C5B-8843-D9F5F83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9D3-0AAD-4C01-AB7F-DD2190A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9C8-6378-4FBD-A611-F0A0111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B1E-4C5B-49C7-AABE-2BDA5E0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63B-BD80-4F28-8419-02887C3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17E10-02DB-471C-B0EE-86BC21B17864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84319-72A2-4D87-B102-0E335FCC8FB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Individuo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398628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Le istitu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oncetto di istitu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28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34880" y="1922760"/>
            <a:ext cx="78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Con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istituzione</a:t>
            </a:r>
            <a:r>
              <a:rPr b="0" i="1" lang="en-US" sz="24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n sociologia si intende un insieme di regole di comportamento fornito di stabilità e sistematicità, caratteristico di una data comunità sociale (es.: matrimonio, sistema educativ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e istituzioni tot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434880" y="928800"/>
            <a:ext cx="79599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71520" y="1755720"/>
            <a:ext cx="775656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econd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Goffman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(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Asylums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1961) son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regimi chius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isolati dal mondo sociale esterno, inglobanti e formalmente amministr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Comportano meccanismi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«spoliazione dell’identità»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di chi ne fa parte (es.: gli ospedali psichiatrici, le carceri, le caserme, i conventi di clausu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inamiche istituzion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68400"/>
            <a:ext cx="5729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24000" y="1881360"/>
            <a:ext cx="7939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Fenomeni scarsamente strutturati divengono, col tempo, istituzioni formalizza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l contrario, istituzioni con alto livello di strutturazione perdono in tutto o in parte la loro cogenza norm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434880" y="28728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istituzionalizzazione dei movi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28800"/>
            <a:ext cx="76248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58720" y="1585800"/>
            <a:ext cx="7866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«Routinizzazione del carisma»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quando l’autorità carismatica del leader religioso si trasforma in un insieme di regole ritualistiche e burocratiche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Weber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assaggio tipico di tutti i movimenti sociali dallo stato spontaneo, fluido, emotivo e personalizzato a istituzioni stabili, strutturate, impersonali (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lbero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-istituzion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968400"/>
            <a:ext cx="61070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34880" y="1956240"/>
            <a:ext cx="76615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Quando un’istituzione vede diminuire il suo grado di istituzionalizzazione, fino al suo sciogl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Dovuto a rivoluzioni politiche e sociali o  a dinamiche interne alle stesse istituzioni (es.: matrimonio e  ospedali psichiatrici nelle attuali società occidental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Teorie delle istituzio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24000" y="158436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Perché le istituzioni nascono e persiston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i bisogn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er la soddisfazione di bisogni fondament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a differenziazion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er il processo di specializzazione dei comp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ts val="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a della consuetudinarie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per l’esigenza di cristallizzare in uno schema fisso azioni ripet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cambiamento istituzion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434880" y="968400"/>
            <a:ext cx="8061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Individuo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e istituzio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34880" y="1706400"/>
            <a:ext cx="8229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ue approcci preval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egno volontaristicamente realizzat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a attori sociali razionali (come i progetti di riforma politica dell’istituzione scolastica, sanitaria ec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ath-dependenc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pendenza dal percorso: l’eredità istituzionale del passato limita le possibilità di innovazione istituzionale (es.: transizione alla democrazia nei paesi dell’Europa orienta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38:09Z</dcterms:modified>
  <cp:revision>107</cp:revision>
  <dc:subject/>
  <dc:title>Le origini della civiltà greca </dc:title>
</cp:coreProperties>
</file>