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E1A88-2A68-4302-9EBD-79869C5F0E0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E948A-97DE-45F0-8FF3-BB5D9F2FB85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85A45-4B70-441E-B367-F139042B447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8D34C-BD07-41F7-9A0B-4C2EE9EDFD0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368A6-8E90-4D1E-BBAA-EFE595F4C2D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735C0-A99E-4C9A-85DA-54F3E899B9E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9BA71-5ECA-4395-8F02-746A8CF2BA4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A1FD3-E482-4CF9-A9FF-53592E51922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FC1F2-BFCE-42EF-9F4D-8847C674C55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308-52CE-4B0E-BDBE-ABF416C2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8B1-7E56-4064-80A3-F399B6E3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B94-EC7B-47C2-907F-5B0AE919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61A-1BA2-424A-82F4-D6629959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040-5E77-4F71-96EF-238A7875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BE5-9039-4E92-9B80-6115E605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0A7-152D-490E-B88A-EF7EA6A1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D3D-9546-43AA-974F-C1C3B17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69B-7B56-4084-B67C-D3BA1DBE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607-FF21-4402-8B00-9DDFE6C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FC1-91F6-4F40-A1AE-91623D8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098-3AB4-4891-830A-A1C7097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69EEF-E492-4CCE-BAD1-C4646D838DFC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7F8F4-B6ED-432E-9AC6-8C1848AD8AC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Individuo e società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asellaDiTesto 4"/>
          <p:cNvSpPr/>
          <p:nvPr/>
        </p:nvSpPr>
        <p:spPr>
          <a:xfrm>
            <a:off x="184320" y="28728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o status nelle societ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tradizionali e moder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6"/>
          <p:cNvSpPr/>
          <p:nvPr/>
        </p:nvSpPr>
        <p:spPr>
          <a:xfrm>
            <a:off x="324000" y="1477800"/>
            <a:ext cx="79819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24000" y="20844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ocietà industriali modern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o status di un individuo è, in maniera predominante, definito non dalla nascita, ma dalle acquisizioni ottenute in base alle proprie capacità (es.: attraverso l’istruzi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asellaDiTesto 4"/>
          <p:cNvSpPr/>
          <p:nvPr/>
        </p:nvSpPr>
        <p:spPr>
          <a:xfrm>
            <a:off x="324000" y="28728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Simboli di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nettore 1 6"/>
          <p:cNvSpPr/>
          <p:nvPr/>
        </p:nvSpPr>
        <p:spPr>
          <a:xfrm>
            <a:off x="409680" y="955800"/>
            <a:ext cx="823104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piè di pagina 10"/>
          <p:cNvSpPr/>
          <p:nvPr/>
        </p:nvSpPr>
        <p:spPr>
          <a:xfrm>
            <a:off x="3492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24000" y="163656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 simboli di status s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istemi di segnali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he hanno la funzione di rendere visibili lo strato sociale dotato di maggiore ricchezza, potere e prestig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Devono, perciò, esser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ccessibili a pochi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(es.: beni di lusso, circoli selettivi, posti esclusiv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31560" y="6448320"/>
            <a:ext cx="260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03200" y="214200"/>
            <a:ext cx="54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Incongruenza di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79520" y="880920"/>
            <a:ext cx="788976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24000" y="1644480"/>
            <a:ext cx="81342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ndica la situazione in cui gli individui hanno u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tatus superiore su una dimens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della gerarchia sociale 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uno inferiore su un’altr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dimens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nfluisce sul comportamento delle persone, che  agiscono cercando di superar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31560" y="6448320"/>
            <a:ext cx="260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24000" y="289080"/>
            <a:ext cx="6848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Il concetto di ruo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324000" y="1049400"/>
            <a:ext cx="829944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-326880" y="1940040"/>
            <a:ext cx="9279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ruolo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è il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 comportamento attes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di un attore in qua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occupa una certa posizione sociale, un certo 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statu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1912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31560" y="6448320"/>
            <a:ext cx="260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3680" y="262080"/>
            <a:ext cx="82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Aspettative e prestazioni di ruo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27040" y="941400"/>
            <a:ext cx="804852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38120" y="1654560"/>
            <a:ext cx="8137440" cy="35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aspettative</a:t>
            </a:r>
            <a:r>
              <a:rPr b="1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i ruolo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riguardano i diritti e i doveri connessi a una determinata posizione sociale che lasciano presupporre che il soggetto si comporti conformemente ad es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restazioni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esecuzioni di ruolo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sono il comportamento effettivo di un particolare individuo quando esso è in servizio nella sua posi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9706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31560" y="6448320"/>
            <a:ext cx="260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24000" y="33336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Complesso di ruo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324000" y="974880"/>
            <a:ext cx="817236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24000" y="1731960"/>
            <a:ext cx="80168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Viene definit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mplesso di ruo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(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role-set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) l’insieme dei ruoli associato a un determinato stat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31560" y="6446880"/>
            <a:ext cx="260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02280" y="281160"/>
            <a:ext cx="33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Conflitti di ruo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601560" y="922320"/>
            <a:ext cx="771228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63400" y="178740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uando un soggetto è investito da aspettative relative a due o più ruol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non coincident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parzialment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incompatibil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(es.: ruolo di madre e lavoratric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31560" y="6446880"/>
            <a:ext cx="260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15800" y="29844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Il grupp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324000" y="990720"/>
            <a:ext cx="822960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24000" y="1487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grupp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è costitui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da un insieme di individui che interagiscono secondo determinat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modell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he provano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entimenti di appartenenz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alla collettività da loro costituit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he s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riconoscon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reciprocamente come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suoi membri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176640" y="6257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1560" y="6446880"/>
            <a:ext cx="260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205560"/>
            <a:ext cx="70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Gruppi primari e second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514440" y="1528920"/>
            <a:ext cx="761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gruppo primari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è costituito da un piccolo numero di persone che interagiscono direttamente tra di loro, in cui la personalità di ognuno riveste la massima importanza (es.: una famiglia, una banda giovan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gruppo secondari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è costituito da persone che non hanno tra loro legami emotivi importanti, in cui quel che conta è l’obiettivo specifico da raggiungere (es.: una squadra di lavorator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582480" y="898560"/>
            <a:ext cx="765972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87164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31560" y="6446880"/>
            <a:ext cx="260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24000" y="211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Funzioni dei grupp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24000" y="143496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funzioni princip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dei gruppi son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funzione strument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nsiste nello svolgimento di compiti specifici che un individuo da solo non potrebbe realizzar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funzione espressiv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consiste nella gratificazione e nel riconoscimento che si ottiene dal partecipare al grupp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324000" y="853920"/>
            <a:ext cx="804528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398628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L’interazione soc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6260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l concetto di azione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619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98600" y="1852920"/>
            <a:ext cx="76784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eguendo Weber, 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zione social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 atteggiamento orientato intenzionalmente ad altri individu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un fare, ma anche un «tralasciare o un subire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otata di un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senso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 chi la comp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Quattro tipi di agire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54000"/>
            <a:ext cx="75916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47840" y="1590120"/>
            <a:ext cx="78832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Weber ha elaborato quattro «tipi ideali» di agi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ocia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agir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azionale rispetto allo sco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agir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azionale rispetto al val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agir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radizio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agir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ffet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434880" y="287280"/>
            <a:ext cx="79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Effetti imprevisti e pervers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ell’azione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324000" y="1477800"/>
            <a:ext cx="8100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24000" y="2330280"/>
            <a:ext cx="82296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ono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imprevisti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gli effetti di azioni che sono razionali considerate singolarmente, ma combinandosi e aggregandosi, danno luogo a fenomeni collettivi irrazional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i parla di effett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perversi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,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quando non solo non sono intenzionali, ma sono indesiderabili per gli attori sociali.</a:t>
            </a:r>
            <a:r>
              <a:rPr b="0" lang="en-US" sz="32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interazione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1738440"/>
            <a:ext cx="82296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È un processo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orientamento reciproco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ll’azione, in base al quale due o più attori sociali reagiscono alle azioni degli altr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a reciprocità indica che ogni attore presuppone che l’altro si orienti verso di lui in base a un’aspettativa nei suoi confront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Tuttavia, le aspettative possono non coincidere o semplicemente essere frainte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concetto di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492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36600" y="1992600"/>
            <a:ext cx="82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tatus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i riferisce a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posizione 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che una persona occupa al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nterno di un grupp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sociale e a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grado di pote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ricchezz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prestigi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associato a tale posizio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Status ascritti e acquisi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7476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24000" y="1727280"/>
            <a:ext cx="83422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tatus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scritti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basati su attributi che l’individuo possiede da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nasci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(l’età, il sesso, l’appartenenza etnica)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tatus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cquisiti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basati su attribut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raggiun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attraverso l’impegno, il merito, l’esperienza personali (titolo di studio, professi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4"/>
          <p:cNvSpPr/>
          <p:nvPr/>
        </p:nvSpPr>
        <p:spPr>
          <a:xfrm>
            <a:off x="324000" y="287280"/>
            <a:ext cx="744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o status nelle societ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tradizionali e moder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6"/>
          <p:cNvSpPr/>
          <p:nvPr/>
        </p:nvSpPr>
        <p:spPr>
          <a:xfrm>
            <a:off x="324000" y="1477800"/>
            <a:ext cx="79819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</a:t>
            </a:r>
            <a:r>
              <a:rPr b="0" lang="ja-JP" sz="10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terazione soc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24000" y="2109960"/>
            <a:ext cx="82296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ocietà tradizion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le posizioni di status sono ascritte, cioè assegnate per nascita, e si inseriscono in un rigido ordinamento gerarchico (es.: il sistema delle caste della società indian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ocietà occidentale preindustrial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istemi gerarchizzati, a cui si apparteneva per nascita e per l’adesione agli stessi stili di vita (es.: il sistema dei ceti con fondamento patrimoniale nell’Europa feuda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3:36:22Z</dcterms:modified>
  <cp:revision>145</cp:revision>
  <dc:subject/>
  <dc:title>Le origini della civiltà greca </dc:title>
</cp:coreProperties>
</file>