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CD3CE-9C04-4F7A-8514-DDAE2F9B85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854BA-1739-4332-BE95-8626745A0F9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9FFA9-7D14-4AA5-AD20-E3A6DCA1F6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6B377-CB83-48E0-A07C-97A1A1A7B4E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04168-DF24-4D48-A5EF-F9CE49CDE0F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F5A55-C93F-4444-BD2B-F26E1C45CEB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2DF4A-AC3F-447C-B8AD-C422556691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425AC-3271-47AF-8B70-C4DC166757C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7CD-F595-41D6-A8BA-BB7F88F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B56-1F77-49BB-85FC-5DA333B7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2A2-1815-4191-A923-95AE758A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EB2-91D2-4E43-9C4C-CF137C72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2B1-75F6-437D-801A-F762DEC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330-69F0-4377-A959-395BAA59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0BB-FF10-412A-BA09-630041CF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B4D-D331-4CB7-83B7-4D906ECC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62C-3B9D-4505-9560-C532AFC9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595-EE40-4E97-9C9B-A00F840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061-C372-4C34-B5A1-C9626B31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F7A-04F2-4793-AB40-E63AF8D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7D46E-CE3B-44D7-A7AF-CD0EFC9DD0A0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6BAC8-2BA4-4659-9797-9DE5BFD27F6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Che cos’è la sociologi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Caratteri dello struttur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6"/>
          <p:cNvSpPr/>
          <p:nvPr/>
        </p:nvSpPr>
        <p:spPr>
          <a:xfrm>
            <a:off x="434880" y="968400"/>
            <a:ext cx="799776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24000" y="1811160"/>
            <a:ext cx="810864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Quattro caratteri comun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visione olistica della societ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ricerca degli elementi invarian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e strutture non sono entità osservabili direttamen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e strutture determinano le azioni e i pensieri degli esseri uma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36960" y="644832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90600" y="433440"/>
            <a:ext cx="54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l concetto di strut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9"/>
          <p:cNvSpPr/>
          <p:nvPr/>
        </p:nvSpPr>
        <p:spPr>
          <a:xfrm>
            <a:off x="360360" y="1074600"/>
            <a:ext cx="81612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03200" y="1930320"/>
            <a:ext cx="7856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struttur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non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è un qualcosa 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irettament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osservabil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e di cui gli individui abbiano coscienza. Ad esempio, non è detto che il parlante che usi una determinata lingua sia consapevole della struttura formale della stes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truttura è un modello teoric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che il ricercatore elabora al fine di spiegare il funzionamento del fenomeno che sta analizzan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6960" y="644832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24000" y="326880"/>
            <a:ext cx="684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Versioni dello struttur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324000" y="1150920"/>
            <a:ext cx="807084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24000" y="1935000"/>
            <a:ext cx="82944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trutture epistemich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Michel Foucalt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(1926-198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Gli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apparati ideologic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uis Althuss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(1918-19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trutturalismo genetic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Pierre Bourdieu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(1930-200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51912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37320" y="6448320"/>
            <a:ext cx="42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</a:t>
            </a:r>
            <a:r>
              <a:rPr b="1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25600" y="299880"/>
            <a:ext cx="83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a prospettiva dell’az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e dell’interazion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554040" y="1515960"/>
            <a:ext cx="801864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24000" y="2329200"/>
            <a:ext cx="79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rogramm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temporane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ell’azione e inter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he si inseriscono nel solco del paradigma soggettivista, il cui principale interprete è stato Max Weber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ibaltan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’impostazione funzionalista e struttural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52243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36960" y="644832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24000" y="1810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I caratteri comun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della prospettiva dell’azione socia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338040" y="1371600"/>
            <a:ext cx="813276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338040" y="1920240"/>
            <a:ext cx="82296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 comportamento umano può dirs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zion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olo se è dotato di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ignificato soggettiv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per colui che agis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azione sociale è anche da intendersi com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r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ossia come un’azione intenzionalment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ivolta ad altri individu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fenomeni sociali 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strutti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rodotti dagli esseri umani che definiscono, interpretano e adattano reciprocamente le loro linee di azione, attravers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eccanismi intenzion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954600" y="6375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36960" y="644832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14360" y="281160"/>
            <a:ext cx="46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re scuole di pensi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12920" y="922320"/>
            <a:ext cx="80071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12920" y="1538280"/>
            <a:ext cx="80071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entrano nella prospettiva dell’azione e dell’interazio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razionismo simbo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ociologia fenomenolo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tnometod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191200" y="641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36960" y="644832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35880" y="2620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’interazionismo simbo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24000" y="915840"/>
            <a:ext cx="8229600" cy="0"/>
          </a:xfrm>
          <a:prstGeom prst="line">
            <a:avLst/>
          </a:prstGeom>
          <a:ln w="93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24000" y="1616760"/>
            <a:ext cx="82296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Al centro dell’analisi si trovano 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apporti interperson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tra gli individu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soggetti contribuiscono, attraverso un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interrotta attività definitoria e interpretativ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a costruire il mondo sociale di cui sono pa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ordine sociale rivela 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natura fluida, negoziata e costruita intersoggettivament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9706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6960" y="644832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23640" y="33336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sociologia fenomenolog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24000" y="974880"/>
            <a:ext cx="80359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324000" y="1704960"/>
            <a:ext cx="803592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tata elaborata dal sociologo austriac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lfred Schutz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899-1959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realtà sociale non è concepita come esterna, fissa e oggettiva, ma come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rodotto dell’attività uman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oi costruiamo un mondo significativo intorno a noi attraverso processi chiamati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tipificazione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ossia attraverso schemi e saperi «dati per scontati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57120" y="2811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a costruzione della realtà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357120" y="938160"/>
            <a:ext cx="818352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7120" y="2130840"/>
            <a:ext cx="7572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opera di Schutz è stata continuata in anni più recenti d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eter L. Berger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Thomas Luckman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66), che descrivono come si costruisce socialmente la real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Viene approfondito il modo in cui si costituisce il senso comune nell’ambito della vita quotidi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711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17600" y="272880"/>
            <a:ext cx="39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’etnometodolog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324000" y="977760"/>
            <a:ext cx="83246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17600" y="1353960"/>
            <a:ext cx="823104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lla sociologia fenomenologica si ispira anche questa terza corrente sviluppatasi nel contesto americano, il cui principale esponente è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Harold Garfinkel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1917-201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l termine indica lo studio de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«metodi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e delle pratiche impiegati dai membri comuni della società («etno») per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dare significa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alla vita quotidi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l sociologo è chiamato ad assumere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punto di vista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imile a quello del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etnolog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che studia una società primitiva sconosciuta, a non dare nulla per scontato, a interrogarsi sul significato di pratiche e rituali della vita quotidi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3697200"/>
            <a:ext cx="59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 programmi della sociologia contemporan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719440" y="641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97324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324000" y="356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l modello drammaturg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della vita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24000" y="1547640"/>
            <a:ext cx="8108640" cy="0"/>
          </a:xfrm>
          <a:prstGeom prst="line">
            <a:avLst/>
          </a:prstGeom>
          <a:ln w="93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24000" y="2112840"/>
            <a:ext cx="82296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laborato dal sociologo canades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rving Goffma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22-1982), vicino all’etnometodolog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me nel teatro, la vita quotidiana è una rappresentazione in cui gli attori interpretano svariati ruoli e personag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ribalta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è il luogo in cui si svolge la rappresentazione di fronte ad un pubblic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retroscena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è il luogo in cui si tiene l’armamentario necessario a organizzare e a preparare la ribal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192480" y="6375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24000" y="2390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’interazione come scamb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324000" y="880920"/>
            <a:ext cx="81086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12920" y="1634040"/>
            <a:ext cx="797400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teoria dello scambio enunciata d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eorge Homan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10-1989) e ripresa d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eter Blau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18-2002) si concentra sull’analisi del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icrointerazio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versamente dalle correnti prima esaminate, esse vengono intese come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rodotto dello scambio tra individui razion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he calcolano il rapporto tra costi e benefici della propria 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2274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24000" y="322920"/>
            <a:ext cx="850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proposizioni della teoria dello scambi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4000" y="974880"/>
            <a:ext cx="850392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468360" y="1687320"/>
            <a:ext cx="81756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Homans formula alcune proposizioni generali sul modo in cui avviene l’interazione socia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 individuo compirà una certa azione quanto più è stat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icompensata in passa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Quanto più un ambiente è collegato a un comportamento ricompensato, tanto più sarà ricercato un ambiente co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ratteristiche analogh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274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714240" y="322920"/>
            <a:ext cx="806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proposizioni della teoria dello scambi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324000" y="1012680"/>
            <a:ext cx="80708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24000" y="1733400"/>
            <a:ext cx="81756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Quanto più è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reziosa la ricompens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per un dato comportamento, tanto più è probabile che esso veng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ipetut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Quanto più spesso le esigenze o i desideri vengono soddisfatti, tanto men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i dà valore a ogni ulteriore ricompens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040200" y="627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24000" y="3279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</a:rPr>
              <a:t>Modelli di razionali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957240"/>
            <a:ext cx="80708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324000" y="1763640"/>
            <a:ext cx="807084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a scelta razion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di matrice economica, si diffonde in sociologia attraverso autori com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James Colema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26-1995)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aymond Boudo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34-2013)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Jon Elst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nato nel 194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ssa si focalizza sul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ttore individu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sulla su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nzional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in quanto soggetto capace di scegliere consapevolmente tra altern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665600" y="622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24000" y="288360"/>
            <a:ext cx="68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sociologia cri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324000" y="905040"/>
            <a:ext cx="80708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24000" y="1687680"/>
            <a:ext cx="807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ociologia critica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i intende una prospettiva che al centro dei compiti della disciplina mette quello di contribuire a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miglioramento della socie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obiettività della conoscenza è messa da parte a vantaggio di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tteggiamento di contest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a un tempo dell’ordine politico e sociale costituito e della sociologia dominante, considerata espressione acritica di questo stesso ordine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005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263520" y="263160"/>
            <a:ext cx="45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Due corr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63520" y="895320"/>
            <a:ext cx="84074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78000" y="1579680"/>
            <a:ext cx="808020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sociologia critica nordamericana.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harles W. Mill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1916-1962) denuncia la condizione della nuova classe media americana in ascesa che risulta «alienata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scuola di Francoforte.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Max Horkheim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1895-1973)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Theodor W. Adorn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1903-1969) e altri, elaborano 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«teoria critica della società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he rivolge una severa critica all’«Industria culturale», dominata dalla comunicazione di massa che manipola e svuota lo stesso concetto di cultura, riducendola a nient’altro che una merce tra le alt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4639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63680" y="321840"/>
            <a:ext cx="68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</a:rPr>
              <a:t>Qualità e quanti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419040" y="1052640"/>
            <a:ext cx="79884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324000" y="1782720"/>
            <a:ext cx="7939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cerc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quantitativ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tutte quelle ricerche che fanno ampio uso della statistica, come la ricerca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survey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basata sulla somministrazione di questionari standardizzati, a risposte chiuse, e disegni di tipo sperimenta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cerc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qualitativ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e varie forme di ricerca sul campo, dall’indagine etnografica alle analisi di comunità, fino allo studio dei piccoli gruppi.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701800" y="624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59920" y="360000"/>
            <a:ext cx="81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Caratteristiche della ricerca quantita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53960" y="1765440"/>
            <a:ext cx="8067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cet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vono esse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raducibili in operazio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i ricer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 necessario usare u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rumento di rilevazione uniform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on l’obiettivo di arrivare a 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trice da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ricercatore deve mantenere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stacco dall’ogget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lla ricer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analisi delle variabili deve essere condotta attravers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’impiego di tecniche statistiche e matematich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324000" y="1052640"/>
            <a:ext cx="82706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37968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23280" y="345600"/>
            <a:ext cx="79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Caratteristiche della ricerca qualita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24000" y="160164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cet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vono esse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per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rientativ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rumento di rilevazione deve varia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a seconda dell’interesse di ricerca in gioco (a seconda dei casi si useranno storie di vita, interviste aperte, osservazione partecipante ec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ricercatore tende a esse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oggettivamente immers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nell’ogget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i stud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nalisi dei dati è person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va in profondità basandosi sull’interpretazione de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nso soggettiv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rsoggettiv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lla realtà osserv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324000" y="1000080"/>
            <a:ext cx="82706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Macro e microsociolog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28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7476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24000" y="1569960"/>
            <a:ext cx="82296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crosociologia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entran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quelle prospettive, come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unzionalism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rutturalism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he si occupano di strutture, istituzioni e organizzazioni, indipendentemente dal significato loro attribuito dagli individui che le compongon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icrosociologia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entrano le prospettive di studio, come quelle del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r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he hanno per oggetto privilegiato le interazioni quotidiane tra gli individui e il senso che vi annettono questi ult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4344840" y="624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337320" y="6446880"/>
            <a:ext cx="42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</a:t>
            </a:r>
            <a:r>
              <a:rPr b="1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93760" y="302760"/>
            <a:ext cx="85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Vantaggi e svantaggi dei due metod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399960" y="1789200"/>
            <a:ext cx="7966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on i meto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quantitativ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è possibile arrivare ad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ampie generalizzazion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più estese del campione considerato, ma con un modesto livello di approfondimento dei fenomeni consider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on i meto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qualitativ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i risultati non possono essere generalizzati a popolazioni più ampie del singolo caso considerato, ma l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escrizion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el fenomen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oggetto di studio risult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iù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icc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e di gran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iù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fin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324000" y="995400"/>
            <a:ext cx="828648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24324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36960" y="6446880"/>
            <a:ext cx="42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390600" y="29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’integrazione tra i due metod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87360" y="1598760"/>
            <a:ext cx="8229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osizione pragmat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assai diffusa, sostiene la pari dignità tra i due metodi e auspica che l’uno o l’altro venga scelto non su base aprioristica, m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condo le circostanz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ggetto della ricer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41360" y="977760"/>
            <a:ext cx="811224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Il funzion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28800"/>
            <a:ext cx="7807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8736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34880" y="1695600"/>
            <a:ext cx="80488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Secondo il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modello organicista classic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l tutto va distinto dalle sue par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e parti del tutto sono indispensabili al suo funzionamento, nessuna esclusa, e tra loro interrel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l tutto è irriducibile alla somma delle par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28728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Il concetto di «funzione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28800"/>
            <a:ext cx="7883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61800" y="6450120"/>
            <a:ext cx="56962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34880" y="1344960"/>
            <a:ext cx="79898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Bronisław Malinowsk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884-1942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Funzione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è l’utilità che un dato fenomeno riveste per l’ordine e la persistenza della società in cui è inser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Vi sono de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bisogni primar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come la sicurezza e la salute)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egati alla sopravvivenza biolog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ll’uomo,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bisogni secondar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come il diritto e l’economia)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lativi alla vita associa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Le istituzioni sorgono in risposta a questi bisogni, assolvendo dunque precisi compiti e fun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La revis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del funzionalismo tradizion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1515960"/>
            <a:ext cx="7883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34880" y="2206800"/>
            <a:ext cx="7883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alcott Parson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02-1979)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obert K. Merto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1910-2003) il funzionalismo diventa la prospettiva teorica dominante nella sociologia americana del secondo dopoguer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deve soprattutto a Merton una profonda revisione dei postulati su cui si basa il modello organicista classico, al fine di renderlo più compatibile con l’analisi empirica delle società comples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3280" y="2872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analisi funzionale secondo Mert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968400"/>
            <a:ext cx="7947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4000" y="1511280"/>
            <a:ext cx="80578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Ogni funzione può essere svolta da più elementi che si pongono, rispetto a essa, com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equivalenti funzional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gamma degli elementi che possono svolgere la stessa funzione in una società è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limitata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dalla compatibilità di tali elementi col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«contesto strutturale»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nel quale si situa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Bisogna distinguere tra l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funzioni manifest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ossia gli scopi intenzionalmente perseguiti e l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funzioni latenti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non riconosciute o perfino non volute dagli individui coinvolti (ma osservabili dal ricercator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71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quattro imperativ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funzionali secondo Pars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324000" y="1477800"/>
            <a:ext cx="8045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24000" y="1706400"/>
            <a:ext cx="826128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unzion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dattament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ll’ambiente estern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Adaptatio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unzion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seguimento degli scopi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Goals Attainment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unzion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grazion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Integratio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unzion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atenza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ntenimento del modell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Latency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o struttur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6"/>
          <p:cNvSpPr/>
          <p:nvPr/>
        </p:nvSpPr>
        <p:spPr>
          <a:xfrm flipV="1">
            <a:off x="434880" y="928800"/>
            <a:ext cx="8118720" cy="3960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grammi della sociologia contempora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61800" y="1541520"/>
            <a:ext cx="82296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trutturalism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nasce con la linguistica moderna, i cui fondamenti si devono 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Ferdinand de Saussu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1857-1913), secondo il quale la lingua è un insieme strutturato di segni arbitrari legati da relazioni stabili, il cui uso è un’esperienza sociale condivisa intersoggettiv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È però attraverso l’antropologia struttural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laude Lévi-Straus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1908-2009) che lo strutturalismo influenza, negli anni Sessanta e Settanta del secolo scorso, la sociolog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3:30:30Z</dcterms:modified>
  <cp:revision>236</cp:revision>
  <dc:subject/>
  <dc:title>Le origini della civiltà greca </dc:title>
</cp:coreProperties>
</file>