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334C8-97F2-4208-B1BF-17E2A283363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38908-4EDE-4AAA-8D62-E4D413F88A0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427E6-3825-4D97-AD26-124C00A97B9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D24BE-CAE7-4C62-9964-E02B41C392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F7A80-E270-4097-B449-C3F445A4BD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7B126-C5EE-4124-8351-48A2B909135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CFE34-85D3-49C2-9960-E5D698D802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D5F-F365-4132-9B04-ED628F4E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FAA-51C1-4E1F-A5F5-5448415E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B0F-6FB1-473D-AA62-E5313883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198-CC79-4A17-9B27-25D076BF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261-EBF2-419C-9A73-1D54D60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9F3-5BA1-4830-9A4B-A166FEE2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FC0-5B74-4897-915D-F8617E25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917-2B54-483D-8805-02F1F58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57E-6549-4512-99D6-4546F709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F43-D1BF-43C4-B44C-0203818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565-86DB-4637-AE57-50F9AA7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62F-8FD7-45C1-8ED1-665EAA1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A021C-3DD7-49F9-BC26-71FD9E35CB9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B27C1-56E6-4134-8336-1BE18A67329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he cos’è la sociologi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324000" y="4230720"/>
            <a:ext cx="66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 due grandi paradigmi della socie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53535"/>
                </a:solidFill>
                <a:latin typeface="Arial"/>
                <a:ea typeface="Arial"/>
              </a:rPr>
              <a:t>La nozione di paradig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11"/>
          <p:cNvSpPr/>
          <p:nvPr/>
        </p:nvSpPr>
        <p:spPr>
          <a:xfrm>
            <a:off x="434880" y="1430280"/>
            <a:ext cx="778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a nozione di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«paradigma»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formulata dall’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epistemologo e storico della scienza Thomas Kuhn ne 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a Struttura delle rivoluzioni scientifich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(1962), indica l’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nsieme di teorie e metodi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he caratterizzano un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tradizione di ricerca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ll’interno della quale esiste un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onsenso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di tutti i membri di un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omunità scientifica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434880" y="287280"/>
            <a:ext cx="81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53535"/>
                </a:solidFill>
                <a:latin typeface="Arial"/>
                <a:ea typeface="Arial"/>
              </a:rPr>
              <a:t>Paradigmi in sociolog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6"/>
          <p:cNvSpPr/>
          <p:nvPr/>
        </p:nvSpPr>
        <p:spPr>
          <a:xfrm>
            <a:off x="546120" y="928800"/>
            <a:ext cx="77342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11"/>
          <p:cNvSpPr/>
          <p:nvPr/>
        </p:nvSpPr>
        <p:spPr>
          <a:xfrm>
            <a:off x="546120" y="1393920"/>
            <a:ext cx="80121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piè di pagina 10"/>
          <p:cNvSpPr/>
          <p:nvPr/>
        </p:nvSpPr>
        <p:spPr>
          <a:xfrm>
            <a:off x="336600" y="6429240"/>
            <a:ext cx="56959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546120" y="1393920"/>
            <a:ext cx="801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econdo Kuhn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 un paradigma ne succede un altro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he sostituisce quello precedente, definendo  la struttura del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ambiamento delle scienze naturali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n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sociologia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e nelle scienze sociali in generale, troviamo, invece,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iù paradigmi contemporaneament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l termine paradigma resta comunque una nozione utile per indicare l’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esistenza di prospettive teoriche e approcci metodologici generali coere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sellaDiTesto 4"/>
          <p:cNvSpPr/>
          <p:nvPr/>
        </p:nvSpPr>
        <p:spPr>
          <a:xfrm>
            <a:off x="434880" y="28728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53535"/>
                </a:solidFill>
                <a:latin typeface="Arial"/>
                <a:ea typeface="Arial"/>
              </a:rPr>
              <a:t>Due grandi scuole sociolog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6"/>
          <p:cNvSpPr/>
          <p:nvPr/>
        </p:nvSpPr>
        <p:spPr>
          <a:xfrm flipV="1">
            <a:off x="447840" y="941040"/>
            <a:ext cx="8111880" cy="1260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11"/>
          <p:cNvSpPr/>
          <p:nvPr/>
        </p:nvSpPr>
        <p:spPr>
          <a:xfrm>
            <a:off x="447840" y="1386000"/>
            <a:ext cx="833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cuola francese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i sociologia. Si riunisce intorno alla rivista 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«L’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nnée sociologique»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e, con il suo più importante interprete,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Emile Durkheim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e i suoi collaboratori e allievi –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élestin Bouglé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Francois Simiand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Maurice Halbwachs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Marcel Mauss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– domina la sociologia francese fino ai primi decenni del Novec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cuola tedesca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di sociologia. In essa non vi è una personalità intellettuale dominante. Comprende autori di grande rilievo, diversi tra loro, anche se orientati da prospettive teoriche e metodologiche affini. Oltre a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Max Weber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vanno ricordati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Ferdinand Tonnies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e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Georg Simmel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sellaDiTesto 4"/>
          <p:cNvSpPr/>
          <p:nvPr/>
        </p:nvSpPr>
        <p:spPr>
          <a:xfrm>
            <a:off x="441360" y="28728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53535"/>
                </a:solidFill>
                <a:latin typeface="Arial"/>
                <a:ea typeface="Arial"/>
              </a:rPr>
              <a:t>Il paradigma «oggettivista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6"/>
          <p:cNvSpPr/>
          <p:nvPr/>
        </p:nvSpPr>
        <p:spPr>
          <a:xfrm>
            <a:off x="441360" y="984240"/>
            <a:ext cx="82310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sellaDiTesto 14"/>
          <p:cNvSpPr/>
          <p:nvPr/>
        </p:nvSpPr>
        <p:spPr>
          <a:xfrm>
            <a:off x="434880" y="1656000"/>
            <a:ext cx="82314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Il paradigma oggettivista è ben rappresentato dai lavori di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Emile Durkheim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(1858-191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Per il paradigma oggettivista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i fenomeni sociali hanno un</a:t>
            </a:r>
            <a:r>
              <a:rPr b="1" lang="it-IT" sz="2400" spc="-1" strike="noStrike">
                <a:solidFill>
                  <a:srgbClr val="353535"/>
                </a:solidFill>
                <a:latin typeface="Lucida Grande"/>
                <a:ea typeface="Arial"/>
              </a:rPr>
              <a:t>’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esistenza propria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, indipendente da come gli individui li vivono e dal senso che attribuiscono lo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4"/>
          <p:cNvSpPr/>
          <p:nvPr/>
        </p:nvSpPr>
        <p:spPr>
          <a:xfrm>
            <a:off x="399960" y="28728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prospettiva di Durkhe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49360" y="1681200"/>
            <a:ext cx="76420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Bisogna considerare i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fatti sociali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come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«cose»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società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è un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tutto superiore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alla somma degli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individui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che lo compongo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Il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metodo scientifico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è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unico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, e riguarda sia le scienze naturali  che le scienze soc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La sociologia ricorre alla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comparazione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basata sulla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concomitanza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 delle </a:t>
            </a:r>
            <a:r>
              <a:rPr b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variazioni dei fenomeni 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studiati (esempi tratti da </a:t>
            </a:r>
            <a:r>
              <a:rPr b="0" i="1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Il suicidio </a:t>
            </a:r>
            <a:r>
              <a:rPr b="0" lang="en-US" sz="2400" spc="-1" strike="noStrike">
                <a:solidFill>
                  <a:srgbClr val="353535"/>
                </a:solidFill>
                <a:latin typeface="Arial"/>
                <a:ea typeface="Arial"/>
              </a:rPr>
              <a:t>189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sellaDiTesto 4"/>
          <p:cNvSpPr/>
          <p:nvPr/>
        </p:nvSpPr>
        <p:spPr>
          <a:xfrm>
            <a:off x="324000" y="287280"/>
            <a:ext cx="71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l paradigma «soggettivista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sellaDiTesto 14"/>
          <p:cNvSpPr/>
          <p:nvPr/>
        </p:nvSpPr>
        <p:spPr>
          <a:xfrm>
            <a:off x="434880" y="1895400"/>
            <a:ext cx="81676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Il paradigma soggettivista è ben rappresentato dai lavori di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Max Weber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(1864-19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Per il paradigma soggettivista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ogni fenomeno sociale è il risultato di azioni, decisioni e credenze individuali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sellaDiTesto 4"/>
          <p:cNvSpPr/>
          <p:nvPr/>
        </p:nvSpPr>
        <p:spPr>
          <a:xfrm>
            <a:off x="399960" y="28728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prospettiva di We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sellaDiTesto 14"/>
          <p:cNvSpPr/>
          <p:nvPr/>
        </p:nvSpPr>
        <p:spPr>
          <a:xfrm>
            <a:off x="324000" y="1663200"/>
            <a:ext cx="8342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Per  comprendere un’azione bisogna conoscere il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senso soggettivo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che l’attore vi attribuis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L’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interesse conoscitivo del ricercatore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ha un ruolo importante nell’analisi scientif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Molteplicità delle cause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che determinano un fenomeno sociale e necessità di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selezionare il fattore rilevante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5353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Utilizzo del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«tipo ideale»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,</a:t>
            </a:r>
            <a:r>
              <a:rPr b="0" i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ossia di un modello concettuale ipotetico mediante il quale il fenomeno può essere </a:t>
            </a:r>
            <a:r>
              <a:rPr b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compreso</a:t>
            </a:r>
            <a:r>
              <a:rPr b="0" i="1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53535"/>
                </a:solidFill>
                <a:latin typeface="Arial"/>
                <a:ea typeface="Arial"/>
              </a:rPr>
              <a:t>nella sua individualità e particolarità (come nel caso del capitalismo modern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I due grandi paradigmi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18:32Z</dcterms:modified>
  <cp:revision>121</cp:revision>
  <dc:subject/>
  <dc:title>Le origini della civiltà greca</dc:title>
</cp:coreProperties>
</file>