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A1B3C-132E-4717-9835-0CA679EA41E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73EE7-B26E-48FA-BCC5-7A3E8224E32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B22A3-F711-4B79-BC67-134BACB9E4C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15AA3-8627-417E-BF7C-A000269D9D4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B9F5E-AB12-444B-9406-907BBC87C6F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2F279-767A-4460-854A-D46F0B3A4F9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45A5-1462-4692-BCD4-3FE2AB32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AB0-9030-4B1C-8BFE-0FC0F457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C5C-C94B-442B-924B-7EFB4A4D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6C1F-74BA-4CDA-B92B-9AF2B67E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661-32B6-4C48-9E55-C24BB22A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98F-0520-4FFD-99C6-1867F323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F46-4015-4ECA-80E6-4655358E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41E-ABD2-49F4-B72F-B1910C49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B50-FCB8-4782-A71E-B1C27496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75C8-C887-4A86-AF49-26A059D1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1DB-29E1-44D4-9245-DC2EF625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B20-94FE-44C9-A368-D68A1345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85835-BE42-4210-9093-99D5D3F03078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33D71-8024-4CEC-8A5A-1D0FDC41257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Che cos’è la sociologi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191200" y="6359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38040" y="6448320"/>
            <a:ext cx="440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società moderna e la nascita della sociolog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61800" y="29376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Herbert Spencer (1820-190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457200" y="939960"/>
            <a:ext cx="8178840" cy="936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3080" y="1495440"/>
            <a:ext cx="829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Influenzato dalla «teoria evoluzionista» di Charles Darwin, Spencer estend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’idea dell’evoluzione anche alle società uman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Queste ultime evolvono sotto la spinta della competizione che seleziona gli organismi con maggiore capacità di adattamento all’ambiente e alle sue trasformazioni. In risposta a queste sfide, gli organismi sociali si adattano differenziando le loro funzioni</a:t>
            </a:r>
            <a:r>
              <a:rPr b="0" lang="it-IT" sz="2400" spc="-1" strike="noStrike">
                <a:solidFill>
                  <a:srgbClr val="3d3d3d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5224320" y="635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38040" y="6448320"/>
            <a:ext cx="440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società moderna e la nascita della sociolog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65040" y="181080"/>
            <a:ext cx="41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l pensiero marxis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324000" y="822240"/>
            <a:ext cx="8091360" cy="468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24000" y="1351080"/>
            <a:ext cx="809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Intende elaborare un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cienza della società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Accanto a questo obiettivo, comune anche al pensiero positivista, il marxismo sviluppa u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approcci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decisament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ritico della società borghese-capitalistic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e dei suoi svilupp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à dove i positivisti parlano di progresso e di evoluzione, il pensiero marxista parla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ontraddizion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e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onflitt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954600" y="6375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38040" y="6448320"/>
            <a:ext cx="440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società moderna e la nascita della sociolog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96800" y="28116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Karl Marx (1818-188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482760" y="922320"/>
            <a:ext cx="8115120" cy="468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82760" y="1515960"/>
            <a:ext cx="811512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Filosofo, economista, sociologo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ante litteram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, era anche un attivista politico, interessato al movimento operaio europeo e alle idee socialist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A lui si deve il termin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apitalism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e la sua anali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5970600" y="6359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38040" y="6448320"/>
            <a:ext cx="440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società moderna e la nascita della sociolog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24000" y="333360"/>
            <a:ext cx="81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Marx e il capitalis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324000" y="974880"/>
            <a:ext cx="803592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24000" y="1029600"/>
            <a:ext cx="803592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buClr>
                <a:srgbClr val="3d3d3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Due classi contrapposte: 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borghesia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,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proprietaria dei mezzi di produzione (denaro, macchine, industrie) e il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proletariat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, ossia la classe operaia industriale, che non possiede null’altro che la propria forza lavo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Il rapporto tra queste due classi è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fondato sullo sfruttament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 (concetto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«plusvalore»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Gli interessi delle due classi sono antagonisti e generano inevitabilmente il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«conflitto di classe»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193840" y="637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02392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38040" y="6446880"/>
            <a:ext cx="440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società moderna e la nascita della sociolog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60280" y="3492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Alexis de Tocqueville (1805-185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324000" y="1003320"/>
            <a:ext cx="861192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24000" y="1654200"/>
            <a:ext cx="82296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Filosofo politico, storico, tra i maggiori esponenti del liberalismo francese, ne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a democrazia in America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ostiene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inesorabilità dell’avanzata della democrazi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, ossia dell’eguaglianza delle condizioni, non solo in America, ma in tutte le società moder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4880" y="3697200"/>
            <a:ext cx="59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La società moder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e la nascita della soci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4"/>
          <p:cNvSpPr/>
          <p:nvPr/>
        </p:nvSpPr>
        <p:spPr>
          <a:xfrm>
            <a:off x="345960" y="287280"/>
            <a:ext cx="83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e origini della conoscenza sociolog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ttore 1 6"/>
          <p:cNvSpPr/>
          <p:nvPr/>
        </p:nvSpPr>
        <p:spPr>
          <a:xfrm>
            <a:off x="434880" y="955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società moderna e la nascita della sociolog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324000" y="1397160"/>
            <a:ext cx="786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Tre grandi trasformazioni favoriscono la nascita della sociolog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la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Rivoluzione scientif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la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Rivoluzione france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la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Rivoluzione industri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4"/>
          <p:cNvSpPr/>
          <p:nvPr/>
        </p:nvSpPr>
        <p:spPr>
          <a:xfrm>
            <a:off x="324000" y="287280"/>
            <a:ext cx="843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Rivoluzione scientif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nettore 1 6"/>
          <p:cNvSpPr/>
          <p:nvPr/>
        </p:nvSpPr>
        <p:spPr>
          <a:xfrm>
            <a:off x="434880" y="928800"/>
            <a:ext cx="75916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sellaDiTesto 11"/>
          <p:cNvSpPr/>
          <p:nvPr/>
        </p:nvSpPr>
        <p:spPr>
          <a:xfrm>
            <a:off x="324000" y="1512720"/>
            <a:ext cx="843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Gli enormi successi ottenuti dalle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scienze della natura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, basate sul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metodo sperimentale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 e sull</a:t>
            </a:r>
            <a:r>
              <a:rPr b="0" lang="it-IT" sz="2400" spc="-1" strike="noStrike">
                <a:solidFill>
                  <a:srgbClr val="323232"/>
                </a:solidFill>
                <a:latin typeface="Lucida Grande"/>
                <a:ea typeface="Arial"/>
              </a:rPr>
              <a:t>’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osservazione empirica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, hanno aperto la strada all’idea che anche lo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studio dell’uomo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 possa basarsi sugli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stessi principi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società moderna e la nascita della sociolog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4"/>
          <p:cNvSpPr/>
          <p:nvPr/>
        </p:nvSpPr>
        <p:spPr>
          <a:xfrm>
            <a:off x="434880" y="287280"/>
            <a:ext cx="79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Rivoluzione france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nettore 1 6"/>
          <p:cNvSpPr/>
          <p:nvPr/>
        </p:nvSpPr>
        <p:spPr>
          <a:xfrm>
            <a:off x="434880" y="928800"/>
            <a:ext cx="79898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asellaDiTesto 11"/>
          <p:cNvSpPr/>
          <p:nvPr/>
        </p:nvSpPr>
        <p:spPr>
          <a:xfrm>
            <a:off x="434880" y="1531800"/>
            <a:ext cx="798984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Sconvolge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 alle radici il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vecchio ordine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 politico e scardina la struttura di classe su cui esso si fonda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I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valori tradizionali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, di natura religiosa,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vengono ribaltati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, creando un contesto favorevole allo studio scientifico dell</a:t>
            </a:r>
            <a:r>
              <a:rPr b="0" lang="it-IT" sz="2400" spc="-1" strike="noStrike">
                <a:solidFill>
                  <a:srgbClr val="323232"/>
                </a:solidFill>
                <a:latin typeface="Lucida Grande"/>
                <a:ea typeface="Arial"/>
              </a:rPr>
              <a:t>’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ordine sociale e del vivere associa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società moderna e la nascita della sociolog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Rivoluzione industri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asellaDiTesto 11"/>
          <p:cNvSpPr/>
          <p:nvPr/>
        </p:nvSpPr>
        <p:spPr>
          <a:xfrm>
            <a:off x="324000" y="1565280"/>
            <a:ext cx="8342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Ha inizio nell’Inghilterra del XVIII secolo. È un periodo di grandi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innovazioni tecnologiche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 e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trasformazioni economiche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 (sviluppo della manifattura capitalisti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La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sociologia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 nasce come necessità di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comprendere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 le profonde e ambivalenti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trasformazioni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sociali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,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istituzionali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 e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culturali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 che ad essa si accompagnano (inurbamento, condizioni di lavoro, conflitti sociali ecc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società moderna e la nascita della sociolog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 precursori della sociolog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nnettore 1 6"/>
          <p:cNvSpPr/>
          <p:nvPr/>
        </p:nvSpPr>
        <p:spPr>
          <a:xfrm>
            <a:off x="434880" y="968400"/>
            <a:ext cx="7934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asellaDiTesto 14"/>
          <p:cNvSpPr/>
          <p:nvPr/>
        </p:nvSpPr>
        <p:spPr>
          <a:xfrm>
            <a:off x="324000" y="1592280"/>
            <a:ext cx="8045280" cy="21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Due scuole di pensier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23232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il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positiv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0"/>
              </a:lnSpc>
              <a:spcBef>
                <a:spcPts val="601"/>
              </a:spcBef>
              <a:buClr>
                <a:srgbClr val="323232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23232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il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pensiero marxi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società moderna e la nascita della sociolog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sellaDiTesto 4"/>
          <p:cNvSpPr/>
          <p:nvPr/>
        </p:nvSpPr>
        <p:spPr>
          <a:xfrm>
            <a:off x="324000" y="287280"/>
            <a:ext cx="83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l positivis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società moderna e la nascita della sociolog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324000" y="1697040"/>
            <a:ext cx="8342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È un indirizzo filosofico dominante nell</a:t>
            </a:r>
            <a:r>
              <a:rPr b="0" lang="it-IT" sz="2400" spc="-1" strike="noStrike">
                <a:solidFill>
                  <a:srgbClr val="323232"/>
                </a:solidFill>
                <a:latin typeface="Lucida Grande"/>
                <a:ea typeface="Arial"/>
              </a:rPr>
              <a:t>’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Ottocen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23232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Tratta i problemi filosofici e sociali con «spirito positivo», ossia attraverso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ricerche empiriche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 e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analisi dei fenomeni basate su osservazioni accur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23232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23232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Si basa su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approcci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 e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metodi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 delle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scienze naturali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, considerate più avanzate sul piano scientif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5310360" y="629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38040" y="6448320"/>
            <a:ext cx="440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società moderna e la nascita della sociolog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24000" y="326880"/>
            <a:ext cx="68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Auguste Comte (1798-1857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24000" y="1373040"/>
            <a:ext cx="85532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omte elabora la «legge dei tre stadi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tadio teologico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he contraddistingue l’epoca medievale, in cui il pensiero è guidato dalle idee religio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tadio metafisic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che va dal Rinascimento all’Illuminismo, in cui la spiegazione della natura e della società fa ricorso a principi astratti, di tipo razional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tadio positivo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he, iniziato con la Rivoluzione industriale, è caratterizzato dall’applicazione anche al mondo sociale del metodo scientifico, la cui elaborazione è legata ai primi grandi scienziati natur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8"/>
          <p:cNvSpPr/>
          <p:nvPr/>
        </p:nvSpPr>
        <p:spPr>
          <a:xfrm>
            <a:off x="324000" y="1049400"/>
            <a:ext cx="822960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3T23:16:56Z</dcterms:modified>
  <cp:revision>154</cp:revision>
  <dc:subject/>
  <dc:title>Le origini della civiltà greca </dc:title>
</cp:coreProperties>
</file>